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8E1BF-2C37-47E8-A32E-8BF276658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70DF-0F44-491A-9D50-7A9B810C1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2AD9-E62E-490B-AE43-7A7B6B03F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105CD-10D4-4C2D-9AA2-7AC60990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4AF2-64B7-40F5-8306-0D969413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BBAD7-BC95-43C5-A186-ACDC1353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C795-C388-4A65-92E6-BA5A4EE1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11CF-EA75-4595-8D92-2470EB7E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7176-071E-46DD-A12E-B5B86EB90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0406-49C2-45C5-AC02-5B060A6A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1656-9ED9-4106-94A6-A190AA16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D019-379C-4000-8084-E324BBD40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6DC2-C361-4754-AC0A-67021B2822F1}"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xxx.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15236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7129440" y="1297080"/>
            <a:ext cx="3095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9! </a:t>
            </a:r>
            <a:endParaRPr b="0" lang="en-US" sz="1200" spc="-1" strike="noStrike">
              <a:solidFill>
                <a:srgbClr val="000000"/>
              </a:solidFill>
              <a:latin typeface="Cordia New"/>
            </a:endParaRPr>
          </a:p>
        </p:txBody>
      </p:sp>
      <p:sp>
        <p:nvSpPr>
          <p:cNvPr id="45" name="Rectangle 119"/>
          <p:cNvSpPr/>
          <p:nvPr/>
        </p:nvSpPr>
        <p:spPr>
          <a:xfrm>
            <a:off x="5905440" y="1876680"/>
            <a:ext cx="3095640" cy="35618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short stories or even classic short stories is being ignored more and more. The main reason is the increasing variety of media and easier modes of access like using the Internet. </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When talking about short stories we normally think about a book. Actually the length of short stories is not strictly limited. However, even for short stories with few pages, some people think that they need a very strong effort to read them. If you share the same feeling, try changing your reading habits. You don’t need to read many pages at the same time. Just read frequently. Decrease your reading time from 30 minutes to 15 minutes. You may also read twice instead of once in a day. This will motivate you to continue your reading .</a:t>
            </a:r>
            <a:endParaRPr b="0" lang="en-US" sz="1200" spc="-1" strike="noStrike">
              <a:solidFill>
                <a:srgbClr val="000000"/>
              </a:solidFill>
              <a:latin typeface="Cordia New"/>
            </a:endParaRPr>
          </a:p>
        </p:txBody>
      </p:sp>
      <p:sp>
        <p:nvSpPr>
          <p:cNvPr id="46" name="Rectangle 120"/>
          <p:cNvSpPr/>
          <p:nvPr/>
        </p:nvSpPr>
        <p:spPr>
          <a:xfrm>
            <a:off x="9072720" y="1944720"/>
            <a:ext cx="158904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ทั่วไป หรือแม้แต่เรื่องสั้นที่จัดเป็นผลงานเอกระดับโลกที่เรียกกัน ว่า </a:t>
            </a:r>
            <a:r>
              <a:rPr b="0" lang="en-US" sz="1000" spc="-1" strike="noStrike">
                <a:solidFill>
                  <a:srgbClr val="000000"/>
                </a:solidFill>
                <a:latin typeface="Cordia New"/>
                <a:ea typeface="Cordia New"/>
              </a:rPr>
              <a:t>Classic short stories </a:t>
            </a:r>
            <a:r>
              <a:rPr b="0" lang="th-TH" sz="1000" spc="-1" strike="noStrike">
                <a:solidFill>
                  <a:srgbClr val="000000"/>
                </a:solidFill>
                <a:latin typeface="Cordia New"/>
                <a:cs typeface="Cordia New"/>
              </a:rPr>
              <a:t>นั้นนับวันจะถูกละเลยมากขึ้นทุกที เหตุผลก็เนื่องมาจากสื่อที่มีเพิ่มขึ้นหลากหลาย รวมไปถึงวิธีการเข้าถึงสื่อที่ง่ายโดยการใช้</a:t>
            </a:r>
            <a:br>
              <a:rPr sz="1000"/>
            </a:br>
            <a:r>
              <a:rPr b="0" lang="th-TH" sz="1000" spc="-1" strike="noStrike">
                <a:solidFill>
                  <a:srgbClr val="000000"/>
                </a:solidFill>
                <a:latin typeface="Cordia New"/>
                <a:cs typeface="Cordia New"/>
              </a:rPr>
              <a:t>อินเตอร์เน็ต</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มื่อพูดถึงเรื่องสั้นเราจะนึกถึงหนังสือเป็นเล่ม ความจริงแล้วความยาวของเรื่องสั้นไม่ได้กำหนดตายตัว อย่างไรก็ตามบางคนก็ยังรู้สึกว่าต้องการใช้ความพยายามในการอ่านให้จบแม้จะเป็นเล่มบางๆ ถ้าคุณคิดเช่นเดียวกันนี้อยากให้ลองเปลี่ยนวิธีการอ่านใหม่ คุณไม่จำเป็นต้องอ่านครั้งเดียวหลายๆหน้า แต่คุณสามารถแบ่งการอ่านให้น้อยลงแต่เพิ่มความถี่ในการอ่านมากขึ้น เช่น จากการอ่านครั้งละ </a:t>
            </a:r>
            <a:r>
              <a:rPr b="0" lang="en-US" sz="1000" spc="-1" strike="noStrike">
                <a:solidFill>
                  <a:srgbClr val="000000"/>
                </a:solidFill>
                <a:latin typeface="Cordia New"/>
                <a:ea typeface="Cordia New"/>
              </a:rPr>
              <a:t>30 </a:t>
            </a:r>
            <a:r>
              <a:rPr b="0" lang="th-TH" sz="1000" spc="-1" strike="noStrike">
                <a:solidFill>
                  <a:srgbClr val="000000"/>
                </a:solidFill>
                <a:latin typeface="Cordia New"/>
                <a:cs typeface="Cordia New"/>
              </a:rPr>
              <a:t>นาที ลดลงให้เหลือเพียง </a:t>
            </a:r>
            <a:r>
              <a:rPr b="0" lang="en-US" sz="1000" spc="-1" strike="noStrike">
                <a:solidFill>
                  <a:srgbClr val="000000"/>
                </a:solidFill>
                <a:latin typeface="Cordia New"/>
                <a:ea typeface="Cordia New"/>
              </a:rPr>
              <a:t>15 </a:t>
            </a:r>
            <a:r>
              <a:rPr b="0" lang="th-TH" sz="1000" spc="-1" strike="noStrike">
                <a:solidFill>
                  <a:srgbClr val="000000"/>
                </a:solidFill>
                <a:latin typeface="Cordia New"/>
                <a:cs typeface="Cordia New"/>
              </a:rPr>
              <a:t>นาทีต่อครั้ง และจัดแบ่งเวลาอ่านออกเป็น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ช่วงที่สะดวก เท่านี้คุณก็จะสนุกไปกับการลุ้นติดตามเรื่องที่อ่านไ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หาเรื่องสั้นอ่านปัจจุบันทำได้ไม่ยาก เพียงเข้าอินเตอร์เน็ตและค้นหาคำว่า </a:t>
            </a:r>
            <a:r>
              <a:rPr b="0" lang="en-US" sz="1000" spc="-1" strike="noStrike">
                <a:solidFill>
                  <a:srgbClr val="000000"/>
                </a:solidFill>
                <a:latin typeface="Cordia New"/>
                <a:ea typeface="Cordia New"/>
              </a:rPr>
              <a:t>short story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ต่ถ้าคุณสะดวกใช้ห้องสมุดของหน่วยงานต่างๆ อยากแนะนำให้ลองชุดการอ่านที่เรียกว่า </a:t>
            </a:r>
            <a:r>
              <a:rPr b="0" lang="en-US" sz="1000" spc="-1" strike="noStrike">
                <a:solidFill>
                  <a:srgbClr val="000000"/>
                </a:solidFill>
                <a:latin typeface="Cordia New"/>
                <a:ea typeface="Cordia New"/>
              </a:rPr>
              <a:t>Graded reader </a:t>
            </a:r>
            <a:r>
              <a:rPr b="0" lang="th-TH" sz="1000" spc="-1" strike="noStrike">
                <a:solidFill>
                  <a:srgbClr val="000000"/>
                </a:solidFill>
                <a:latin typeface="Cordia New"/>
                <a:cs typeface="Cordia New"/>
              </a:rPr>
              <a:t>ซึ่งเป็นชุดเรืองสั้นที่มีการจัดแบ่งเรื่องที่อ่านตามระดับการความยากง่ายของภาษาไว้ให้ด้วย </a:t>
            </a:r>
            <a:endParaRPr b="0" lang="en-US" sz="1000" spc="-1" strike="noStrike">
              <a:solidFill>
                <a:srgbClr val="000000"/>
              </a:solidFill>
              <a:latin typeface="Cordia New"/>
            </a:endParaRPr>
          </a:p>
        </p:txBody>
      </p:sp>
      <p:sp>
        <p:nvSpPr>
          <p:cNvPr id="47" name="Rectangle 194"/>
          <p:cNvSpPr/>
          <p:nvPr/>
        </p:nvSpPr>
        <p:spPr>
          <a:xfrm>
            <a:off x="5905440" y="5694120"/>
            <a:ext cx="3095640" cy="13716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o get a short story to read is easy today. Just access the Internet and search ‘short story’, you can get them easily. However, if it is convenient for you to use libraries’ services, try looking for a learning series called </a:t>
            </a:r>
            <a:r>
              <a:rPr b="0" i="1" lang="en-US" sz="1200" spc="-1" strike="noStrike">
                <a:solidFill>
                  <a:srgbClr val="000000"/>
                </a:solidFill>
                <a:latin typeface="Calibri"/>
                <a:ea typeface="Cordia New"/>
              </a:rPr>
              <a:t>“Graded reader”.</a:t>
            </a:r>
            <a:r>
              <a:rPr b="0" lang="en-US" sz="1200" spc="-1" strike="noStrike">
                <a:solidFill>
                  <a:srgbClr val="000000"/>
                </a:solidFill>
                <a:latin typeface="Calibri"/>
                <a:ea typeface="Cordia New"/>
              </a:rPr>
              <a:t> This series categorizes short stories according to the level of language difficulty.</a:t>
            </a:r>
            <a:endParaRPr b="0" lang="en-US" sz="1200" spc="-1" strike="noStrike">
              <a:solidFill>
                <a:srgbClr val="000000"/>
              </a:solidFill>
              <a:latin typeface="Cordia New"/>
            </a:endParaRPr>
          </a:p>
        </p:txBody>
      </p:sp>
      <p:sp>
        <p:nvSpPr>
          <p:cNvPr id="48" name="Text Box 73"/>
          <p:cNvSpPr/>
          <p:nvPr/>
        </p:nvSpPr>
        <p:spPr>
          <a:xfrm>
            <a:off x="1512720" y="647640"/>
            <a:ext cx="288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graphicFrame>
        <p:nvGraphicFramePr>
          <p:cNvPr id="49" name=""/>
          <p:cNvGraphicFramePr/>
          <p:nvPr/>
        </p:nvGraphicFramePr>
        <p:xfrm>
          <a:off x="287280" y="1440000"/>
          <a:ext cx="4608720" cy="5400360"/>
        </p:xfrm>
        <a:graphic>
          <a:graphicData uri="http://schemas.openxmlformats.org/drawingml/2006/table">
            <a:tbl>
              <a:tblPr/>
              <a:tblGrid>
                <a:gridCol w="2905200"/>
                <a:gridCol w="1703520"/>
              </a:tblGrid>
              <a:tr h="5396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tory title</a:t>
                      </a:r>
                      <a:r>
                        <a:rPr b="0" lang="th-TH" sz="1000" spc="-1" strike="noStrike">
                          <a:solidFill>
                            <a:srgbClr val="000000"/>
                          </a:solidFill>
                          <a:latin typeface="Arial"/>
                          <a:ea typeface="Angsana New"/>
                        </a:rPr>
                        <a:t>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Arial"/>
                          <a:ea typeface="Angsana New"/>
                        </a:rPr>
                        <a:t>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do you like or dislike about the story? </a:t>
                      </a:r>
                      <a:br>
                        <a:rPr sz="1000"/>
                      </a:b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672000" y="0"/>
            <a:ext cx="745920" cy="1224000"/>
          </a:xfrm>
          <a:prstGeom prst="rect">
            <a:avLst/>
          </a:prstGeom>
          <a:ln w="0">
            <a:noFill/>
          </a:ln>
        </p:spPr>
      </p:pic>
      <p:pic>
        <p:nvPicPr>
          <p:cNvPr id="55" name="Picture 32" descr="9"/>
          <p:cNvPicPr/>
          <p:nvPr/>
        </p:nvPicPr>
        <p:blipFill>
          <a:blip r:embed="rId2"/>
          <a:stretch/>
        </p:blipFill>
        <p:spPr>
          <a:xfrm>
            <a:off x="0" y="5977080"/>
            <a:ext cx="1008000" cy="1224000"/>
          </a:xfrm>
          <a:prstGeom prst="rect">
            <a:avLst/>
          </a:prstGeom>
          <a:ln w="0">
            <a:noFill/>
          </a:ln>
        </p:spPr>
      </p:pic>
      <p:sp>
        <p:nvSpPr>
          <p:cNvPr id="56" name="Rectangle 33"/>
          <p:cNvSpPr/>
          <p:nvPr/>
        </p:nvSpPr>
        <p:spPr>
          <a:xfrm>
            <a:off x="833400" y="6777720"/>
            <a:ext cx="4062600" cy="24624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553080" y="64764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84720" y="1409760"/>
            <a:ext cx="1655640" cy="95353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สั้นที่คุณสนใจ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เรื่อง เทคนิค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ประหยัด เวลาคือ อ่านเฉพาะเรื่องย่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 เพื่อดูว่าเรื่องน่าสนใจและระดับภา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ลองพิจารณาว่าจะอ่านจ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ยะเวลาเท่าไร คุณอาจคำนวนจาก 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ำนวนบท ประกอบกับความหนาแน่น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หนังสื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ระหว่างที่อ่านไม่ควรกังวล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ศัพท์ที่ไม่คุ้นเคย การอ่านไปและเปิ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ศัพท์ไปจะไม่ได้อรรถรถในการอ่าน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องการเรียนรู้ศัพท์หรือสำนวนนั้นจริงๆให้</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เครื่องหมายหรือคั่นไว้แล้วค่อยค้น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จากพจนานุกรมพร้อมกันครั้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ดียว การทำเช่นนี้เป็นการฝึกนิสัย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ของคุณในการฝึกเดาความหมาย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อาจใข้</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วลานานกว่ากิจกรรมอื่น ให้คุณอ่านจนจ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องแล้วจึงค่อยเติมแผ่น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เลือกอ่านบทวิจารณ์เรื่องสั้นซึ่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กจะพิจารณาคุณภาพและ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สมของการเขียนในด้านหลักๆ ได้แก่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าร </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สิ่งที่ผู้เขียนพยายามสื่อสาร</a:t>
            </a:r>
            <a:r>
              <a:rPr b="0" lang="en-US" sz="1000" spc="-1" strike="noStrike">
                <a:solidFill>
                  <a:srgbClr val="000000"/>
                </a:solidFill>
                <a:latin typeface="Cordia New"/>
                <a:ea typeface="Cordia New"/>
              </a:rPr>
              <a:t>)</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าก  เค้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ครงเรื่อง ตัวละคร  การใช้ภาษา 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อกเรื่องสั้นตามหมวดให้คุณค้นหาจากค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 </a:t>
            </a:r>
            <a:r>
              <a:rPr b="0" lang="en-US" sz="1000" spc="-1" strike="noStrike">
                <a:solidFill>
                  <a:srgbClr val="000000"/>
                </a:solidFill>
                <a:latin typeface="Cordia New"/>
                <a:ea typeface="Cordia New"/>
              </a:rPr>
              <a:t>genre </a:t>
            </a:r>
            <a:r>
              <a:rPr b="0" lang="th-TH" sz="1000" spc="-1" strike="noStrike">
                <a:solidFill>
                  <a:srgbClr val="000000"/>
                </a:solidFill>
                <a:latin typeface="Cordia New"/>
                <a:cs typeface="Cordia New"/>
              </a:rPr>
              <a:t>ซีงเป็นคำใช้เรียกการแบ่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ของผลงานเขียน ตัวอย่าง </a:t>
            </a:r>
            <a:r>
              <a:rPr b="0" lang="en-US" sz="1000" spc="-1" strike="noStrike">
                <a:solidFill>
                  <a:srgbClr val="000000"/>
                </a:solidFill>
                <a:latin typeface="Cordia New"/>
                <a:ea typeface="Cordia New"/>
              </a:rPr>
              <a:t>genre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 </a:t>
            </a:r>
            <a:r>
              <a:rPr b="0" lang="en-US" sz="1000" spc="-1" strike="noStrike">
                <a:solidFill>
                  <a:srgbClr val="000000"/>
                </a:solidFill>
                <a:latin typeface="Cordia New"/>
                <a:ea typeface="Cordia New"/>
              </a:rPr>
              <a:t>mystery , fantasy, crime, thriller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ต้น </a:t>
            </a:r>
            <a:endParaRPr b="0" lang="en-US" sz="1000" spc="-1" strike="noStrike">
              <a:solidFill>
                <a:srgbClr val="000000"/>
              </a:solidFill>
              <a:latin typeface="Cordia New"/>
            </a:endParaRPr>
          </a:p>
        </p:txBody>
      </p:sp>
      <p:pic>
        <p:nvPicPr>
          <p:cNvPr id="59" name="Picture 24" descr="47"/>
          <p:cNvPicPr/>
          <p:nvPr/>
        </p:nvPicPr>
        <p:blipFill>
          <a:blip r:embed="rId3"/>
          <a:stretch/>
        </p:blipFill>
        <p:spPr>
          <a:xfrm>
            <a:off x="9361440" y="287280"/>
            <a:ext cx="986040" cy="1008000"/>
          </a:xfrm>
          <a:prstGeom prst="rect">
            <a:avLst/>
          </a:prstGeom>
          <a:ln w="0">
            <a:noFill/>
          </a:ln>
        </p:spPr>
      </p:pic>
      <p:graphicFrame>
        <p:nvGraphicFramePr>
          <p:cNvPr id="60" name=""/>
          <p:cNvGraphicFramePr/>
          <p:nvPr/>
        </p:nvGraphicFramePr>
        <p:xfrm>
          <a:off x="5862600" y="1400040"/>
          <a:ext cx="4608720" cy="4824720"/>
        </p:xfrm>
        <a:graphic>
          <a:graphicData uri="http://schemas.openxmlformats.org/drawingml/2006/table">
            <a:tbl>
              <a:tblPr/>
              <a:tblGrid>
                <a:gridCol w="2905200"/>
                <a:gridCol w="170352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664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9999"/>
                          </a:solidFill>
                          <a:uFillTx/>
                          <a:latin typeface="Arial"/>
                          <a:ea typeface="Angsana New"/>
                          <a:hlinkClick r:id="rId4"/>
                        </a:rPr>
                        <a:t>WWW.xxx.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itle of short story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Dark Brown Dog – Stephen Cra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me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In a house/ in a family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friendship between a boy and  a dark brown dog which was adopted by a family.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you like or don’t like about the story? </a:t>
                      </a: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his short story is about 8 pages long. I like the language use in the story; there are many interesting descriptive words to learnt. It also has a good endin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 molested </a:t>
                      </a:r>
                      <a:r>
                        <a:rPr b="0" lang="th-TH" sz="1000" spc="-1" strike="noStrike">
                          <a:solidFill>
                            <a:srgbClr val="000000"/>
                          </a:solidFill>
                          <a:latin typeface="Cordia New"/>
                        </a:rPr>
                        <a:t>ทำให้รำคาญใจ</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ympathetic </a:t>
                      </a:r>
                      <a:r>
                        <a:rPr b="0" lang="th-TH" sz="1000" spc="-1" strike="noStrike">
                          <a:solidFill>
                            <a:srgbClr val="000000"/>
                          </a:solidFill>
                          <a:latin typeface="Cordia New"/>
                        </a:rPr>
                        <a:t>เห็นอกเห็นใจกัน</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dreamily  </a:t>
                      </a:r>
                      <a:r>
                        <a:rPr b="0" lang="th-TH" sz="1000" spc="-1" strike="noStrike">
                          <a:solidFill>
                            <a:srgbClr val="000000"/>
                          </a:solidFill>
                          <a:latin typeface="Cordia New"/>
                        </a:rPr>
                        <a:t>อย่างฝันๆ</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with an air of admitted</a:t>
                      </a:r>
                      <a:br>
                        <a:rPr sz="1000"/>
                      </a:br>
                      <a:r>
                        <a:rPr b="0" lang="en-US" sz="1000" spc="-1" strike="noStrike">
                          <a:solidFill>
                            <a:srgbClr val="000000"/>
                          </a:solidFill>
                          <a:latin typeface="Arial"/>
                          <a:ea typeface="Angsana New"/>
                        </a:rPr>
                        <a:t>  quilt </a:t>
                      </a:r>
                      <a:r>
                        <a:rPr b="0" lang="th-TH" sz="1000" spc="-1" strike="noStrike">
                          <a:solidFill>
                            <a:srgbClr val="000000"/>
                          </a:solidFill>
                          <a:latin typeface="Cordia New"/>
                        </a:rPr>
                        <a:t>ด้วยความรู้สึกผิด</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in a mood for having fun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อยู่ในอารมณ์สนุก</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54080"/>
            <a:ext cx="3240000" cy="60580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short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y to check your interest an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eather the language level suits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nsider how much time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eed to finish the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alculate from the number of chapter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d the text siz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While reading do not wor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bout unfamiliar vocabulary. Looking up</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ords while reading will decrease the 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will get from thorough reading. If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re curious about some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rk them and look up their mea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fter you finish reading. This is a way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ain yourself for guessing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eaning from the contex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ing short stories requir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 time than other activities. Finish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whole story and later complete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may read short story reviews. The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ent on quality of the short stories includin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message (what the writer want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unicate), scene, plot, characters, use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To search short stories according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ategories, search on key words of ‘gen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xamples of genre are: mystery, fantasy, cri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riller.</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23Z</dcterms:modified>
  <cp:revision>1732</cp:revision>
  <dc:subject/>
  <dc:title>Slide 1</dc:title>
</cp:coreProperties>
</file>