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A50F1-0E17-4555-B162-C3CB30EAD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E6574-2813-438A-8A4E-965D5C2CC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57067-F468-438B-842C-55AA7982F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289D7-741E-47FD-ACA1-605D4A5E6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10761-48F5-417F-880F-F57F4FD79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F3CFA-7550-4AED-A33B-B1C3BE535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1AE5B-34E6-4023-8610-3B4B8D63D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3C502-3E8C-4946-B1F0-331E523AF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FE68A-641D-4A35-A005-FE5E2B4A1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BF1B0-07BC-45DA-90D9-77DFB0ECA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E78AF-014C-4BDA-8716-A9996FE53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A8E63-F995-4ED5-87CA-CF7F7D41C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59C26-1E58-4CE4-9281-01DE8C81CDCE}"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566720" y="6977160"/>
            <a:ext cx="424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14"/>
          <p:cNvSpPr/>
          <p:nvPr/>
        </p:nvSpPr>
        <p:spPr>
          <a:xfrm>
            <a:off x="1297080" y="647640"/>
            <a:ext cx="324000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articles</a:t>
            </a:r>
            <a:endParaRPr b="0" lang="en-US" sz="1800" spc="-1" strike="noStrike">
              <a:solidFill>
                <a:srgbClr val="000000"/>
              </a:solidFill>
              <a:latin typeface="Cordia New"/>
            </a:endParaRPr>
          </a:p>
        </p:txBody>
      </p:sp>
      <p:sp>
        <p:nvSpPr>
          <p:cNvPr id="44" name="Text Box 73"/>
          <p:cNvSpPr/>
          <p:nvPr/>
        </p:nvSpPr>
        <p:spPr>
          <a:xfrm>
            <a:off x="7129440" y="1224000"/>
            <a:ext cx="302436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articles</a:t>
            </a:r>
            <a:endParaRPr b="0" lang="en-US" sz="1800" spc="-1" strike="noStrike">
              <a:solidFill>
                <a:srgbClr val="000000"/>
              </a:solidFill>
              <a:latin typeface="Cordia New"/>
            </a:endParaRPr>
          </a:p>
        </p:txBody>
      </p:sp>
      <p:sp>
        <p:nvSpPr>
          <p:cNvPr id="45" name="Text Box 118"/>
          <p:cNvSpPr/>
          <p:nvPr/>
        </p:nvSpPr>
        <p:spPr>
          <a:xfrm>
            <a:off x="7129440" y="504720"/>
            <a:ext cx="3240000" cy="6508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8! </a:t>
            </a:r>
            <a:endParaRPr b="0" lang="en-US" sz="1200" spc="-1" strike="noStrike">
              <a:solidFill>
                <a:srgbClr val="000000"/>
              </a:solidFill>
              <a:latin typeface="Cordia New"/>
            </a:endParaRPr>
          </a:p>
        </p:txBody>
      </p:sp>
      <p:sp>
        <p:nvSpPr>
          <p:cNvPr id="46" name="Rectangle 119"/>
          <p:cNvSpPr/>
          <p:nvPr/>
        </p:nvSpPr>
        <p:spPr>
          <a:xfrm>
            <a:off x="5977080" y="1802880"/>
            <a:ext cx="2952720" cy="392688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There are two major types of articles: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cademic and general ones. You can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choose a topic of your interest and enjoy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reading as well as gaining new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knowledge. Examples of topic are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health, environment, tourism, arts,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culture, music, entertainment.</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Reading an article is convenient in that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re are plenty of sources you can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ccess including newspapers, journals,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agazines or websites.</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You may practise reading articles by:</a:t>
            </a:r>
            <a:endParaRPr b="0" lang="en-US" sz="1200" spc="-1" strike="noStrike">
              <a:solidFill>
                <a:srgbClr val="000000"/>
              </a:solidFill>
              <a:latin typeface="Cordia New"/>
            </a:endParaRPr>
          </a:p>
          <a:p>
            <a:pPr marL="304920" indent="-30492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summarizing the purpose of the writing e.g. to provide facts, to persuade, to analyze an event or situation, or to give suggestions</a:t>
            </a:r>
            <a:endParaRPr b="0" lang="en-US" sz="1200" spc="-1" strike="noStrike">
              <a:solidFill>
                <a:srgbClr val="000000"/>
              </a:solidFill>
              <a:latin typeface="Cordia New"/>
            </a:endParaRPr>
          </a:p>
          <a:p>
            <a:pPr marL="304920" indent="-30492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rying to get the main idea introduced by the writer</a:t>
            </a:r>
            <a:endParaRPr b="0" lang="en-US" sz="1200" spc="-1" strike="noStrike">
              <a:solidFill>
                <a:srgbClr val="000000"/>
              </a:solidFill>
              <a:latin typeface="Cordia New"/>
            </a:endParaRPr>
          </a:p>
          <a:p>
            <a:pPr marL="304920" indent="-30492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rying to get important details.</a:t>
            </a:r>
            <a:endParaRPr b="0" lang="en-US" sz="1200" spc="-1" strike="noStrike">
              <a:solidFill>
                <a:srgbClr val="000000"/>
              </a:solidFill>
              <a:latin typeface="Cordia New"/>
            </a:endParaRPr>
          </a:p>
        </p:txBody>
      </p:sp>
      <p:sp>
        <p:nvSpPr>
          <p:cNvPr id="47" name="Rectangle 120"/>
          <p:cNvSpPr/>
          <p:nvPr/>
        </p:nvSpPr>
        <p:spPr>
          <a:xfrm>
            <a:off x="9072720" y="1944720"/>
            <a:ext cx="1589040" cy="6580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บทความแบ่งเป็นประเภทหลักๆ ได้แก่  บทความวิชาการ   บทความทั่วไป </a:t>
            </a:r>
            <a:br>
              <a:rPr sz="1000"/>
            </a:br>
            <a:r>
              <a:rPr b="0" lang="th-TH" sz="1000" spc="-1" strike="noStrike">
                <a:solidFill>
                  <a:srgbClr val="000000"/>
                </a:solidFill>
                <a:latin typeface="Cordia New"/>
                <a:cs typeface="Cordia New"/>
              </a:rPr>
              <a:t>คุณสามารถเลือกอ่านบทความตามหัวข้อที่คุณสนใจ  ได้ความรู้และความบันเทิงไปพร้อมๆกัน</a:t>
            </a:r>
            <a:r>
              <a:rPr b="0" lang="th-TH" sz="1600" spc="-1" strike="noStrike">
                <a:solidFill>
                  <a:srgbClr val="000000"/>
                </a:solidFill>
                <a:latin typeface="Cordia New"/>
                <a:ea typeface="Cordia New"/>
              </a:rPr>
              <a:t> </a:t>
            </a:r>
            <a:r>
              <a:rPr b="0" lang="th-TH" sz="1000" spc="-1" strike="noStrike">
                <a:solidFill>
                  <a:srgbClr val="000000"/>
                </a:solidFill>
                <a:latin typeface="Cordia New"/>
                <a:ea typeface="Cordia New"/>
              </a:rPr>
              <a:t> ตัวอย่างหัวข้อได้แก่ด้านสุขภาพ สิ่งแวดล้อม  การท่องเที่ยว ศิลปะ  วัฒนธรรม   ดนตรี   บันเทิง  เป็นต้น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บทความสะดวกตรงที่มีแหล่งให้เลือกมากมาย ไม่ว่าจะเป็น หนังสือพิมพ์ วารสาร นิตยสาร หรือเว็บไซต์ต่างๆ</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คุณอาจฝึกอ่านบทความโดย</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ฝึกสรุปวัตถุประสงค์ที่ผู้เขียนเขียนบทความ เช่น เพื่อให้ข้อมูลที่เป็นจริง เพื่อชักจูงให้ผู้อ่านคล้อยตาม  เพื่อวิเคราะห์เหตุการณ์หรือสถานการณ์  หรือเพื่อแสดงความคิดเห็น เป็นต้น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en-US" sz="1000" spc="-1" strike="noStrike">
                <a:solidFill>
                  <a:srgbClr val="000000"/>
                </a:solidFill>
                <a:latin typeface="Cordia New"/>
                <a:ea typeface="Cordia New"/>
              </a:rPr>
              <a:t>(2) </a:t>
            </a:r>
            <a:r>
              <a:rPr b="0" lang="th-TH" sz="1000" spc="-1" strike="noStrike">
                <a:solidFill>
                  <a:srgbClr val="000000"/>
                </a:solidFill>
                <a:latin typeface="Cordia New"/>
                <a:cs typeface="Cordia New"/>
              </a:rPr>
              <a:t>ฝึกอ่านเพื่อจับใจความสำคัญที่ผู้เขียนนำเสนอ</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en-US" sz="1000" spc="-1" strike="noStrike">
                <a:solidFill>
                  <a:srgbClr val="000000"/>
                </a:solidFill>
                <a:latin typeface="Cordia New"/>
                <a:ea typeface="Cordia New"/>
              </a:rPr>
              <a:t>(3) </a:t>
            </a:r>
            <a:r>
              <a:rPr b="0" lang="th-TH" sz="1000" spc="-1" strike="noStrike">
                <a:solidFill>
                  <a:srgbClr val="000000"/>
                </a:solidFill>
                <a:latin typeface="Cordia New"/>
                <a:cs typeface="Cordia New"/>
              </a:rPr>
              <a:t>ฝึกอ่านเพื่อเก็บรายละเอียดสำคัญ</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นื่องจากความรู้พื้นฐานเกี่ยวกับเรื่องที่อ่านมีผลอย่างมากกับการอ่านเพื่อ</a:t>
            </a:r>
            <a:br>
              <a:rPr sz="1000"/>
            </a:br>
            <a:r>
              <a:rPr b="0" lang="th-TH" sz="1000" spc="-1" strike="noStrike">
                <a:solidFill>
                  <a:srgbClr val="000000"/>
                </a:solidFill>
                <a:latin typeface="Cordia New"/>
                <a:cs typeface="Cordia New"/>
              </a:rPr>
              <a:t>ทำความเข้าใจ คุณอาจเริ่มจากเรื่องที่คุณสนใจและมีพื้นฐานอยู่ แต่ถ้าอ่านหลากหลายด้านคุณก็จะได้ความรู้กว้างขวางรวมทั้งศัพท์เฉพาะด้านเพิ่มขึ้นอีกด้วย</a:t>
            </a:r>
            <a:endParaRPr b="0" lang="en-US" sz="1000" spc="-1" strike="noStrike">
              <a:solidFill>
                <a:srgbClr val="000000"/>
              </a:solidFill>
              <a:latin typeface="Cordia New"/>
            </a:endParaRPr>
          </a:p>
        </p:txBody>
      </p:sp>
      <p:sp>
        <p:nvSpPr>
          <p:cNvPr id="48" name="Rectangle 194"/>
          <p:cNvSpPr/>
          <p:nvPr/>
        </p:nvSpPr>
        <p:spPr>
          <a:xfrm>
            <a:off x="5977080" y="5938560"/>
            <a:ext cx="2952720" cy="118908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Since reading background has a strong effect on reading for understanding, you should start your reading with an interesting topic. However, when you vary your reading topic your will widen your knowledge and also learn more technical vocabulary.</a:t>
            </a:r>
            <a:endParaRPr b="0" lang="en-US" sz="1200" spc="-1" strike="noStrike">
              <a:solidFill>
                <a:srgbClr val="000000"/>
              </a:solidFill>
              <a:latin typeface="Cordia New"/>
            </a:endParaRPr>
          </a:p>
        </p:txBody>
      </p:sp>
      <p:graphicFrame>
        <p:nvGraphicFramePr>
          <p:cNvPr id="49" name=""/>
          <p:cNvGraphicFramePr/>
          <p:nvPr/>
        </p:nvGraphicFramePr>
        <p:xfrm>
          <a:off x="360360" y="1512720"/>
          <a:ext cx="4608360" cy="5400720"/>
        </p:xfrm>
        <a:graphic>
          <a:graphicData uri="http://schemas.openxmlformats.org/drawingml/2006/table">
            <a:tbl>
              <a:tblPr/>
              <a:tblGrid>
                <a:gridCol w="2905200"/>
                <a:gridCol w="1703160"/>
              </a:tblGrid>
              <a:tr h="48132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article</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บทความ</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91940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opic  </a:t>
                      </a:r>
                      <a:r>
                        <a:rPr b="0" lang="th-TH" sz="1000" spc="-1" strike="noStrike">
                          <a:solidFill>
                            <a:srgbClr val="000000"/>
                          </a:solidFill>
                          <a:latin typeface="Cordia New"/>
                        </a:rPr>
                        <a:t>หัวข้อ</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urpose of the article </a:t>
                      </a:r>
                      <a:r>
                        <a:rPr b="0" lang="th-TH" sz="1000" spc="-1" strike="noStrike">
                          <a:solidFill>
                            <a:srgbClr val="000000"/>
                          </a:solidFill>
                          <a:latin typeface="Arial"/>
                          <a:ea typeface="Angsana New"/>
                        </a:rPr>
                        <a:t>  </a:t>
                      </a:r>
                      <a:r>
                        <a:rPr b="0" lang="th-TH" sz="1000" spc="-1" strike="noStrike">
                          <a:solidFill>
                            <a:srgbClr val="000000"/>
                          </a:solidFill>
                          <a:latin typeface="Cordia New"/>
                        </a:rPr>
                        <a:t>วัตถุประสงค์ของบทความ</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Main ideas </a:t>
                      </a:r>
                      <a:r>
                        <a:rPr b="0" lang="th-TH" sz="1000" spc="-1" strike="noStrike">
                          <a:solidFill>
                            <a:srgbClr val="000000"/>
                          </a:solidFill>
                          <a:latin typeface="Arial"/>
                          <a:ea typeface="Angsana New"/>
                        </a:rPr>
                        <a:t>  </a:t>
                      </a:r>
                      <a:r>
                        <a:rPr b="0" lang="th-TH" sz="1000" spc="-1" strike="noStrike">
                          <a:solidFill>
                            <a:srgbClr val="000000"/>
                          </a:solidFill>
                          <a:latin typeface="Cordia New"/>
                        </a:rPr>
                        <a:t>ความคิดหลักๆที่บทความนำเสนอ</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Interesting details  </a:t>
                      </a:r>
                      <a:r>
                        <a:rPr b="0" lang="th-TH" sz="1000" spc="-1" strike="noStrike">
                          <a:solidFill>
                            <a:srgbClr val="000000"/>
                          </a:solidFill>
                          <a:latin typeface="Arial"/>
                        </a:rPr>
                        <a:t>รายละเอียดที่น่าสนใจ</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hrase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23" descr="60"/>
          <p:cNvPicPr/>
          <p:nvPr/>
        </p:nvPicPr>
        <p:blipFill>
          <a:blip r:embed="rId1"/>
          <a:stretch/>
        </p:blipFill>
        <p:spPr>
          <a:xfrm>
            <a:off x="6121440" y="216000"/>
            <a:ext cx="841320" cy="1224000"/>
          </a:xfrm>
          <a:prstGeom prst="rect">
            <a:avLst/>
          </a:prstGeom>
          <a:ln w="0">
            <a:noFill/>
          </a:ln>
        </p:spPr>
      </p:pic>
      <p:pic>
        <p:nvPicPr>
          <p:cNvPr id="51" name="Picture 24" descr="60"/>
          <p:cNvPicPr/>
          <p:nvPr/>
        </p:nvPicPr>
        <p:blipFill>
          <a:blip r:embed="rId2"/>
          <a:stretch/>
        </p:blipFill>
        <p:spPr>
          <a:xfrm>
            <a:off x="407880" y="216000"/>
            <a:ext cx="79236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6121440"/>
            <a:ext cx="888840" cy="1079640"/>
          </a:xfrm>
          <a:prstGeom prst="rect">
            <a:avLst/>
          </a:prstGeom>
          <a:ln w="0">
            <a:noFill/>
          </a:ln>
        </p:spPr>
      </p:pic>
      <p:sp>
        <p:nvSpPr>
          <p:cNvPr id="56" name="Rectangle 33"/>
          <p:cNvSpPr/>
          <p:nvPr/>
        </p:nvSpPr>
        <p:spPr>
          <a:xfrm>
            <a:off x="1584360" y="6498360"/>
            <a:ext cx="2663640" cy="39852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480000" y="647640"/>
            <a:ext cx="259272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13080" y="1584360"/>
            <a:ext cx="1871640" cy="801252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บทความที่คุณสนใจเรียนรู้จา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หล่งที่คุณสะดวก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ชิ้น เทคนิคในกา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ประหยัดเวลาคือ อ่านเฉพาะส่วนนำหรือย่อหน้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รกของบทความก่อน เพื่อดูว่าเรื่องน่าสนใจและ</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ะดับภาษาเหมาะกับ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หลายๆเล่ม ถ้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ป็นไปได้ควรใช้พจนานุกรม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ถ้าคุณสะดวกอาจค้นคว้าจาก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บทความทั้งเรื่องสัก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รอบ เพื่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ำความเข้าใจ ระหว่างการอ่านคุณอาจทำ</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ครื่องหมาย ขีดเส้นใต้ข้อความสำคัญหรือศัพ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ำนวนทีน่าสนใจศึกษาเพิ่มเติม และอาจเขีย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รุปใจความสำคัญแทรกไว้เป็นระยะเพื่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ประหยัดเวลาเมื่อกลับมาอ่านครั้งที่ </a:t>
            </a:r>
            <a:r>
              <a:rPr b="0" lang="th-TH" sz="1000" spc="-1" strike="noStrike">
                <a:solidFill>
                  <a:srgbClr val="000000"/>
                </a:solidFill>
                <a:latin typeface="Cordia New"/>
                <a:ea typeface="Cordia New"/>
              </a:rPr>
              <a:t>2 </a:t>
            </a:r>
            <a:r>
              <a:rPr b="0" lang="th-TH" sz="1000" spc="-1" strike="noStrike">
                <a:solidFill>
                  <a:srgbClr val="000000"/>
                </a:solidFill>
                <a:latin typeface="Cordia New"/>
                <a:cs typeface="Cordia New"/>
              </a:rPr>
              <a:t>และ </a:t>
            </a:r>
            <a:r>
              <a:rPr b="0" lang="th-TH" sz="1000" spc="-1" strike="noStrike">
                <a:solidFill>
                  <a:srgbClr val="000000"/>
                </a:solidFill>
                <a:latin typeface="Cordia New"/>
                <a:ea typeface="Cordia New"/>
              </a:rPr>
              <a:t>3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ซ้ำอีก </a:t>
            </a:r>
            <a:r>
              <a:rPr b="0" lang="en-US" sz="1000" spc="-1" strike="noStrike">
                <a:solidFill>
                  <a:srgbClr val="000000"/>
                </a:solidFill>
                <a:latin typeface="Cordia New"/>
                <a:ea typeface="Cordia New"/>
              </a:rPr>
              <a:t>1 – 2 </a:t>
            </a:r>
            <a:r>
              <a:rPr b="0" lang="th-TH" sz="1000" spc="-1" strike="noStrike">
                <a:solidFill>
                  <a:srgbClr val="000000"/>
                </a:solidFill>
                <a:latin typeface="Cordia New"/>
                <a:cs typeface="Cordia New"/>
              </a:rPr>
              <a:t>รอบ เฉพาะส่วน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ำคัญหรือไม่เข้าใจก่อนกรอกแผ่นบันทึกกา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รียนรู้ ในช่วงนี้ให้จดคำศัพท์ สำนวนทีน่าสนใจล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ในแผ่นบันทึกการเรียนรู้ และทำการศึกษา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โดยใช้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งที่อาจจะเป็นปัญหาสำหรับคุณคื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ะดับความยากของภาษา แม้จะเป็นบทควา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ประเภทเดียวกัน แต่ระดับภาษาก็จะมีควา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ยากง่ายต่างกัน คุณจึงควรให้เวลากับการเลือ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นบทความที่เหมาะกับระดับความสามารถขอ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ณโดยเลือกสื่อจากหลายๆแหล่ง</a:t>
            </a:r>
            <a:endParaRPr b="0" lang="en-US" sz="1000" spc="-1" strike="noStrike">
              <a:solidFill>
                <a:srgbClr val="000000"/>
              </a:solidFill>
              <a:latin typeface="Cordia New"/>
            </a:endParaRPr>
          </a:p>
        </p:txBody>
      </p:sp>
      <p:pic>
        <p:nvPicPr>
          <p:cNvPr id="59" name="Picture 11" descr="40"/>
          <p:cNvPicPr/>
          <p:nvPr/>
        </p:nvPicPr>
        <p:blipFill>
          <a:blip r:embed="rId3"/>
          <a:stretch/>
        </p:blipFill>
        <p:spPr>
          <a:xfrm>
            <a:off x="9288360" y="287280"/>
            <a:ext cx="649440" cy="934920"/>
          </a:xfrm>
          <a:prstGeom prst="rect">
            <a:avLst/>
          </a:prstGeom>
          <a:ln w="0">
            <a:noFill/>
          </a:ln>
        </p:spPr>
      </p:pic>
      <p:graphicFrame>
        <p:nvGraphicFramePr>
          <p:cNvPr id="60" name=""/>
          <p:cNvGraphicFramePr/>
          <p:nvPr/>
        </p:nvGraphicFramePr>
        <p:xfrm>
          <a:off x="5902200" y="1440000"/>
          <a:ext cx="4608720" cy="4863960"/>
        </p:xfrm>
        <a:graphic>
          <a:graphicData uri="http://schemas.openxmlformats.org/drawingml/2006/table">
            <a:tbl>
              <a:tblPr/>
              <a:tblGrid>
                <a:gridCol w="2907000"/>
                <a:gridCol w="1701720"/>
              </a:tblGrid>
              <a:tr h="50472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article</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บทความ</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35924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www.___.com</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opic  </a:t>
                      </a:r>
                      <a:r>
                        <a:rPr b="0" lang="th-TH" sz="1000" spc="-1" strike="noStrike">
                          <a:solidFill>
                            <a:srgbClr val="000000"/>
                          </a:solidFill>
                          <a:latin typeface="Cordia New"/>
                        </a:rPr>
                        <a:t>หัวข้อ</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Maggot medicine gains popularity</a:t>
                      </a:r>
                      <a:r>
                        <a:rPr b="0" lang="th-TH" sz="1000" spc="-1" strike="noStrike">
                          <a:solidFill>
                            <a:srgbClr val="000000"/>
                          </a:solidFill>
                          <a:latin typeface="Arial"/>
                          <a:ea typeface="Angsana New"/>
                        </a:rPr>
                        <a:t>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Category </a:t>
                      </a:r>
                      <a:r>
                        <a:rPr b="0" lang="th-TH" sz="1000" spc="-1" strike="noStrike">
                          <a:solidFill>
                            <a:srgbClr val="000000"/>
                          </a:solidFill>
                          <a:latin typeface="Cordia New"/>
                        </a:rPr>
                        <a:t>ประเภทบทความ</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Medical research</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urpose of the article </a:t>
                      </a:r>
                      <a:r>
                        <a:rPr b="0" lang="th-TH" sz="1000" spc="-1" strike="noStrike">
                          <a:solidFill>
                            <a:srgbClr val="000000"/>
                          </a:solidFill>
                          <a:latin typeface="Arial"/>
                          <a:ea typeface="Angsana New"/>
                        </a:rPr>
                        <a:t>  </a:t>
                      </a:r>
                      <a:r>
                        <a:rPr b="0" lang="th-TH" sz="1000" spc="-1" strike="noStrike">
                          <a:solidFill>
                            <a:srgbClr val="000000"/>
                          </a:solidFill>
                          <a:latin typeface="Cordia New"/>
                        </a:rPr>
                        <a:t>วัตถุประสงค์ของบทความ</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Tells about the medical advancement of using maggots to treat diseases. (</a:t>
                      </a:r>
                      <a:r>
                        <a:rPr b="0" lang="en-US" sz="1000" spc="-1" strike="noStrike">
                          <a:solidFill>
                            <a:srgbClr val="000000"/>
                          </a:solidFill>
                          <a:latin typeface="Arial"/>
                          <a:ea typeface="Angsana New"/>
                        </a:rPr>
                        <a:t>maggot therapy</a:t>
                      </a:r>
                      <a:r>
                        <a:rPr b="0" lang="th-TH" sz="1000" spc="-1" strike="noStrike">
                          <a:solidFill>
                            <a:srgbClr val="000000"/>
                          </a:solidFill>
                          <a:latin typeface="Cordia New"/>
                        </a:rPr>
                        <a:t> </a:t>
                      </a:r>
                      <a:r>
                        <a:rPr b="0" lang="th-TH" sz="1000" spc="-1" strike="noStrike">
                          <a:solidFill>
                            <a:srgbClr val="000000"/>
                          </a:solidFill>
                          <a:latin typeface="Cordia New"/>
                        </a:rPr>
                        <a:t>การรักษาโรคด้วยหนอน</a:t>
                      </a:r>
                      <a:r>
                        <a:rPr b="0" lang="en-US" sz="1000" spc="-1" strike="noStrike">
                          <a:solidFill>
                            <a:srgbClr val="000000"/>
                          </a:solidFill>
                          <a:latin typeface="Arial"/>
                          <a:ea typeface="Angsana New"/>
                        </a:rPr>
                        <a:t>)</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Main ideas </a:t>
                      </a:r>
                      <a:r>
                        <a:rPr b="0" lang="th-TH" sz="1000" spc="-1" strike="noStrike">
                          <a:solidFill>
                            <a:srgbClr val="000000"/>
                          </a:solidFill>
                          <a:latin typeface="Arial"/>
                          <a:ea typeface="Angsana New"/>
                        </a:rPr>
                        <a:t>  </a:t>
                      </a:r>
                      <a:r>
                        <a:rPr b="0" lang="th-TH" sz="1000" spc="-1" strike="noStrike">
                          <a:solidFill>
                            <a:srgbClr val="000000"/>
                          </a:solidFill>
                          <a:latin typeface="Cordia New"/>
                        </a:rPr>
                        <a:t>ความคิดหลักๆที่บทความนำเสนอ</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Maggot therapy is</a:t>
                      </a:r>
                      <a:r>
                        <a:rPr b="0" lang="th-TH" sz="1000" spc="-1" strike="noStrike">
                          <a:solidFill>
                            <a:srgbClr val="000000"/>
                          </a:solidFill>
                          <a:latin typeface="Arial"/>
                          <a:ea typeface="Angsana New"/>
                        </a:rPr>
                        <a:t> currently one of the most effective means of treating wounds that are infected by the superbug methicillin-resistant Staphylococcus aureus (MRSA), which can cause life-threatening illness in hospital patients.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Interesting details  </a:t>
                      </a:r>
                      <a:r>
                        <a:rPr b="0" lang="th-TH" sz="1000" spc="-1" strike="noStrike">
                          <a:solidFill>
                            <a:srgbClr val="000000"/>
                          </a:solidFill>
                          <a:latin typeface="Arial"/>
                        </a:rPr>
                        <a:t>รายละเอียดที่น่าสนใจ</a:t>
                      </a: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Maggot therapy is good for ulcer treatment.</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u</a:t>
                      </a:r>
                      <a:r>
                        <a:rPr b="0" lang="th-TH" sz="1000" spc="-1" strike="noStrike">
                          <a:solidFill>
                            <a:srgbClr val="000000"/>
                          </a:solidFill>
                          <a:latin typeface="Arial"/>
                          <a:ea typeface="Angsana New"/>
                        </a:rPr>
                        <a:t>lcer treatment </a:t>
                      </a:r>
                      <a:br>
                        <a:rPr sz="1000"/>
                      </a:br>
                      <a:r>
                        <a:rPr b="0" lang="th-TH" sz="1000" spc="-1" strike="noStrike">
                          <a:solidFill>
                            <a:srgbClr val="000000"/>
                          </a:solidFill>
                          <a:latin typeface="Arial"/>
                          <a:ea typeface="Angsana New"/>
                        </a:rPr>
                        <a:t>   </a:t>
                      </a:r>
                      <a:r>
                        <a:rPr b="0" lang="th-TH" sz="1000" spc="-1" strike="noStrike">
                          <a:solidFill>
                            <a:srgbClr val="000000"/>
                          </a:solidFill>
                          <a:latin typeface="Cordia New"/>
                        </a:rPr>
                        <a:t>การรักษาแผลเปื่อย</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infection  </a:t>
                      </a:r>
                      <a:r>
                        <a:rPr b="0" lang="th-TH" sz="1000" spc="-1" strike="noStrike">
                          <a:solidFill>
                            <a:srgbClr val="000000"/>
                          </a:solidFill>
                          <a:latin typeface="Cordia New"/>
                        </a:rPr>
                        <a:t>การติดเชื้อ</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rPr>
                        <a:t> </a:t>
                      </a:r>
                      <a:r>
                        <a:rPr b="0" lang="th-TH" sz="1000" spc="-1" strike="noStrike">
                          <a:solidFill>
                            <a:srgbClr val="000000"/>
                          </a:solidFill>
                          <a:latin typeface="Arial"/>
                          <a:ea typeface="Angsana New"/>
                        </a:rPr>
                        <a:t>trial sites </a:t>
                      </a:r>
                      <a:r>
                        <a:rPr b="0" lang="th-TH" sz="1000" spc="-1" strike="noStrike">
                          <a:solidFill>
                            <a:srgbClr val="000000"/>
                          </a:solidFill>
                          <a:latin typeface="Cordia New"/>
                        </a:rPr>
                        <a:t>สถานที่ทดลอง</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chomp </a:t>
                      </a:r>
                      <a:r>
                        <a:rPr b="0" lang="th-TH" sz="1000" spc="-1" strike="noStrike">
                          <a:solidFill>
                            <a:srgbClr val="000000"/>
                          </a:solidFill>
                          <a:latin typeface="Cordia New"/>
                        </a:rPr>
                        <a:t>เคี้ยวเสียงดัง</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hesitate  </a:t>
                      </a:r>
                      <a:r>
                        <a:rPr b="0" lang="th-TH" sz="1000" spc="-1" strike="noStrike">
                          <a:solidFill>
                            <a:srgbClr val="000000"/>
                          </a:solidFill>
                          <a:latin typeface="Cordia New"/>
                        </a:rPr>
                        <a:t>รีรอ</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user friendly </a:t>
                      </a:r>
                      <a:r>
                        <a:rPr b="0" lang="th-TH" sz="1000" spc="-1" strike="noStrike">
                          <a:solidFill>
                            <a:srgbClr val="000000"/>
                          </a:solidFill>
                          <a:latin typeface="Cordia New"/>
                        </a:rPr>
                        <a:t>เป็นมิตร</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hrases:</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becoming the treatment </a:t>
                      </a:r>
                      <a:br>
                        <a:rPr sz="1000"/>
                      </a:br>
                      <a:r>
                        <a:rPr b="0" lang="en-US" sz="1000" spc="-1" strike="noStrike">
                          <a:solidFill>
                            <a:srgbClr val="000000"/>
                          </a:solidFill>
                          <a:latin typeface="Arial"/>
                          <a:ea typeface="Angsana New"/>
                        </a:rPr>
                        <a:t>  by choice</a:t>
                      </a:r>
                      <a:r>
                        <a:rPr b="0" lang="th-TH" sz="1000" spc="-1" strike="noStrike">
                          <a:solidFill>
                            <a:srgbClr val="000000"/>
                          </a:solidFill>
                          <a:latin typeface="Arial"/>
                          <a:ea typeface="Angsana New"/>
                        </a:rPr>
                        <a:t>  </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   </a:t>
                      </a:r>
                      <a:r>
                        <a:rPr b="0" lang="th-TH" sz="1000" spc="-1" strike="noStrike">
                          <a:solidFill>
                            <a:srgbClr val="000000"/>
                          </a:solidFill>
                          <a:latin typeface="Cordia New"/>
                        </a:rPr>
                        <a:t>กลายเป็นทางเลือกในการรักษา</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maggots at work </a:t>
                      </a:r>
                      <a:br>
                        <a:rPr sz="1000"/>
                      </a:br>
                      <a:r>
                        <a:rPr b="0" lang="th-TH" sz="1000" spc="-1" strike="noStrike">
                          <a:solidFill>
                            <a:srgbClr val="000000"/>
                          </a:solidFill>
                          <a:latin typeface="Arial"/>
                          <a:ea typeface="Angsana New"/>
                        </a:rPr>
                        <a:t>  </a:t>
                      </a:r>
                      <a:r>
                        <a:rPr b="0" lang="th-TH" sz="1000" spc="-1" strike="noStrike">
                          <a:solidFill>
                            <a:srgbClr val="000000"/>
                          </a:solidFill>
                          <a:latin typeface="Cordia New"/>
                        </a:rPr>
                        <a:t>หนอนขณะที่กำลังทำงาน</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144360" y="296640"/>
            <a:ext cx="3024360" cy="596628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n article you migh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enjoy reading from any source. A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echnique to save time is to read only th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ntroduction to check your interest and</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ke sure the language level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at suit you.</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es. You may also work with online</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 the article once to ge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ts gist. While reading you may highligh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key information, vocabulary o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expressions you want to focus attention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 You may also make short notes on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mportant parts. This is to save time fo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 second or third reading.</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read it once or twice, only</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 important parts or the parts that ar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not clear to you, before completing you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learning record. Also note down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nteresting vocabulary or phrases in you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learning record and do further study from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What may cause you a problem is the level of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language may not suit you. Articles with th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ame topic can differ in the complexity of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language used. Thus you should devote time to</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hoose the right articles  from different sources.</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5:04Z</dcterms:modified>
  <cp:revision>1732</cp:revision>
  <dc:subject/>
  <dc:title>Slide 1</dc:title>
</cp:coreProperties>
</file>