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AB397-3BA4-4CC9-A948-5391240E9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E69F3-8882-410E-8E7D-5AB9D2CC3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D1145-11B9-40DB-96D3-DE2A6C56D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DC9DC-BE98-46F9-B8C8-5E083A8C8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FA96-2147-4F8D-94F1-C158E3BD7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D5D4-B3B5-4AB7-AEF8-FF2EBCE7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D0FF-FE9B-4E6C-B8D1-7699CAE47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4C3B2-B325-47A0-9837-7CC37D0AE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E2EC9-570B-4C78-9140-CF7BF85D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77F47-C48E-4AE7-A489-CFC90C5C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9F59-4BD6-4800-B399-F67675A73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CDA89-EB1A-4D66-AEA3-EF1828870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57B5-4108-4366-A3A3-DD8CFD2AA2AF}"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6985080" y="1224000"/>
            <a:ext cx="295272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7! </a:t>
            </a:r>
            <a:endParaRPr b="0" lang="en-US" sz="1200" spc="-1" strike="noStrike">
              <a:solidFill>
                <a:srgbClr val="000000"/>
              </a:solidFill>
              <a:latin typeface="Cordia New"/>
            </a:endParaRPr>
          </a:p>
        </p:txBody>
      </p:sp>
      <p:sp>
        <p:nvSpPr>
          <p:cNvPr id="45" name="Rectangle 119"/>
          <p:cNvSpPr/>
          <p:nvPr/>
        </p:nvSpPr>
        <p:spPr>
          <a:xfrm>
            <a:off x="6048360" y="2039040"/>
            <a:ext cx="2952720" cy="22842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as many advantages. It helps to increase vocabulary, expressions, and grammar competence as well as being models for writing about events, situations, people, and other things.</a:t>
            </a: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news helps develop your skill of getting the main idea in key aspects including what happened, the causes of actions, the place where news happened, the time when news happened, and people involved in the news.</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endParaRPr b="0" lang="en-US" sz="1200" spc="-1" strike="noStrike">
              <a:solidFill>
                <a:srgbClr val="000000"/>
              </a:solidFill>
              <a:latin typeface="Cordia New"/>
            </a:endParaRPr>
          </a:p>
        </p:txBody>
      </p:sp>
      <p:sp>
        <p:nvSpPr>
          <p:cNvPr id="46" name="Rectangle 147"/>
          <p:cNvSpPr/>
          <p:nvPr/>
        </p:nvSpPr>
        <p:spPr>
          <a:xfrm>
            <a:off x="9099720" y="1944720"/>
            <a:ext cx="1485720" cy="48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มีประโยชน์หลายด้าน เพราะช่วยให้เราเรียนรู้และพัฒนาคำศัพท์ และสำนวน ไวยากรณ์ และยังเป็นตัวอย่างในการเขียนบรรยายทั้งเหตุการณ์ สถานการณ์ บุคคล และสิ่งต่างๆ ได้ด้วย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ข่าวช่วยพัฒนาการอ่านจับใจความสำคัญได้แก่  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าเหตุของเหตุการณ์ที่เกิดขึ้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ถานที่เกิดเหตุการณ์นั้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วลาที่</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หตุการณ์นั้นเกิ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ผู้เกี่ยวข้องใน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อดีอีกประการ คือ ข่าวมีหลายประเภทให้คุณเลือกอ่านตามความสนใจ เช่น ข่าวเกี่ยวกับเหตุการณ์ทั่วไป ข่าวการเมือง หรือเหตุการณ์ในท้องถิ่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กีฬา</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ภัยพิบัติ</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ชญากรรมและการดำเนินคดี</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งครามและการก่อการร้าย</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นัดหยุดงาน</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ข่าวเศรษฐกิจ รวมไปถึงข่าวเกี่ยวกับสุขภาพ</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ละสิ่งแวดล้อม</a:t>
            </a:r>
            <a:r>
              <a:rPr b="0" lang="en-US" sz="1000" spc="-1" strike="noStrike">
                <a:solidFill>
                  <a:srgbClr val="000000"/>
                </a:solidFill>
                <a:latin typeface="Cordia New"/>
                <a:ea typeface="Cordia New"/>
              </a:rPr>
              <a:t> </a:t>
            </a: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sp>
        <p:nvSpPr>
          <p:cNvPr id="47" name="Rectangle 194"/>
          <p:cNvSpPr/>
          <p:nvPr/>
        </p:nvSpPr>
        <p:spPr>
          <a:xfrm>
            <a:off x="6040440" y="475704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Another strong point of reading news is that you can enjoy a variety of news including general events, politics, local news, sport, disasters, crime and courts, wars and terrorism, strikes, economics and also health and environment.</a:t>
            </a:r>
            <a:endParaRPr b="0" lang="en-US" sz="1200" spc="-1" strike="noStrike">
              <a:solidFill>
                <a:srgbClr val="000000"/>
              </a:solidFill>
              <a:latin typeface="Cordia New"/>
            </a:endParaRPr>
          </a:p>
        </p:txBody>
      </p:sp>
      <p:sp>
        <p:nvSpPr>
          <p:cNvPr id="48" name="Text Box 73"/>
          <p:cNvSpPr/>
          <p:nvPr/>
        </p:nvSpPr>
        <p:spPr>
          <a:xfrm>
            <a:off x="1512720" y="647640"/>
            <a:ext cx="295128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Angsana New"/>
              </a:rPr>
              <a:t>Reading news</a:t>
            </a:r>
            <a:endParaRPr b="0" lang="en-US" sz="1800" spc="-1" strike="noStrike">
              <a:solidFill>
                <a:srgbClr val="000000"/>
              </a:solidFill>
              <a:latin typeface="Cordia New"/>
            </a:endParaRPr>
          </a:p>
        </p:txBody>
      </p:sp>
      <p:graphicFrame>
        <p:nvGraphicFramePr>
          <p:cNvPr id="49" name=""/>
          <p:cNvGraphicFramePr/>
          <p:nvPr/>
        </p:nvGraphicFramePr>
        <p:xfrm>
          <a:off x="360360" y="1440000"/>
          <a:ext cx="4608360" cy="5400360"/>
        </p:xfrm>
        <a:graphic>
          <a:graphicData uri="http://schemas.openxmlformats.org/drawingml/2006/table">
            <a:tbl>
              <a:tblPr/>
              <a:tblGrid>
                <a:gridCol w="3024360"/>
                <a:gridCol w="1584000"/>
              </a:tblGrid>
              <a:tr h="48240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796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5977080"/>
            <a:ext cx="1008000" cy="1224000"/>
          </a:xfrm>
          <a:prstGeom prst="rect">
            <a:avLst/>
          </a:prstGeom>
          <a:ln w="0">
            <a:noFill/>
          </a:ln>
        </p:spPr>
      </p:pic>
      <p:sp>
        <p:nvSpPr>
          <p:cNvPr id="56" name="Rectangle 33"/>
          <p:cNvSpPr/>
          <p:nvPr/>
        </p:nvSpPr>
        <p:spPr>
          <a:xfrm>
            <a:off x="1440000" y="6349320"/>
            <a:ext cx="1512720" cy="55080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79200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655640" cy="938304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ข่าวที่น่าสนใจ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ต่า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ทคนิคการประหยัดเวลาคือ เลือกอ่า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ฉพาะหัวข้อข่าว เมื่อเลือกได้แล้วจึงค่อ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รายละเอีย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ถ้าคุณสะดวกอาจค้นคว้าจากพจนานุกรม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1"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คร่าวๆสัก </a:t>
            </a:r>
            <a:r>
              <a:rPr b="0" lang="en-US" sz="1000" spc="-1" strike="noStrike">
                <a:solidFill>
                  <a:srgbClr val="000000"/>
                </a:solidFill>
                <a:latin typeface="Cordia New"/>
                <a:ea typeface="Cordia New"/>
              </a:rPr>
              <a:t>1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อบเพื่อทำความเข้าใจกว้างๆก่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ข่าวอย่างละเอียด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อยๆตอบคำถามแต่ละข้อ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5</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จดคำศัพท์ สำน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สนใจลงในแผ่นบันทึกการเรียนรู้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ละทำการศึกษาเพิ่มเติมโดยใช้</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สามารถสร้างเครือข่ายกับเพื่อน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study buddy)</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ต่างคนต่างเลือกศึกษาข่าว</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สนใจ แล้วนำมาแลกกันอ่าน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รวจสอบความเข้าใจเนื้อหาและคำ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ถ้าคุณใช้คอมพิวเตอร์ ลองค้นคำหลั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weird news </a:t>
            </a:r>
            <a:r>
              <a:rPr b="0" lang="th-TH" sz="1000" spc="-1" strike="noStrike">
                <a:solidFill>
                  <a:srgbClr val="000000"/>
                </a:solidFill>
                <a:latin typeface="Cordia New"/>
                <a:cs typeface="Cordia New"/>
              </a:rPr>
              <a:t>หรือ </a:t>
            </a:r>
            <a:r>
              <a:rPr b="0" lang="en-US" sz="1000" spc="-1" strike="noStrike">
                <a:solidFill>
                  <a:srgbClr val="000000"/>
                </a:solidFill>
                <a:latin typeface="Cordia New"/>
                <a:ea typeface="Cordia New"/>
              </a:rPr>
              <a:t>strange news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จะเห็นข่าวแปลกๆ และบางที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น่าขบขัน ให้คุณเลือกได้มากมา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สำหรับวิธีการตรวจสอบทักษะ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อีกวิธีคือ หาข่าวชิ้นเดียวกัน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หนังสือพิมพ์ภาษาไทยเป็นตัวเทีย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งความเข้าใจเนื้อหา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ของศัพท์ให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p:txBody>
      </p:sp>
      <p:pic>
        <p:nvPicPr>
          <p:cNvPr id="59" name="Picture 11" descr="50"/>
          <p:cNvPicPr/>
          <p:nvPr/>
        </p:nvPicPr>
        <p:blipFill>
          <a:blip r:embed="rId3"/>
          <a:stretch/>
        </p:blipFill>
        <p:spPr>
          <a:xfrm>
            <a:off x="9288360" y="216000"/>
            <a:ext cx="852480" cy="1079280"/>
          </a:xfrm>
          <a:prstGeom prst="rect">
            <a:avLst/>
          </a:prstGeom>
          <a:ln w="0">
            <a:noFill/>
          </a:ln>
        </p:spPr>
      </p:pic>
      <p:graphicFrame>
        <p:nvGraphicFramePr>
          <p:cNvPr id="60" name=""/>
          <p:cNvGraphicFramePr/>
          <p:nvPr/>
        </p:nvGraphicFramePr>
        <p:xfrm>
          <a:off x="5927760" y="1440000"/>
          <a:ext cx="4608360" cy="4498920"/>
        </p:xfrm>
        <a:graphic>
          <a:graphicData uri="http://schemas.openxmlformats.org/drawingml/2006/table">
            <a:tbl>
              <a:tblPr/>
              <a:tblGrid>
                <a:gridCol w="3024000"/>
                <a:gridCol w="158436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news</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ข่าว</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0406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ype of news  </a:t>
                      </a:r>
                      <a:r>
                        <a:rPr b="0" lang="th-TH" sz="1000" spc="-1" strike="noStrike">
                          <a:solidFill>
                            <a:srgbClr val="000000"/>
                          </a:solidFill>
                          <a:latin typeface="Cordia New"/>
                        </a:rPr>
                        <a:t>ชนิดของข่าว</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ntertainment</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en/Where did the event happen?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เกิดขึ้นเมื่อไร</a:t>
                      </a:r>
                      <a:r>
                        <a:rPr b="0" lang="en-US" sz="1000" spc="-1" strike="noStrike">
                          <a:solidFill>
                            <a:srgbClr val="000000"/>
                          </a:solidFill>
                          <a:latin typeface="Cordia New"/>
                        </a:rPr>
                        <a:t>? </a:t>
                      </a:r>
                      <a:r>
                        <a:rPr b="0" lang="th-TH" sz="1000" spc="-1" strike="noStrike">
                          <a:solidFill>
                            <a:srgbClr val="000000"/>
                          </a:solidFill>
                          <a:latin typeface="Arial"/>
                        </a:rPr>
                        <a:t>ที่ไหน</a:t>
                      </a:r>
                      <a:r>
                        <a:rPr b="0" lang="en-US" sz="1000" spc="-1" strike="noStrike">
                          <a:solidFill>
                            <a:srgbClr val="000000"/>
                          </a:solidFill>
                          <a:latin typeface="Arial"/>
                        </a:rPr>
                        <a:t>?</a:t>
                      </a:r>
                      <a:r>
                        <a:rPr b="0" lang="en-US"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Oct, 2xxx/ In a show called</a:t>
                      </a:r>
                      <a:r>
                        <a:rPr b="0" lang="en-US" sz="1000" spc="-1" strike="noStrike">
                          <a:solidFill>
                            <a:srgbClr val="000000"/>
                          </a:solidFill>
                          <a:latin typeface="Bradley Hand ITC"/>
                        </a:rPr>
                        <a:t> </a:t>
                      </a:r>
                      <a:r>
                        <a:rPr b="0" lang="th-TH" sz="1000" spc="-1" strike="noStrike">
                          <a:solidFill>
                            <a:srgbClr val="000000"/>
                          </a:solidFill>
                          <a:latin typeface="Arial"/>
                          <a:ea typeface="Angsana New"/>
                        </a:rPr>
                        <a:t>"The Jonathan Ross Show"</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ho was involved in the even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มีใครเกี่ยวข้องในข่าวบ้าง</a:t>
                      </a:r>
                      <a:r>
                        <a:rPr b="0" lang="en-US" sz="1000" spc="-1" strike="noStrike">
                          <a:solidFill>
                            <a:srgbClr val="000000"/>
                          </a:solidFill>
                          <a:latin typeface="Cordi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Lady Gaga and an interviewer</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Tahoma"/>
                        </a:rPr>
                        <a:t>What happened?</a:t>
                      </a:r>
                      <a:r>
                        <a:rPr b="0" lang="en-US" sz="1000" spc="-1" strike="noStrike">
                          <a:solidFill>
                            <a:srgbClr val="000000"/>
                          </a:solidFill>
                          <a:latin typeface="Arial"/>
                          <a:ea typeface="Angsana New"/>
                        </a:rPr>
                        <a:t> </a:t>
                      </a:r>
                      <a:r>
                        <a:rPr b="0" lang="th-TH" sz="1000" spc="-1" strike="noStrike">
                          <a:solidFill>
                            <a:srgbClr val="000000"/>
                          </a:solidFill>
                          <a:latin typeface="Cordia New"/>
                        </a:rPr>
                        <a:t>เกิดเหตุการณ์อะไรขึ้น</a:t>
                      </a:r>
                      <a:r>
                        <a:rPr b="0" lang="en-US" sz="1000" spc="-1" strike="noStrike">
                          <a:solidFill>
                            <a:srgbClr val="000000"/>
                          </a:solidFill>
                          <a:latin typeface="Cordia New"/>
                        </a:rPr>
                        <a:t>? </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 the interview, Lady Gaga said that she wanted 10 more albums before motherhood. The news also talks about her </a:t>
                      </a:r>
                      <a:r>
                        <a:rPr b="0" lang="th-TH" sz="1000" spc="-1" strike="noStrike">
                          <a:solidFill>
                            <a:srgbClr val="000000"/>
                          </a:solidFill>
                          <a:latin typeface="Arial"/>
                          <a:ea typeface="Angsana New"/>
                        </a:rPr>
                        <a:t>on-off relationship with Luc Carl</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a maternal person</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คนที่มีความเป็นแม่</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settling down </a:t>
                      </a:r>
                      <a:r>
                        <a:rPr b="0" lang="th-TH" sz="1000" spc="-1" strike="noStrike">
                          <a:solidFill>
                            <a:srgbClr val="000000"/>
                          </a:solidFill>
                          <a:latin typeface="Cordia New"/>
                        </a:rPr>
                        <a:t>การมีครอบครัว</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Expression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on-off relationship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คบๆเลิกๆ</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the </a:t>
                      </a:r>
                      <a:r>
                        <a:rPr b="0" lang="th-TH" sz="1000" spc="-1" strike="noStrike">
                          <a:solidFill>
                            <a:srgbClr val="000000"/>
                          </a:solidFill>
                          <a:latin typeface="Arial"/>
                          <a:ea typeface="Angsana New"/>
                        </a:rPr>
                        <a:t>urge to be pregnant</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ารรีบร้อนตั้งครรภ์</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44360"/>
            <a:ext cx="2952720" cy="593712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 piece of news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ight 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dlines before reading the details o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new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news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understand more details befo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swering each question.</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5</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Note down interest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vocabulary or phrases in your lear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You may work on a ‘study buddy’ basis. Both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and your buddy work on a piece of news,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nd later discuss what you have read. This i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eck understanding of content, and vocabulary</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If you work with a computer, try ‘weird news’ 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a:t>
            </a:r>
            <a:r>
              <a:rPr b="0" lang="en-US" sz="1000" spc="-1" strike="noStrike">
                <a:solidFill>
                  <a:srgbClr val="000000"/>
                </a:solidFill>
                <a:latin typeface="Calibri"/>
                <a:ea typeface="Cordia New"/>
              </a:rPr>
              <a:t>strange news’ as key word… you will find plent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of strange and sometime funny news ready fo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to choose.</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 To check your reading ability, you can also read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e same news in Thai to compare your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understanding of both content and new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vocabulary learnt.</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4:46Z</dcterms:modified>
  <cp:revision>1732</cp:revision>
  <dc:subject/>
  <dc:title>Slide 1</dc:title>
</cp:coreProperties>
</file>