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41C44-523F-4E7F-93B8-29B22892D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5A4EA-A489-4581-BCC7-7BD5D14F2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B002B-BCE6-49F3-A90C-2ACAD808C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22932-5910-4E97-BBC9-5C08854C4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34F9E-5B24-417B-83A3-3BEEBDEC3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EE58C-673C-423E-AB1A-C58ED4244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13AD-BABA-4526-A1DC-9D6AEEF20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59096-160F-4948-B408-CA872FD2F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39A6E-9649-4D30-B6C9-AE7C8AFDA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50CF8-AB48-485F-A98A-2F0222091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D8F8-4419-4A0B-B4A6-7B24CA54B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CF59-F6E3-42AC-BADE-D55B271B7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86DC-D53E-4122-8F89-B51AA1BFBFC0}"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985080" y="1224000"/>
            <a:ext cx="295272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7! </a:t>
            </a:r>
            <a:endParaRPr b="0" lang="en-US" sz="1200" spc="-1" strike="noStrike">
              <a:solidFill>
                <a:srgbClr val="000000"/>
              </a:solidFill>
              <a:latin typeface="Cordia New"/>
            </a:endParaRPr>
          </a:p>
        </p:txBody>
      </p:sp>
      <p:sp>
        <p:nvSpPr>
          <p:cNvPr id="45" name="Rectangle 119"/>
          <p:cNvSpPr/>
          <p:nvPr/>
        </p:nvSpPr>
        <p:spPr>
          <a:xfrm>
            <a:off x="6048360" y="203904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as many advantages. It helps to increase vocabulary, expressions, and grammar competence as well as being models for writing about events, situations, people, and other thing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elps develop your skill of getting the main idea in key aspects including what happened, the causes of actions, the place where news happened, the time when news happened, and people involved in the new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endParaRPr b="0" lang="en-US" sz="1200" spc="-1" strike="noStrike">
              <a:solidFill>
                <a:srgbClr val="000000"/>
              </a:solidFill>
              <a:latin typeface="Cordia New"/>
            </a:endParaRPr>
          </a:p>
        </p:txBody>
      </p:sp>
      <p:sp>
        <p:nvSpPr>
          <p:cNvPr id="46" name="Rectangle 147"/>
          <p:cNvSpPr/>
          <p:nvPr/>
        </p:nvSpPr>
        <p:spPr>
          <a:xfrm>
            <a:off x="9099720" y="1944720"/>
            <a:ext cx="1485720" cy="48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มีประโยชน์หลายด้าน เพราะช่วยให้เราเรียนรู้และพัฒนาคำศัพท์ และสำนวน ไวยากรณ์ และยังเป็นตัวอย่างในการเขียนบรรยายทั้งเหตุการณ์ สถานการณ์ บุคคล และสิ่งต่างๆ ได้ด้วย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ช่วยพัฒนาการอ่านจับใจความสำคัญได้แก่  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าเหตุของ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ถานที่เกิดเหตุการณ์นั้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วลาที่</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หตุการณ์นั้นเกิ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ผู้เกี่ยวข้องใน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อดีอีกประการ คือ ข่าวมีหลายประเภทให้คุณเลือกอ่านตามความสนใจ เช่น ข่าวเกี่ยวกับเหตุการณ์ทั่วไป ข่าวการเมือง หรือเหตุการณ์ในท้องถิ่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กีฬา</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ภัยพิบัติ</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ชญากรรมและการดำเนินค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งครามและการก่อการร้า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นัดหยุดงา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เศรษฐกิจ รวมไปถึงข่าวเกี่ยวกับสุขภาพ</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สิ่งแวดล้อม</a:t>
            </a:r>
            <a:r>
              <a:rPr b="0" lang="en-US" sz="1000" spc="-1" strike="noStrike">
                <a:solidFill>
                  <a:srgbClr val="000000"/>
                </a:solidFill>
                <a:latin typeface="Cordia New"/>
                <a:ea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sp>
        <p:nvSpPr>
          <p:cNvPr id="47" name="Rectangle 194"/>
          <p:cNvSpPr/>
          <p:nvPr/>
        </p:nvSpPr>
        <p:spPr>
          <a:xfrm>
            <a:off x="6040440" y="475704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other strong point of reading news is that you can enjoy a variety of news including general events, politics, local news, sport, disasters, crime and courts, wars and terrorism, strikes, economics and also health and environment.</a:t>
            </a:r>
            <a:endParaRPr b="0" lang="en-US" sz="1200" spc="-1" strike="noStrike">
              <a:solidFill>
                <a:srgbClr val="000000"/>
              </a:solidFill>
              <a:latin typeface="Cordia New"/>
            </a:endParaRPr>
          </a:p>
        </p:txBody>
      </p:sp>
      <p:sp>
        <p:nvSpPr>
          <p:cNvPr id="48" name="Text Box 73"/>
          <p:cNvSpPr/>
          <p:nvPr/>
        </p:nvSpPr>
        <p:spPr>
          <a:xfrm>
            <a:off x="151272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graphicFrame>
        <p:nvGraphicFramePr>
          <p:cNvPr id="49" name=""/>
          <p:cNvGraphicFramePr/>
          <p:nvPr/>
        </p:nvGraphicFramePr>
        <p:xfrm>
          <a:off x="360360" y="1440000"/>
          <a:ext cx="4608360" cy="5400360"/>
        </p:xfrm>
        <a:graphic>
          <a:graphicData uri="http://schemas.openxmlformats.org/drawingml/2006/table">
            <a:tbl>
              <a:tblPr/>
              <a:tblGrid>
                <a:gridCol w="3024360"/>
                <a:gridCol w="1584000"/>
              </a:tblGrid>
              <a:tr h="48240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79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77080"/>
            <a:ext cx="1008000" cy="1224000"/>
          </a:xfrm>
          <a:prstGeom prst="rect">
            <a:avLst/>
          </a:prstGeom>
          <a:ln w="0">
            <a:noFill/>
          </a:ln>
        </p:spPr>
      </p:pic>
      <p:sp>
        <p:nvSpPr>
          <p:cNvPr id="56" name="Rectangle 33"/>
          <p:cNvSpPr/>
          <p:nvPr/>
        </p:nvSpPr>
        <p:spPr>
          <a:xfrm>
            <a:off x="1440000" y="634932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792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65564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ข่าวที่น่าสนใจ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ต่า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ทคนิคการประหยัดเวลาคือ เลือกอ่า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หัวข้อข่าว เมื่อเลือกได้แล้วจึงค่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คร่าวๆ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เพื่อทำความเข้าใจกว้างๆ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อย่าง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อยๆตอบคำถามแต่ละข้อ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สำน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สามารถสร้างเครือข่ายกับเพื่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study buddy)</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ต่างคนต่างเลือกศึกษาข่า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แล้วนำมาแลกกันอ่าน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รวจสอบความเข้าใจเนื้อหาและคำ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ใช้คอมพิวเตอร์ ลองค้นคำหลั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weird news </a:t>
            </a:r>
            <a:r>
              <a:rPr b="0" lang="th-TH" sz="1000" spc="-1" strike="noStrike">
                <a:solidFill>
                  <a:srgbClr val="000000"/>
                </a:solidFill>
                <a:latin typeface="Cordia New"/>
                <a:cs typeface="Cordia New"/>
              </a:rPr>
              <a:t>หรือ </a:t>
            </a:r>
            <a:r>
              <a:rPr b="0" lang="en-US" sz="1000" spc="-1" strike="noStrike">
                <a:solidFill>
                  <a:srgbClr val="000000"/>
                </a:solidFill>
                <a:latin typeface="Cordia New"/>
                <a:ea typeface="Cordia New"/>
              </a:rPr>
              <a:t>strange news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จะเห็นข่าวแปลกๆ และบางที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ขบขัน ให้คุณเลือกได้มากม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วิธีการตรวจสอบทักษะ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อีกวิธีคือ หาข่าวชิ้นเดียวกัน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นังสือพิมพ์ภาษาไทยเป็นตัวเทีย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ความเข้าใจเนื้อหา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ของศัพท์ให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pic>
        <p:nvPicPr>
          <p:cNvPr id="59" name="Picture 11" descr="50"/>
          <p:cNvPicPr/>
          <p:nvPr/>
        </p:nvPicPr>
        <p:blipFill>
          <a:blip r:embed="rId3"/>
          <a:stretch/>
        </p:blipFill>
        <p:spPr>
          <a:xfrm>
            <a:off x="9288360" y="216000"/>
            <a:ext cx="852480" cy="1079280"/>
          </a:xfrm>
          <a:prstGeom prst="rect">
            <a:avLst/>
          </a:prstGeom>
          <a:ln w="0">
            <a:noFill/>
          </a:ln>
        </p:spPr>
      </p:pic>
      <p:graphicFrame>
        <p:nvGraphicFramePr>
          <p:cNvPr id="60" name=""/>
          <p:cNvGraphicFramePr/>
          <p:nvPr/>
        </p:nvGraphicFramePr>
        <p:xfrm>
          <a:off x="5927760" y="1440000"/>
          <a:ext cx="4608360" cy="4498920"/>
        </p:xfrm>
        <a:graphic>
          <a:graphicData uri="http://schemas.openxmlformats.org/drawingml/2006/table">
            <a:tbl>
              <a:tblPr/>
              <a:tblGrid>
                <a:gridCol w="3024000"/>
                <a:gridCol w="1584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0406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ntertainmen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Oct, 2xxx/ In a show called</a:t>
                      </a:r>
                      <a:r>
                        <a:rPr b="0" lang="en-US" sz="1000" spc="-1" strike="noStrike">
                          <a:solidFill>
                            <a:srgbClr val="000000"/>
                          </a:solidFill>
                          <a:latin typeface="Bradley Hand ITC"/>
                        </a:rPr>
                        <a:t> </a:t>
                      </a:r>
                      <a:r>
                        <a:rPr b="0" lang="th-TH" sz="1000" spc="-1" strike="noStrike">
                          <a:solidFill>
                            <a:srgbClr val="000000"/>
                          </a:solidFill>
                          <a:latin typeface="Arial"/>
                          <a:ea typeface="Angsana New"/>
                        </a:rPr>
                        <a:t>"The Jonathan Ross Show"</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Lady Gaga and an interviewer</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 the interview, Lady Gaga said that she wanted 10 more albums before motherhood. The news also talks about her </a:t>
                      </a:r>
                      <a:r>
                        <a:rPr b="0" lang="th-TH" sz="1000" spc="-1" strike="noStrike">
                          <a:solidFill>
                            <a:srgbClr val="000000"/>
                          </a:solidFill>
                          <a:latin typeface="Arial"/>
                          <a:ea typeface="Angsana New"/>
                        </a:rPr>
                        <a:t>on-off relationship with Luc Carl</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a maternal perso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คนที่มีความเป็นแ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settling down </a:t>
                      </a:r>
                      <a:r>
                        <a:rPr b="0" lang="th-TH" sz="1000" spc="-1" strike="noStrike">
                          <a:solidFill>
                            <a:srgbClr val="000000"/>
                          </a:solidFill>
                          <a:latin typeface="Cordia New"/>
                        </a:rPr>
                        <a:t>การมีครอบครัว</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on-off relationship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บๆเลิกๆ</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he </a:t>
                      </a:r>
                      <a:r>
                        <a:rPr b="0" lang="th-TH" sz="1000" spc="-1" strike="noStrike">
                          <a:solidFill>
                            <a:srgbClr val="000000"/>
                          </a:solidFill>
                          <a:latin typeface="Arial"/>
                          <a:ea typeface="Angsana New"/>
                        </a:rPr>
                        <a:t>urge to be pregnan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ารรีบร้อนตั้งครรภ์</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44360"/>
            <a:ext cx="2952720" cy="59371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piece of news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dlines before reading the details o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new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news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swering each question.</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You may work on a ‘study buddy’ basis. Both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and your buddy work on a piece of new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nd later discuss what you have read. This i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eck understanding of content, and vocabulary</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If you work with a computer, try ‘weird new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t>
            </a:r>
            <a:r>
              <a:rPr b="0" lang="en-US" sz="1000" spc="-1" strike="noStrike">
                <a:solidFill>
                  <a:srgbClr val="000000"/>
                </a:solidFill>
                <a:latin typeface="Calibri"/>
                <a:ea typeface="Cordia New"/>
              </a:rPr>
              <a:t>strange news’ as key word… you will find plent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strange and sometime funny news ready f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to choose.</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To check your reading ability, you can also read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 same news in Thai to compare you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understanding of both content and new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vocabulary learnt.</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46Z</dcterms:modified>
  <cp:revision>1732</cp:revision>
  <dc:subject/>
  <dc:title>Slide 1</dc:title>
</cp:coreProperties>
</file>