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D8BF7-C26D-40EB-806D-0BBC5C1B9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F166E-2D40-431E-AC27-E6E8AF828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E3AB5-3ED8-42AA-825D-290D1A40A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EF8D6-A8E8-40CD-A2E4-E9263387F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6FC3A-E7E3-4A5A-A601-E89A84169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E9938-A66B-446E-9B12-B0273BE3C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2FD67-B3F8-43B7-915D-E023B7838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7D282-5289-4BB1-A343-73A947E10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F84C3-73AC-44D9-A241-D05401771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19A52-71F1-4508-BE40-5092D1DBD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31BD3-C93E-441F-81F7-9EC75865F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DD5A2-82FC-4537-88E6-97BF949A5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EF44-8D0D-4A04-8218-6D570E943EF6}"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408720" y="1368360"/>
            <a:ext cx="41054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6! </a:t>
            </a:r>
            <a:endParaRPr b="0" lang="en-US" sz="1200" spc="-1" strike="noStrike">
              <a:solidFill>
                <a:srgbClr val="000000"/>
              </a:solidFill>
              <a:latin typeface="Cordia New"/>
            </a:endParaRPr>
          </a:p>
        </p:txBody>
      </p:sp>
      <p:sp>
        <p:nvSpPr>
          <p:cNvPr id="45" name="Rectangle 119"/>
          <p:cNvSpPr/>
          <p:nvPr/>
        </p:nvSpPr>
        <p:spPr>
          <a:xfrm>
            <a:off x="6048360" y="216936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views are comments made on certain things like books, movies, art work, product exhibitions, television shows, or stage play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reviews not only helps improve your reading skill or increase your vocabulary but it also supports your writing ability. Reading reviews of different writers helps widen your perspective. However, you don’t have to agree with their comments if they don’t support their writing with good reasons!</a:t>
            </a:r>
            <a:endParaRPr b="0" lang="en-US" sz="1200" spc="-1" strike="noStrike">
              <a:solidFill>
                <a:srgbClr val="000000"/>
              </a:solidFill>
              <a:latin typeface="Cordia New"/>
            </a:endParaRPr>
          </a:p>
        </p:txBody>
      </p:sp>
      <p:sp>
        <p:nvSpPr>
          <p:cNvPr id="46" name="Rectangle 147"/>
          <p:cNvSpPr/>
          <p:nvPr/>
        </p:nvSpPr>
        <p:spPr>
          <a:xfrm>
            <a:off x="9174240" y="2050920"/>
            <a:ext cx="1511280" cy="666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 หรือ </a:t>
            </a:r>
            <a:r>
              <a:rPr b="0" lang="en-US" sz="1000" spc="-1" strike="noStrike">
                <a:solidFill>
                  <a:srgbClr val="000000"/>
                </a:solidFill>
                <a:latin typeface="Cordia New"/>
                <a:ea typeface="Cordia New"/>
              </a:rPr>
              <a:t> </a:t>
            </a:r>
            <a:r>
              <a:rPr b="0" lang="en-US" sz="1000" spc="-1" strike="noStrike">
                <a:solidFill>
                  <a:srgbClr val="000000"/>
                </a:solidFill>
                <a:latin typeface="Cordia New"/>
                <a:ea typeface="Cordia New"/>
              </a:rPr>
              <a:t>review </a:t>
            </a:r>
            <a:r>
              <a:rPr b="0" lang="th-TH" sz="1000" spc="-1" strike="noStrike">
                <a:solidFill>
                  <a:srgbClr val="000000"/>
                </a:solidFill>
                <a:latin typeface="Cordia New"/>
                <a:cs typeface="Cordia New"/>
              </a:rPr>
              <a:t>คือข้อความที่เขียนวิจารณ์แสดงความคิดเห็นต่อสิ่งใดสิ่งหนึ่ง ได้แก่ หนังสือ   ภาพยนตร์ งานศิลปะ   งานแสดงสินค้า  ละครโทรทัศน์ หรือละครเวที  </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วิจารณ์นอกจากจะช่วยพัฒนาทักษะการอ่านและช่วยเพิ่ม</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คลังคำศัพท์แล้ว สื่อชนิดนี้ยังสามารถใช้เพื่อพัฒนาทักษะการเขียนได้ด้วย</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การอ่านบทวิจารณ์ของนักเขียนหลายๆคน จะทำให้มุมมองของคุณกว้างขวาง อย่างไรก็ตามคุณไม่จำเป็นต้องเห็นด้วยถ้าคุณมีเหตุผลดีพอ</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ที่ใกล้ตัว ซึ่งคุณหาอ่านได้ง่ายจากอินเตอร์เน็ต และหนังสือพิมพ์ได้แก่ บทวิจารณ์หนัง ส่วนที่น่าสนใจในการอ่านบทวิจารณ์นอกจากความคิดเห็นที่หลากหลายแล้ว ในแง่ของภาษาคุณจะได้เรียนรู้การใช้คำแสดงความคิดเห็นในแง่ต่างๆ ดังตัวอย่างต่อไปนี้</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บวก</a:t>
            </a:r>
            <a:r>
              <a:rPr b="0" lang="en-US" sz="1000" spc="-1" strike="noStrike">
                <a:solidFill>
                  <a:srgbClr val="000000"/>
                </a:solidFill>
                <a:latin typeface="Cordia New"/>
                <a:ea typeface="Cordia New"/>
              </a:rPr>
              <a:t>: terrific, excellent, wonderful, brilliant, superb</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ำกลางๆ</a:t>
            </a:r>
            <a:r>
              <a:rPr b="0" lang="en-US" sz="1000" spc="-1" strike="noStrike">
                <a:solidFill>
                  <a:srgbClr val="000000"/>
                </a:solidFill>
                <a:latin typeface="Cordia New"/>
                <a:ea typeface="Cordia New"/>
              </a:rPr>
              <a:t>: nothing special, not very inspiring</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ลบ</a:t>
            </a:r>
            <a:r>
              <a:rPr b="0" lang="en-US" sz="1000" spc="-1" strike="noStrike">
                <a:solidFill>
                  <a:srgbClr val="000000"/>
                </a:solidFill>
                <a:latin typeface="Cordia New"/>
                <a:ea typeface="Cordia New"/>
              </a:rPr>
              <a:t>: horrible, awful, terrible</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7" name="Rectangle 194"/>
          <p:cNvSpPr/>
          <p:nvPr/>
        </p:nvSpPr>
        <p:spPr>
          <a:xfrm>
            <a:off x="6048360" y="475848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 type of reviews which you can easily access from the Internet or newspapers is movie reviews. Apart from enjoying different opinions from the critics, for language learning you can learn many word or expressions used for giving opinions as shown in the examples below:</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Positive</a:t>
            </a:r>
            <a:r>
              <a:rPr b="0" lang="en-US" sz="1200" spc="-1" strike="noStrike">
                <a:solidFill>
                  <a:srgbClr val="000000"/>
                </a:solidFill>
                <a:latin typeface="Calibri"/>
                <a:ea typeface="Cordia New"/>
              </a:rPr>
              <a:t>: terrific, excellent, wonderful, brilliant, superb, insightful, charm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utral</a:t>
            </a:r>
            <a:r>
              <a:rPr b="0" lang="en-US" sz="1200" spc="-1" strike="noStrike">
                <a:solidFill>
                  <a:srgbClr val="000000"/>
                </a:solidFill>
                <a:latin typeface="Calibri"/>
                <a:ea typeface="Cordia New"/>
              </a:rPr>
              <a:t>: nothing special, not very inspir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gative</a:t>
            </a:r>
            <a:r>
              <a:rPr b="0" lang="en-US" sz="1200" spc="-1" strike="noStrike">
                <a:solidFill>
                  <a:srgbClr val="000000"/>
                </a:solidFill>
                <a:latin typeface="Calibri"/>
                <a:ea typeface="Cordia New"/>
              </a:rPr>
              <a:t>: horrible, awful, terrible, senseless, disappointing</a:t>
            </a:r>
            <a:endParaRPr b="0" lang="en-US" sz="1200" spc="-1" strike="noStrike">
              <a:solidFill>
                <a:srgbClr val="000000"/>
              </a:solidFill>
              <a:latin typeface="Cordia New"/>
            </a:endParaRPr>
          </a:p>
        </p:txBody>
      </p:sp>
      <p:sp>
        <p:nvSpPr>
          <p:cNvPr id="48" name="Text Box 73"/>
          <p:cNvSpPr/>
          <p:nvPr/>
        </p:nvSpPr>
        <p:spPr>
          <a:xfrm>
            <a:off x="1079640" y="647640"/>
            <a:ext cx="3600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graphicFrame>
        <p:nvGraphicFramePr>
          <p:cNvPr id="49" name=""/>
          <p:cNvGraphicFramePr/>
          <p:nvPr/>
        </p:nvGraphicFramePr>
        <p:xfrm>
          <a:off x="277920" y="1449360"/>
          <a:ext cx="4608360" cy="5391000"/>
        </p:xfrm>
        <a:graphic>
          <a:graphicData uri="http://schemas.openxmlformats.org/drawingml/2006/table">
            <a:tbl>
              <a:tblPr/>
              <a:tblGrid>
                <a:gridCol w="2808360"/>
                <a:gridCol w="1800000"/>
              </a:tblGrid>
              <a:tr h="48096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00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39"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337440" y="115236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240000" y="1584360"/>
            <a:ext cx="1656000" cy="694656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วิจารณ์หนัง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ม ถ้าเป็นไปได้ควร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วิจารณ์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พื่อเ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ก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กรอกแผ่นบันทึกการเรียนรู้ และ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หาบทวิจารณ์ภาพยนตร์เรื่องเดียวกั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หลายๆแหล่งเพื่อเพิ่มความหลากหล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ๆ 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มเติม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จะหาบทวิจารณ์ภาพยนตร์ไ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ด้แก่ คอลัมน์ในหนังสือพิมพ์ นิตยสา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รสาร อินเตอร์เน็ต และรวมไปถึง </a:t>
            </a:r>
            <a:r>
              <a:rPr b="0" lang="en-US" sz="1000" spc="-1" strike="noStrike">
                <a:solidFill>
                  <a:srgbClr val="000000"/>
                </a:solidFill>
                <a:latin typeface="Cordia New"/>
                <a:ea typeface="Cordia New"/>
              </a:rPr>
              <a:t>Blog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p:txBody>
      </p:sp>
      <p:pic>
        <p:nvPicPr>
          <p:cNvPr id="59" name="Picture 25" descr="48"/>
          <p:cNvPicPr/>
          <p:nvPr/>
        </p:nvPicPr>
        <p:blipFill>
          <a:blip r:embed="rId3"/>
          <a:stretch/>
        </p:blipFill>
        <p:spPr>
          <a:xfrm>
            <a:off x="9288360" y="504720"/>
            <a:ext cx="912960" cy="1008000"/>
          </a:xfrm>
          <a:prstGeom prst="rect">
            <a:avLst/>
          </a:prstGeom>
          <a:ln w="0">
            <a:noFill/>
          </a:ln>
        </p:spPr>
      </p:pic>
      <p:graphicFrame>
        <p:nvGraphicFramePr>
          <p:cNvPr id="60" name=""/>
          <p:cNvGraphicFramePr/>
          <p:nvPr/>
        </p:nvGraphicFramePr>
        <p:xfrm>
          <a:off x="5921280" y="1655640"/>
          <a:ext cx="4608720" cy="4256280"/>
        </p:xfrm>
        <a:graphic>
          <a:graphicData uri="http://schemas.openxmlformats.org/drawingml/2006/table">
            <a:tbl>
              <a:tblPr/>
              <a:tblGrid>
                <a:gridCol w="2808360"/>
                <a:gridCol w="1800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14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The Love of Us</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romantic</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small romantic town in Franc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br>
                        <a:rPr sz="1000"/>
                      </a:br>
                      <a:r>
                        <a:rPr b="0" lang="en-US" sz="1000" spc="-1" strike="noStrike">
                          <a:solidFill>
                            <a:srgbClr val="000000"/>
                          </a:solidFill>
                          <a:latin typeface="Arial"/>
                        </a:rPr>
                        <a:t>in  1962</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t>
                      </a:r>
                      <a:r>
                        <a:rPr b="0" lang="th-TH" sz="1000" spc="-1" strike="noStrike">
                          <a:solidFill>
                            <a:srgbClr val="000000"/>
                          </a:solidFill>
                          <a:latin typeface="Arial"/>
                          <a:ea typeface="Angsana New"/>
                        </a:rPr>
                        <a:t>he intertwined lives of three European intellectual bohemians from 1912 to 1933.</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fatale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เสียหายที่เกิดจากเคราะห์กรรม</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chronicle  </a:t>
                      </a:r>
                      <a:r>
                        <a:rPr b="0" lang="th-TH" sz="1000" spc="-1" strike="noStrike">
                          <a:solidFill>
                            <a:srgbClr val="000000"/>
                          </a:solidFill>
                          <a:latin typeface="Cordia New"/>
                        </a:rPr>
                        <a:t>เป็นวงกลม</a:t>
                      </a:r>
                      <a:r>
                        <a:rPr b="0" lang="en-US" sz="1000" spc="-1" strike="noStrike">
                          <a:solidFill>
                            <a:srgbClr val="000000"/>
                          </a:solidFill>
                          <a:latin typeface="Cordia New"/>
                        </a:rPr>
                        <a:t>, </a:t>
                      </a:r>
                      <a:r>
                        <a:rPr b="0" lang="th-TH" sz="1000" spc="-1" strike="noStrike">
                          <a:solidFill>
                            <a:srgbClr val="000000"/>
                          </a:solidFill>
                          <a:latin typeface="Cordia New"/>
                        </a:rPr>
                        <a:t>วนไปมา</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unforgettable   </a:t>
                      </a:r>
                      <a:r>
                        <a:rPr b="0" lang="th-TH" sz="1000" spc="-1" strike="noStrike">
                          <a:solidFill>
                            <a:srgbClr val="000000"/>
                          </a:solidFill>
                          <a:latin typeface="Cordia New"/>
                        </a:rPr>
                        <a:t>ลืมไม่ลง</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free-spirited woma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ผู้หญิงที่มีจิตวิญญาณเป็นอิสระ</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leads to tragedy</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นำไปสู่โศกนาฏกรร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exploration of romantic</a:t>
                      </a:r>
                      <a:br>
                        <a:rPr sz="1000"/>
                      </a:b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love</a:t>
                      </a:r>
                      <a:r>
                        <a:rPr b="0" lang="en-US" sz="1000" spc="-1" strike="noStrike">
                          <a:solidFill>
                            <a:srgbClr val="000000"/>
                          </a:solidFill>
                          <a:latin typeface="Arial"/>
                          <a:ea typeface="Angsana New"/>
                        </a:rPr>
                        <a:t> </a:t>
                      </a:r>
                      <a:r>
                        <a:rPr b="0" lang="th-TH" sz="1000" spc="-1" strike="noStrike">
                          <a:solidFill>
                            <a:srgbClr val="000000"/>
                          </a:solidFill>
                          <a:latin typeface="Cordia New"/>
                        </a:rPr>
                        <a:t>การค้นหาความรักอันโรแมนติค</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761760"/>
            <a:ext cx="2952720" cy="420156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movie review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review once t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learning record.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tudy reviews from other critics to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hrases in your learning record, and d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further study from 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sources where you can get movie reviews a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umns in newspapers, magazines, journals, and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nternet including blogs. </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13Z</dcterms:modified>
  <cp:revision>1732</cp:revision>
  <dc:subject/>
  <dc:title>Slide 1</dc:title>
</cp:coreProperties>
</file>