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08962-9693-4F74-AFD8-6554D95C8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CDBA8-476F-41B2-80D6-41761D8C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5C85B-BAA8-433C-84B3-1E5FA2018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70C4C-97A8-4122-8CB8-0C48E72ED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DFE73-7976-4932-8AA2-E30EB51D5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83D5C-4A57-4CA9-A7A6-4A6E27716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BEED8-1B7C-4AFF-9E02-10456BDE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951E1-BE96-44FF-859A-F1B5B06D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812BC-625A-4C5A-AD4D-E5CD320AD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71A6-3530-4629-B942-3674C4476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111E0-09DB-48B0-8688-A6F06CF68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0508-E798-4D0D-A8F3-80EFD547B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F36B-A114-4025-B668-785B4D540547}"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008000" y="647640"/>
            <a:ext cx="4103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dvertisements</a:t>
            </a:r>
            <a:endParaRPr b="0" lang="en-US" sz="1800" spc="-1" strike="noStrike">
              <a:solidFill>
                <a:srgbClr val="000000"/>
              </a:solidFill>
              <a:latin typeface="Cordia New"/>
            </a:endParaRPr>
          </a:p>
        </p:txBody>
      </p:sp>
      <p:sp>
        <p:nvSpPr>
          <p:cNvPr id="44" name="Text Box 73"/>
          <p:cNvSpPr/>
          <p:nvPr/>
        </p:nvSpPr>
        <p:spPr>
          <a:xfrm>
            <a:off x="7129440" y="1440000"/>
            <a:ext cx="3311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advertisement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5! </a:t>
            </a:r>
            <a:endParaRPr b="0" lang="en-US" sz="1200" spc="-1" strike="noStrike">
              <a:solidFill>
                <a:srgbClr val="000000"/>
              </a:solidFill>
              <a:latin typeface="Cordia New"/>
            </a:endParaRPr>
          </a:p>
        </p:txBody>
      </p:sp>
      <p:sp>
        <p:nvSpPr>
          <p:cNvPr id="46" name="Rectangle 119"/>
          <p:cNvSpPr/>
          <p:nvPr/>
        </p:nvSpPr>
        <p:spPr>
          <a:xfrm>
            <a:off x="6048360" y="2202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dvertisements are a type of learning material which you can get easily from various sources e.g. newspapers, journals, magazines. Apart from this, advertisements are in the form of brochures, leaflets, or poster. You can also access them quickly via the Internet.</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advertisements is that they are attractive, concise and have a strong power of communication. You can learn vocabulary and a persuasive writing style using positive or persuasive words to present a product or service.</a:t>
            </a:r>
            <a:endParaRPr b="0" lang="en-US" sz="1200" spc="-1" strike="noStrike">
              <a:solidFill>
                <a:srgbClr val="000000"/>
              </a:solidFill>
              <a:latin typeface="Cordia New"/>
            </a:endParaRPr>
          </a:p>
        </p:txBody>
      </p:sp>
      <p:sp>
        <p:nvSpPr>
          <p:cNvPr id="47" name="Rectangle 147"/>
          <p:cNvSpPr/>
          <p:nvPr/>
        </p:nvSpPr>
        <p:spPr>
          <a:xfrm>
            <a:off x="9217080" y="2016000"/>
            <a:ext cx="13669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เป็นสื่อการเรียนรู้ที่หาได้ง่ายจากหลากหลายแหล่ง เช่น หนังสือพิมพ์ วารสาร นิตยสาร นอกจากโฆษณาที่ปรากฏในสื่อดังกล่าวแล้ว โฆษณายังอยู่ในรูปแบบของ แผ่นพับ ใบปลิว หรือป้าย และสื่อออนไลน์ก็เป็นแหล่งข้อมูลที่คุณสามารถหาโฆษณาได้อย่างสะดวกและรวดเร็ว</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มีการใช้ภาษาที่มีลักษณะพิเศษ คือดึงดูดใจ กระชับ และมีพลังในการสื่อสาร คุณสามารถเรียนรู้คำศัพท์และวิธีการเขียนเพื่อนำเสนอสินค้าและบริการ โดยใช้ถ้อยคำเชิงบวก หรือ เสนอแนวคิดที่ทำให้ผู้อ่านเห็นคล้อยตาม</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ยังนึกไม่ออกว่าจะเริ่มหาโฆษณษาจากที่ใด เริ่มจากใบปลิวในห้างสรรพสินค้าใกล้บ้านก่อน จากนั้นก็แผ่นพับของโรงแรม และวิธีที่เร็วที่สุดก็</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ทาง</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นเทอร์เนท</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8" name="Rectangle 194"/>
          <p:cNvSpPr/>
          <p:nvPr/>
        </p:nvSpPr>
        <p:spPr>
          <a:xfrm>
            <a:off x="6048360" y="5188680"/>
            <a:ext cx="2952720" cy="100656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If you cannot think of where to get an advertisement, start with leaflets from a department store near your house. You can also get brochures from hotels. And the quickest way is…. via the Internet!</a:t>
            </a:r>
            <a:endParaRPr b="0" lang="en-US" sz="1200" spc="-1" strike="noStrike">
              <a:solidFill>
                <a:srgbClr val="000000"/>
              </a:solidFill>
              <a:latin typeface="Cordia New"/>
            </a:endParaRPr>
          </a:p>
        </p:txBody>
      </p:sp>
      <p:graphicFrame>
        <p:nvGraphicFramePr>
          <p:cNvPr id="49" name=""/>
          <p:cNvGraphicFramePr/>
          <p:nvPr/>
        </p:nvGraphicFramePr>
        <p:xfrm>
          <a:off x="360360" y="1457280"/>
          <a:ext cx="4608360" cy="5400720"/>
        </p:xfrm>
        <a:graphic>
          <a:graphicData uri="http://schemas.openxmlformats.org/drawingml/2006/table">
            <a:tbl>
              <a:tblPr/>
              <a:tblGrid>
                <a:gridCol w="2906640"/>
                <a:gridCol w="1701720"/>
              </a:tblGrid>
              <a:tr h="5428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578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1008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75556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โฆษณา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2</a:t>
            </a:r>
            <a:r>
              <a:rPr b="1"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โฆษณา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วิเคราะห์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โฆษณา คว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มรวบรวมโฆษณาจากสื่อต่าง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วแยกประเภทตามความ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ด้านบันเทิง ธุรกิจ และเทคโนโลยี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ขอความช่วยเหลือจากเพื่อ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คนรู้จักที่เดินทางไปต่างประเทศ</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อยๆด้วยก็ได้</a:t>
            </a:r>
            <a:endParaRPr b="0" lang="en-US" sz="1000" spc="-1" strike="noStrike">
              <a:solidFill>
                <a:srgbClr val="000000"/>
              </a:solidFill>
              <a:latin typeface="Cordia New"/>
            </a:endParaRPr>
          </a:p>
        </p:txBody>
      </p:sp>
      <p:pic>
        <p:nvPicPr>
          <p:cNvPr id="59" name="Picture 24" descr="18"/>
          <p:cNvPicPr/>
          <p:nvPr/>
        </p:nvPicPr>
        <p:blipFill>
          <a:blip r:embed="rId3"/>
          <a:stretch/>
        </p:blipFill>
        <p:spPr>
          <a:xfrm>
            <a:off x="9217080" y="360360"/>
            <a:ext cx="1271520" cy="1800360"/>
          </a:xfrm>
          <a:prstGeom prst="rect">
            <a:avLst/>
          </a:prstGeom>
          <a:ln w="0">
            <a:noFill/>
          </a:ln>
        </p:spPr>
      </p:pic>
      <p:graphicFrame>
        <p:nvGraphicFramePr>
          <p:cNvPr id="60" name=""/>
          <p:cNvGraphicFramePr/>
          <p:nvPr/>
        </p:nvGraphicFramePr>
        <p:xfrm>
          <a:off x="5905440" y="1728720"/>
          <a:ext cx="4608720" cy="420696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Furniture catalo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Home furnit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Arial"/>
                          <a:ea typeface="Angsana New"/>
                        </a:rPr>
                        <a:t>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verybo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tise home furniture you can buy at IKEA</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furnishing sto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ke yourself at home.</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There is everything from …… to…..</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rowse at your leis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home accessory</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Cordia New"/>
                        </a:rPr>
                        <a:t>เครื่องใช้ในบ้าน</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kitchenware </a:t>
                      </a:r>
                      <a:r>
                        <a:rPr b="0" lang="th-TH" sz="1000" spc="-1" strike="noStrike">
                          <a:solidFill>
                            <a:srgbClr val="000000"/>
                          </a:solidFill>
                          <a:latin typeface="Cordia New"/>
                        </a:rPr>
                        <a:t>เครื่องครัว</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ink   </a:t>
                      </a:r>
                      <a:r>
                        <a:rPr b="0" lang="th-TH" sz="1000" spc="-1" strike="noStrike">
                          <a:solidFill>
                            <a:srgbClr val="000000"/>
                          </a:solidFill>
                          <a:latin typeface="Cordia New"/>
                        </a:rPr>
                        <a:t>อ่างล้างจาน</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troll through   </a:t>
                      </a:r>
                      <a:r>
                        <a:rPr b="0" lang="th-TH" sz="1000" spc="-1" strike="noStrike">
                          <a:solidFill>
                            <a:srgbClr val="000000"/>
                          </a:solidFill>
                          <a:latin typeface="Cordia New"/>
                        </a:rPr>
                        <a:t>เดินดู</a:t>
                      </a:r>
                      <a:r>
                        <a:rPr b="0" lang="th-TH" sz="1000" spc="-1" strike="noStrike">
                          <a:solidFill>
                            <a:srgbClr val="000000"/>
                          </a:solidFill>
                          <a:latin typeface="Cordia New"/>
                        </a:rPr>
                        <a:t>/</a:t>
                      </a:r>
                      <a:r>
                        <a:rPr b="0" lang="th-TH" sz="1000" spc="-1" strike="noStrike">
                          <a:solidFill>
                            <a:srgbClr val="000000"/>
                          </a:solidFill>
                          <a:latin typeface="Cordia New"/>
                        </a:rPr>
                        <a:t>ชม</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nique  </a:t>
                      </a:r>
                      <a:r>
                        <a:rPr b="0" lang="th-TH" sz="1000" spc="-1" strike="noStrike">
                          <a:solidFill>
                            <a:srgbClr val="000000"/>
                          </a:solidFill>
                          <a:latin typeface="Cordia New"/>
                        </a:rPr>
                        <a:t>มีความเป็นเอกลักษณ์</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531360"/>
            <a:ext cx="2952720" cy="465840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dvertisement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dvertisement on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analysi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advertisements, star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lecting them from various sources and classif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m according to your interest e.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ntertainment, business, technology. You ma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get help from friends or acquaintances wh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requently travel.</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3:34Z</dcterms:modified>
  <cp:revision>1732</cp:revision>
  <dc:subject/>
  <dc:title>Slide 1</dc:title>
</cp:coreProperties>
</file>