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799763" cy="71993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6E1-A92E-4C4A-A7EF-1738F1F8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AAF0-FC55-40FF-A546-4152AF19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CABD-AAC1-4AB8-AAE1-4CDEAC83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A97-DEDF-4AFB-90E8-BFA7EC1A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A9B-3C82-4BFF-83C5-D3A97211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D095-B6BE-4B77-9A72-665030F0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D66-0258-4C4A-A2DE-927BC347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199-AB1A-42E7-85C4-E6762689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ED6-ED81-4E63-B030-F9F759EA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2F3B-B1FF-47B6-8E15-FBA044E7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D87-552C-4908-830A-9DEDD5F8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74D-74C9-4899-A8F7-FF08A768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557760"/>
            <a:ext cx="25210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557760"/>
            <a:ext cx="34192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557760"/>
            <a:ext cx="252072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98A0-4F1C-43F0-8B4C-19994D178ED6}" type="slidenum">
              <a:rPr b="0" lang="en-US" sz="16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44360" y="4565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566720" y="6977160"/>
            <a:ext cx="424836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ngsana New"/>
              </a:rPr>
              <a:t>Copyright © 2011 Self-access Learning Centre, KMUTT </a:t>
            </a:r>
            <a:endParaRPr b="0" lang="en-US" sz="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3" name="Text Box 14"/>
          <p:cNvSpPr/>
          <p:nvPr/>
        </p:nvSpPr>
        <p:spPr>
          <a:xfrm>
            <a:off x="720720" y="647640"/>
            <a:ext cx="41054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ngsana New"/>
              </a:rPr>
              <a:t>Reading sayings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4" name="Text Box 73"/>
          <p:cNvSpPr/>
          <p:nvPr/>
        </p:nvSpPr>
        <p:spPr>
          <a:xfrm>
            <a:off x="6337440" y="1368360"/>
            <a:ext cx="42494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ayings</a:t>
            </a:r>
            <a:endParaRPr b="0" lang="en-US" sz="18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5" name="Text Box 118"/>
          <p:cNvSpPr/>
          <p:nvPr/>
        </p:nvSpPr>
        <p:spPr>
          <a:xfrm>
            <a:off x="7129440" y="504720"/>
            <a:ext cx="3240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Do you want to improve your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kill? Try this reading strategy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No.4!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6" name="Rectangle 119"/>
          <p:cNvSpPr/>
          <p:nvPr/>
        </p:nvSpPr>
        <p:spPr>
          <a:xfrm>
            <a:off x="6048360" y="2039040"/>
            <a:ext cx="2952720" cy="283176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Do you believe in the power of language? If you are not sure, think about the time when you read a good “saying”. Short sentences or even a single word can provoke your emotion. It is not surprising then why sayings are commonly used in writing or speeche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Sayings have come from gurus or world leaders in each period e.g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Confucius, </a:t>
            </a:r>
            <a:r>
              <a:rPr b="0" i="1" lang="de-DE" sz="1200" spc="-1" strike="noStrike">
                <a:solidFill>
                  <a:srgbClr val="000000"/>
                </a:solidFill>
                <a:latin typeface="Calibri"/>
                <a:ea typeface="Cordia New"/>
              </a:rPr>
              <a:t>Albert Einste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, </a:t>
            </a:r>
            <a:r>
              <a:rPr b="0" i="1" lang="th-TH" sz="1200" spc="-1" strike="noStrike">
                <a:solidFill>
                  <a:srgbClr val="000000"/>
                </a:solidFill>
                <a:latin typeface="Calibri"/>
                <a:ea typeface="Cordia New"/>
              </a:rPr>
              <a:t>Thomas Alva Edison</a:t>
            </a:r>
            <a:r>
              <a:rPr b="0" lang="th-TH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and even anonymous people. They vary in topics including love, loss, effort, success or thought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7" name="Rectangle 120"/>
          <p:cNvSpPr/>
          <p:nvPr/>
        </p:nvSpPr>
        <p:spPr>
          <a:xfrm>
            <a:off x="9072720" y="2079720"/>
            <a:ext cx="1589040" cy="70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ุณเชื่อในพลังของภาษาหรือไม่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?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ยังไม่แน่ใจ ลองนึกถึงตอนที่คุณอ่านคำคม หรือที่เรียกว่า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saying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ที่เขียนดีๆดู ประโยคสั้นๆ หรือบางครั้งเป็นเพียงคำไม่กี่คำ และแม้แต่คำเดียวก็สามารถเข้าถึงอารมณ์หรือความรู้สึกของคุณได้ จึงไม่น่าแปลกใจว่าทำไมคำคมต่างๆจึงมีคนนำมาใช้ในงานเขียนหรือการพูดโอกาสต่างๆอยู่เสมอ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ำคมมีหลากหลายตั้งแต่คำคมที่กล่าวโดยปราชญ์หรือบุคคลสำคัญของโลกแต่ละยุคสมัย เช่น ขงจื๊อ เล่าซือ  คนสำคัญของโลกเช่น ไอน์สไตน์ หรือเอดิสัน รวมถึงบุคคลธรรมดาที่ไม่ประสงค์จะออกนาม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(Anonymous)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หัวเรื่องก็มีหลากหลายทุกแง่มุมไม่ว่าจะเป็น ความรัก  ความผิดหวัง  ความพยายาม ความสำเร็จ หรือแง่คิดต่างๆ เป็นต้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สิ่งที่คุณจะเรียนรู้ได้จากคำคมนอกเหนือจากความหมายที่แฝงอยู่ก็คือ คำศัพท์รวมทั้งไวยากรณ์ตัวอย่างเช่น </a:t>
            </a:r>
            <a:br>
              <a:rPr sz="1000"/>
            </a:b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ำคมจากประเทศจีนที่คัดมานี้มีไวยากรณ์ที่เห็นเด่นชัดคือ การใช้ประโยคเงื่อนไข รวมทั้งการใช้เครื่องหมาย </a:t>
            </a:r>
            <a:r>
              <a:rPr b="1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;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ในประโยค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Gulim"/>
              </a:rPr>
              <a:t>If you want happiness for an hour, take a nap. …. If you want happiness for a year, inherit a fortune.   If you want happiness for a lifetime, help someone else.   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48" name="Rectangle 194"/>
          <p:cNvSpPr/>
          <p:nvPr/>
        </p:nvSpPr>
        <p:spPr>
          <a:xfrm>
            <a:off x="6048360" y="5246640"/>
            <a:ext cx="2952720" cy="17366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You can learn the hidden meaning from sayings as well as vocabulary and grammar. The following saying from China shows the use of conditionals and punctuation (,): 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Gulim"/>
              </a:rPr>
              <a:t>If you want happiness for an hour, take a nap. …. If you want happiness for a year, inherit a fortune.   If you want happiness for a lifetime, help someone else.   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0360" y="1401840"/>
          <a:ext cx="4608360" cy="543852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52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etails of the sayings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  <a:cs typeface="Tahoma"/>
                        </a:rPr>
                        <a:t>รายละเอียดของคำค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-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Topic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หัวข้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คำค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- 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rite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ผู้เขีย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 – Grammatical points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My opinion about it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วามคิด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-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Topic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หัวข้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คำค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- 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rite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ผู้เขีย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 – Grammtatical points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My opinion about it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วามคิด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36" descr="60"/>
          <p:cNvPicPr/>
          <p:nvPr/>
        </p:nvPicPr>
        <p:blipFill>
          <a:blip r:embed="rId1"/>
          <a:stretch/>
        </p:blipFill>
        <p:spPr>
          <a:xfrm>
            <a:off x="6121440" y="216000"/>
            <a:ext cx="841320" cy="12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7" descr="60"/>
          <p:cNvPicPr/>
          <p:nvPr/>
        </p:nvPicPr>
        <p:blipFill>
          <a:blip r:embed="rId2"/>
          <a:stretch/>
        </p:blipFill>
        <p:spPr>
          <a:xfrm>
            <a:off x="360360" y="216000"/>
            <a:ext cx="792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5"/>
          <p:cNvSpPr/>
          <p:nvPr/>
        </p:nvSpPr>
        <p:spPr>
          <a:xfrm>
            <a:off x="8280360" y="32500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</p:txBody>
      </p:sp>
      <p:pic>
        <p:nvPicPr>
          <p:cNvPr id="53" name="Picture 20" descr="54"/>
          <p:cNvPicPr/>
          <p:nvPr/>
        </p:nvPicPr>
        <p:blipFill>
          <a:blip r:embed="rId1"/>
          <a:stretch/>
        </p:blipFill>
        <p:spPr>
          <a:xfrm>
            <a:off x="3529080" y="216000"/>
            <a:ext cx="74592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2" descr="9"/>
          <p:cNvPicPr/>
          <p:nvPr/>
        </p:nvPicPr>
        <p:blipFill>
          <a:blip r:embed="rId2"/>
          <a:stretch/>
        </p:blipFill>
        <p:spPr>
          <a:xfrm>
            <a:off x="360360" y="5905440"/>
            <a:ext cx="1008000" cy="1224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3"/>
          <p:cNvSpPr/>
          <p:nvPr/>
        </p:nvSpPr>
        <p:spPr>
          <a:xfrm>
            <a:off x="1440000" y="6206400"/>
            <a:ext cx="1512720" cy="550800"/>
          </a:xfrm>
          <a:prstGeom prst="rect">
            <a:avLst/>
          </a:prstGeom>
          <a:noFill/>
          <a:ln w="19080">
            <a:solidFill>
              <a:srgbClr val="99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See an example of how to use our learning record on the next page.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6" name="Text Box 51"/>
          <p:cNvSpPr/>
          <p:nvPr/>
        </p:nvSpPr>
        <p:spPr>
          <a:xfrm>
            <a:off x="6408720" y="647640"/>
            <a:ext cx="25923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Example</a:t>
            </a:r>
            <a:r>
              <a:rPr b="0" lang="en-US" sz="1800" spc="-1" strike="noStrike">
                <a:solidFill>
                  <a:srgbClr val="000000"/>
                </a:solidFill>
                <a:latin typeface="Cordia New"/>
                <a:ea typeface="Cordia New"/>
              </a:rPr>
              <a:t>    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อย่างการกรอกแผ่นบันทึก</a:t>
            </a:r>
            <a:endParaRPr b="0" lang="en-US" sz="1600" spc="-1" strike="noStrike">
              <a:solidFill>
                <a:srgbClr val="000000"/>
              </a:solidFill>
              <a:latin typeface="Cordia New"/>
            </a:endParaRPr>
          </a:p>
        </p:txBody>
      </p:sp>
      <p:sp>
        <p:nvSpPr>
          <p:cNvPr id="57" name="Rectangle 147"/>
          <p:cNvSpPr/>
          <p:nvPr/>
        </p:nvSpPr>
        <p:spPr>
          <a:xfrm>
            <a:off x="3313080" y="1584360"/>
            <a:ext cx="1440000" cy="72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ใช้แผ่นบันทึกการเรียนรู้นี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ลือกคำคมที่คุณสนใจ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รียนรู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ตรียมพจนานุกรมไว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หลายๆเล่ม ถ้าเป็นไปได้ควรใช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จนานุกรมภาษาอังกฤษ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-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ังกฤษ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คุณสะดวกอาจค้นคว้าจาก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พจนานุกรมออนไลน์ก็ได้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3</a:t>
            </a:r>
            <a:r>
              <a:rPr b="1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่านคำคมสัก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รอบก่อน เพื่อทำความเข้าใจคร่าวๆ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4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่านซ้ำอีก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1 – 2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รอบ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พื่อเก็บรายละเอียด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ั้นตอนที่ </a:t>
            </a: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ea typeface="Cordia New"/>
              </a:rPr>
              <a:t>5</a:t>
            </a:r>
            <a:r>
              <a:rPr b="1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อกรายละเอียด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วามคิดเห็นของคุณกับคำคมที่อ่า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ละกรอกศัพท์หรือไวยากรณ์ที่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น่าเรียนรู้ลงในแผ่นบันทึกเพิ่มเติ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 u="sng">
                <a:solidFill>
                  <a:srgbClr val="000000"/>
                </a:solidFill>
                <a:uFillTx/>
                <a:latin typeface="Cordia New"/>
                <a:cs typeface="Cordia New"/>
              </a:rPr>
              <a:t>ข้อเสนอแนะเพิ่มเติ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มีเวลาคุณควรทำแฟ้มสะสมคำคม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จัดแบ่งแฟ้มไว้เป็นหมวดหมู่ตามที่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คุณสนใจ ทดลองแปลคำคมด้วย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ตัวเอง นอกจากจะได้ฝึกคุณจะได้ฝึก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่านแล้วคุณยังจะได้ฝึกการ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สร้างสรรคภาษาไทยทีสวยงามไปใ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ขณะเดียวกัน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304920" indent="-304920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  <p:pic>
        <p:nvPicPr>
          <p:cNvPr id="58" name="Picture 27" descr="44"/>
          <p:cNvPicPr/>
          <p:nvPr/>
        </p:nvPicPr>
        <p:blipFill>
          <a:blip r:embed="rId3"/>
          <a:stretch/>
        </p:blipFill>
        <p:spPr>
          <a:xfrm>
            <a:off x="9145440" y="144360"/>
            <a:ext cx="90648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5934240" y="1368360"/>
          <a:ext cx="4608360" cy="487836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2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etails of the sayings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  <a:cs typeface="Tahoma"/>
                        </a:rPr>
                        <a:t>รายละเอียดของคำค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-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Topic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-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หัวข้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___.com - - Motivation for wor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(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แรงจูงใจในการทำงาน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ing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--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rite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ค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 -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ผู้เขีย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Nothing happens until something moves.   --Albert Einst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 – Grammatical points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Nothing = singular sub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My opinion about it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วามคิด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This saying is short but powerful. Whenever I feel discouraged about getting my work done, I think about it!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Source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ที่มา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-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Topic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  <a:ea typeface="Tahoma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หัวข้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ww.___.com - -  Teaching and learning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(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การเรียนการสอน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ing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คำค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- 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write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Bradley Hand ITC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ผู้เขียน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You cannot teach a man anything; you can only help him find it within himself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-- Galil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Vocabulary – Grammatical points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ำศัพท์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-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ไวยากรณ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How to use ; in a sente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My opinion about it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   </a:t>
                      </a:r>
                      <a:r>
                        <a:rPr b="0" lang="th-TH" sz="1000" spc="-1" strike="noStrike">
                          <a:solidFill>
                            <a:srgbClr val="000000"/>
                          </a:solidFill>
                          <a:latin typeface="Cordia New"/>
                        </a:rPr>
                        <a:t>ความคิดเห็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ngsana New"/>
                        </a:rPr>
                        <a:t>I think it’s great to motivate me to study by myself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rdia New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37"/>
          <p:cNvSpPr/>
          <p:nvPr/>
        </p:nvSpPr>
        <p:spPr>
          <a:xfrm>
            <a:off x="216000" y="720360"/>
            <a:ext cx="2952720" cy="42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ordia New"/>
              </a:rPr>
              <a:t>How to use this learning record </a:t>
            </a:r>
            <a:endParaRPr b="0" lang="en-US" sz="14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Choose a saying you might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enjoy reading.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Prepare some dictionaries, if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possible English-English and standard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ones. You may also work with online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dictionarie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3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Read the saying once to get its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gist.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4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Reread it once or twice to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understand more details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Step 5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 Fill in your opinion about the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saying. Then add interesting vocabulary 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or grammar in the learning record.</a:t>
            </a: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Calibri"/>
                <a:ea typeface="Cordia New"/>
              </a:rPr>
              <a:t>Further suggestions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If you have some spare time, try keeping a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saying file. Categorize the sayings according to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your interest and try translating them by your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own. Apart from practising reading, you will also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sharpen your creative use of beautiful Thai 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language at the same time!</a:t>
            </a: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rdi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oot</cp:lastModifiedBy>
  <dcterms:modified xsi:type="dcterms:W3CDTF">2015-05-11T16:33:10Z</dcterms:modified>
  <cp:revision>1732</cp:revision>
  <dc:subject/>
  <dc:title>Slide 1</dc:title>
</cp:coreProperties>
</file>