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B87-C717-4249-8C1F-9C872B2C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5E6-3002-4B53-B2B0-0D340C7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FA3-C558-48B3-B0EA-FEEA9D21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103-659A-4749-9636-017FD240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346-0F7B-46B1-8FCB-12973A5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633-26B1-4FF8-A7D0-3594841B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348-1A36-4BF4-A36A-426880C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075-3103-48BC-AACD-26ED2DA9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35E-0866-403C-A059-478E6BB3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046-33EC-4C8C-8923-FC2B999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D85-E5C1-4091-A24C-9DF6ACE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6A9-AFAD-4932-A70D-8F84A5E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6DA6-F1BF-44FA-9D15-1AC57D6D57B0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720720" y="647640"/>
            <a:ext cx="4105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saying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337440" y="1368360"/>
            <a:ext cx="4249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4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2039040"/>
            <a:ext cx="2952720" cy="2831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believe in the power of language? If you are not sure, think about the time when you read a good “saying”. Short sentences or even a single word can provoke your emotion. It is not surprising then why sayings are commonly used in writing or speech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s have come from gurus or world leaders in each period e.g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nfucius,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, </a:t>
            </a:r>
            <a:r>
              <a:rPr b="0" i="1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Thomas Alva Edison</a:t>
            </a: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nd even anonymous people. They vary in topics including love, loss, effort, success or thought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20"/>
          <p:cNvSpPr/>
          <p:nvPr/>
        </p:nvSpPr>
        <p:spPr>
          <a:xfrm>
            <a:off x="9072720" y="2079720"/>
            <a:ext cx="1589040" cy="70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เชื่อในพลังของภาษาหรือไม่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?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ยังไม่แน่ใจ ลองนึกถึงตอนที่คุณอ่านคำคม หรือที่เรียกว่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saying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ขียนดีๆดู ประโยคสั้นๆ หรือบางครั้งเป็นเพียงคำไม่กี่คำ และแม้แต่คำเดียวก็สามารถเข้าถึงอารมณ์หรือความรู้สึกของคุณได้ จึงไม่น่าแปลกใจว่าทำไมคำคมต่างๆจึงมีคนนำมาใช้ในงานเขียนหรือการพูดโอกาสต่างๆอยู่เสม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มีหลากหลายตั้งแต่คำคมที่กล่าวโดยปราชญ์หรือบุคคลสำคัญของโลกแต่ละยุคสมัย เช่น ขงจื๊อ เล่าซือ  คนสำคัญของโลกเช่น ไอน์สไตน์ หรือเอดิสัน รวมถึงบุคคลธรรมดาที่ไม่ประสงค์จะออก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Anonymou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หัวเรื่องก็มีหลากหลายทุกแง่มุมไม่ว่าจะเป็น ความรัก  ความผิดหวัง  ความพยายาม ความสำเร็จ หรือแง่คิดต่างๆ เป็นต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ที่คุณจะเรียนรู้ได้จากคำคมนอกเหนือจากความหมายที่แฝงอยู่ก็คือ คำศัพท์รวมทั้งไวยากรณ์ตัวอย่างเช่น 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จากประเทศจีนที่คัดมานี้มีไวยากรณ์ที่เห็นเด่นชัดคือ การใช้ประโยคเงื่อนไข รวมทั้งการใช้เครื่องหมาย 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;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ประโยค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48360" y="5246640"/>
            <a:ext cx="2952720" cy="17366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learn the hidden meaning from sayings as well as vocabulary and grammar. The following saying from China shows the use of conditionals and punctuation (,): 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01840"/>
          <a:ext cx="4608360" cy="54385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t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36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3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408720" y="64764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Rectangle 147"/>
          <p:cNvSpPr/>
          <p:nvPr/>
        </p:nvSpPr>
        <p:spPr>
          <a:xfrm>
            <a:off x="3313080" y="1584360"/>
            <a:ext cx="144000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คมที่คุณสนใ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คมสั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ก่อน เพื่อทำความเข้าใจคร่าวๆ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ก็บรายละเอียด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5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รายละเอีย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คิดเห็นของคุณกับคำคมที่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รอกศัพท์หรือไวยากรณ์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่าเรียนรู้ลงในแผ่นบันทึก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มีเวลาคุณควรทำแฟ้มสะสมคำค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จัดแบ่งแฟ้มไว้เป็นหมวดหมู่ตาม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 ทดลองแปลคำคม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เอง นอกจากจะได้ฝึกคุณจะได้ฝึ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แล้วคุณยังจะได้ฝึกก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้างสรรคภาษาไทยทีสวยงามไป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ขณะเดียวกั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8" name="Picture 27" descr="44"/>
          <p:cNvPicPr/>
          <p:nvPr/>
        </p:nvPicPr>
        <p:blipFill>
          <a:blip r:embed="rId3"/>
          <a:stretch/>
        </p:blipFill>
        <p:spPr>
          <a:xfrm>
            <a:off x="9145440" y="144360"/>
            <a:ext cx="90648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34240" y="1368360"/>
          <a:ext cx="4608360" cy="487836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-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Motivation for wor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แรงจูงใจในการทำงา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happens until something moves.   --Albert Ei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= singular 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This saying is short but powerful. Whenever I feel discouraged about getting my work done, I think about it!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 Teaching and learn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การเรียนการสอ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 cannot teach a man anything; you can only help him find it within himsel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-- Gali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How to use ; in a sent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I think it’s great to motivate me to study by mysel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7"/>
          <p:cNvSpPr/>
          <p:nvPr/>
        </p:nvSpPr>
        <p:spPr>
          <a:xfrm>
            <a:off x="216000" y="720360"/>
            <a:ext cx="295272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saying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saying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it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Fill in your opinion about th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. Then add interesting vocabulary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r grammar in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have some spare time, try keeping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aying file. Categorize the sayings according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r interest and try translating them by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own. Apart from practising reading, you will als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harpen your creative use of beautiful Thai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anguage at the same time!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3:10Z</dcterms:modified>
  <cp:revision>1732</cp:revision>
  <dc:subject/>
  <dc:title>Slide 1</dc:title>
</cp:coreProperties>
</file>