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799763" cy="71993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9D4B-1277-45BF-B739-7CD9BC2A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26A-458B-41AE-954A-3A62DC84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9CB-3B3E-4274-AE3A-A508F0C5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756-0707-47E5-A20D-A7CE29B5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053-D55E-48E1-890C-E2532AD7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681-8A5F-4389-9AE6-8FED2A20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7A6-C77C-42AC-B6D9-10368F3C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CE9-254F-4442-ADDB-1DFF9B80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0CA-BAE0-4656-BD60-7BFB9990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6E2-261C-4B2B-BFD2-2EB1A144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B49B-1378-498E-903D-5F9B87F2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F2E-563E-40FB-9870-7B9553A1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557760"/>
            <a:ext cx="25210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557760"/>
            <a:ext cx="34192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557760"/>
            <a:ext cx="252072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5209-9F66-4295-BF95-A9F049F7BEC2}" type="slidenum"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44360" y="456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66720" y="6977160"/>
            <a:ext cx="424836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ngsana New"/>
              </a:rPr>
              <a:t>Copyright © 2011 Self-access Learning Centre, KMUTT </a:t>
            </a:r>
            <a:endParaRPr b="0" lang="en-US" sz="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720720" y="647640"/>
            <a:ext cx="41054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ngsana New"/>
              </a:rPr>
              <a:t>Reading sayings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4" name="Text Box 73"/>
          <p:cNvSpPr/>
          <p:nvPr/>
        </p:nvSpPr>
        <p:spPr>
          <a:xfrm>
            <a:off x="6337440" y="1368360"/>
            <a:ext cx="42494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ayings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5" name="Text Box 118"/>
          <p:cNvSpPr/>
          <p:nvPr/>
        </p:nvSpPr>
        <p:spPr>
          <a:xfrm>
            <a:off x="7129440" y="504720"/>
            <a:ext cx="3240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o you want to improve your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kill? Try this reading strategy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No.4!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6" name="Rectangle 119"/>
          <p:cNvSpPr/>
          <p:nvPr/>
        </p:nvSpPr>
        <p:spPr>
          <a:xfrm>
            <a:off x="6048360" y="2039040"/>
            <a:ext cx="2952720" cy="28317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o you believe in the power of language? If you are not sure, think about the time when you read a good “saying”. Short sentences or even a single word can provoke your emotion. It is not surprising then why sayings are commonly used in writing or speech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Sayings have come from gurus or world leaders in each period e.g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Confucius,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  <a:ea typeface="Cordia New"/>
              </a:rPr>
              <a:t>Albert Einste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, </a:t>
            </a:r>
            <a:r>
              <a:rPr b="0" i="1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Thomas Alva Edison</a:t>
            </a:r>
            <a:r>
              <a:rPr b="0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and even anonymous people. They vary in topics including love, loss, effort, success or thought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7" name="Rectangle 120"/>
          <p:cNvSpPr/>
          <p:nvPr/>
        </p:nvSpPr>
        <p:spPr>
          <a:xfrm>
            <a:off x="9072720" y="2079720"/>
            <a:ext cx="1589040" cy="70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เชื่อในพลังของภาษาหรือไม่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?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ยังไม่แน่ใจ ลองนึกถึงตอนที่คุณอ่านคำคม หรือที่เรียกว่า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saying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ที่เขียนดีๆดู ประโยคสั้นๆ หรือบางครั้งเป็นเพียงคำไม่กี่คำ และแม้แต่คำเดียวก็สามารถเข้าถึงอารมณ์หรือความรู้สึกของคุณได้ จึงไม่น่าแปลกใจว่าทำไมคำคมต่างๆจึงมีคนนำมาใช้ในงานเขียนหรือการพูดโอกาสต่างๆอยู่เสมอ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คมมีหลากหลายตั้งแต่คำคมที่กล่าวโดยปราชญ์หรือบุคคลสำคัญของโลกแต่ละยุคสมัย เช่น ขงจื๊อ เล่าซือ  คนสำคัญของโลกเช่น ไอน์สไตน์ หรือเอดิสัน รวมถึงบุคคลธรรมดาที่ไม่ประสงค์จะออกนาม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(Anonymous)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หัวเรื่องก็มีหลากหลายทุกแง่มุมไม่ว่าจะเป็น ความรัก  ความผิดหวัง  ความพยายาม ความสำเร็จ หรือแง่คิดต่างๆ เป็นต้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สิ่งที่คุณจะเรียนรู้ได้จากคำคมนอกเหนือจากความหมายที่แฝงอยู่ก็คือ คำศัพท์รวมทั้งไวยากรณ์ตัวอย่างเช่น </a:t>
            </a:r>
            <a:br>
              <a:rPr sz="1000"/>
            </a:b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คมจากประเทศจีนที่คัดมานี้มีไวยากรณ์ที่เห็นเด่นชัดคือ การใช้ประโยคเงื่อนไข รวมทั้งการใช้เครื่องหมาย </a:t>
            </a:r>
            <a:r>
              <a:rPr b="1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;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นประโยค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If you want happiness for an hour, take a nap. …. If you want happiness for a year, inherit a fortune.   If you want happiness for a lifetime, help someone else.   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8" name="Rectangle 194"/>
          <p:cNvSpPr/>
          <p:nvPr/>
        </p:nvSpPr>
        <p:spPr>
          <a:xfrm>
            <a:off x="6048360" y="5246640"/>
            <a:ext cx="2952720" cy="17366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You can learn the hidden meaning from sayings as well as vocabulary and grammar. The following saying from China shows the use of conditionals and punctuation (,): 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If you want happiness for an hour, take a nap. …. If you want happiness for a year, inherit a fortune.   If you want happiness for a lifetime, help someone else.   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360" y="1401840"/>
          <a:ext cx="4608360" cy="543852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52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tails of the sayings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  <a:cs typeface="Tahoma"/>
                        </a:rPr>
                        <a:t>รายละเอียดของคำค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-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opic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หัวข้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คำค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- 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rit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ผู้เขีย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 – Grammatical point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y opinion about it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วามคิด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-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opic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หัวข้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คำค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- 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rit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ผู้เขีย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 – Grammtatical point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y opinion about it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วามคิด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36" descr="60"/>
          <p:cNvPicPr/>
          <p:nvPr/>
        </p:nvPicPr>
        <p:blipFill>
          <a:blip r:embed="rId1"/>
          <a:stretch/>
        </p:blipFill>
        <p:spPr>
          <a:xfrm>
            <a:off x="6121440" y="216000"/>
            <a:ext cx="84132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60"/>
          <p:cNvPicPr/>
          <p:nvPr/>
        </p:nvPicPr>
        <p:blipFill>
          <a:blip r:embed="rId2"/>
          <a:stretch/>
        </p:blipFill>
        <p:spPr>
          <a:xfrm>
            <a:off x="360360" y="216000"/>
            <a:ext cx="792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5"/>
          <p:cNvSpPr/>
          <p:nvPr/>
        </p:nvSpPr>
        <p:spPr>
          <a:xfrm>
            <a:off x="8280360" y="3250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53" name="Picture 20" descr="54"/>
          <p:cNvPicPr/>
          <p:nvPr/>
        </p:nvPicPr>
        <p:blipFill>
          <a:blip r:embed="rId1"/>
          <a:stretch/>
        </p:blipFill>
        <p:spPr>
          <a:xfrm>
            <a:off x="3529080" y="216000"/>
            <a:ext cx="74592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2" descr="9"/>
          <p:cNvPicPr/>
          <p:nvPr/>
        </p:nvPicPr>
        <p:blipFill>
          <a:blip r:embed="rId2"/>
          <a:stretch/>
        </p:blipFill>
        <p:spPr>
          <a:xfrm>
            <a:off x="360360" y="5905440"/>
            <a:ext cx="1008000" cy="1224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3"/>
          <p:cNvSpPr/>
          <p:nvPr/>
        </p:nvSpPr>
        <p:spPr>
          <a:xfrm>
            <a:off x="1440000" y="6206400"/>
            <a:ext cx="1512720" cy="550800"/>
          </a:xfrm>
          <a:prstGeom prst="rect">
            <a:avLst/>
          </a:prstGeom>
          <a:noFill/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See an example of how to use our learning record on the next page.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6" name="Text Box 51"/>
          <p:cNvSpPr/>
          <p:nvPr/>
        </p:nvSpPr>
        <p:spPr>
          <a:xfrm>
            <a:off x="6408720" y="647640"/>
            <a:ext cx="25923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การกรอกแผ่นบันทึก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7" name="Rectangle 147"/>
          <p:cNvSpPr/>
          <p:nvPr/>
        </p:nvSpPr>
        <p:spPr>
          <a:xfrm>
            <a:off x="3313080" y="1584360"/>
            <a:ext cx="1440000" cy="72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ใช้แผ่นบันทึกการเรียนรู้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คำคมที่คุณสนใจ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รียนรู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ตรียมพจนานุกรมไว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หลายๆเล่ม ถ้าเป็นไปได้ควรใช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จนานุกรมภาษาอังกฤษ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ังกฤษ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คุณสะดวกอาจค้นคว้าจา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จนานุกรมออนไลน์ก็ได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3</a:t>
            </a:r>
            <a:r>
              <a:rPr b="1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คำคมสัก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รอบก่อน เพื่อทำความเข้าใจคร่าวๆ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4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ซ้ำอีก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– 2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รอบ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พื่อเก็บรายละเอียด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5</a:t>
            </a:r>
            <a:r>
              <a:rPr b="1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อกรายละเอียด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คิดเห็นของคุณกับคำคมที่อ่า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กรอกศัพท์หรือไวยากรณ์ที่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น่าเรียนรู้ลงในแผ่นบันทึกเพิ่มเติ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้อเสนอแนะเพิ่มเติ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มีเวลาคุณควรทำแฟ้มสะสมคำค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จัดแบ่งแฟ้มไว้เป็นหมวดหมู่ตามที่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สนใจ ทดลองแปลคำคมด้วย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เอง นอกจากจะได้ฝึกคุณจะได้ฝึ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่านแล้วคุณยังจะได้ฝึกกา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สร้างสรรคภาษาไทยทีสวยงามไปใ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ขณะเดียวกั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58" name="Picture 27" descr="44"/>
          <p:cNvPicPr/>
          <p:nvPr/>
        </p:nvPicPr>
        <p:blipFill>
          <a:blip r:embed="rId3"/>
          <a:stretch/>
        </p:blipFill>
        <p:spPr>
          <a:xfrm>
            <a:off x="9145440" y="144360"/>
            <a:ext cx="90648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5934240" y="1368360"/>
          <a:ext cx="4608360" cy="487836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tails of the saying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  <a:cs typeface="Tahoma"/>
                        </a:rPr>
                        <a:t>รายละเอียดของคำค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-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opic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-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หัวข้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___.com - - Motivation for wor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(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แรงจูงใจในการทำงาน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--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rit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ค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-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ผู้เขีย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thing happens until something moves.   --Albert Eins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 – Grammatical point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thing = singular sub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y opinion about it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วามคิด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This saying is short but powerful. Whenever I feel discouraged about getting my work done, I think about it!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-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opic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หัวข้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___.com - -  Teaching and learn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(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การเรียนการสอน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คำค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- 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rit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ผู้เขีย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You cannot teach a man anything; you can only help him find it within himself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-- Galil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 – Grammatical point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How to use ; in a sent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y opinion about it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วามคิด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I think it’s great to motivate me to study by myself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37"/>
          <p:cNvSpPr/>
          <p:nvPr/>
        </p:nvSpPr>
        <p:spPr>
          <a:xfrm>
            <a:off x="216000" y="720360"/>
            <a:ext cx="2952720" cy="42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ordia New"/>
              </a:rPr>
              <a:t>How to use this learning record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Choose a saying you might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enjoy reading.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Prepare some dictionaries, if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possible English-English and standard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ones. You may also work with online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ictionari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3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Read the saying once to get its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gist.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4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Reread it once or twice to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understand more detail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Fill in your opinion about the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saying. Then add interesting vocabulary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or grammar in the learning record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Further suggestions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If you have some spare time, try keeping a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saying file. Categorize the sayings according to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your interest and try translating them by your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own. Apart from practising reading, you will also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sharpen your creative use of beautiful Thai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language at the same time!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oot</cp:lastModifiedBy>
  <dcterms:modified xsi:type="dcterms:W3CDTF">2015-05-11T16:33:10Z</dcterms:modified>
  <cp:revision>1732</cp:revision>
  <dc:subject/>
  <dc:title>Slide 1</dc:title>
</cp:coreProperties>
</file>