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3AB-3827-4DE0-B434-9DF036D8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315B-61D0-4E12-BD4C-89B735F7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742D-EAB2-46E4-AB9A-99FA1C30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81A-CF13-4563-868E-F812AF8C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E71-C49A-48C8-9033-2337D9D7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F01-9793-42EF-A19A-F25A89A1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611-058F-455C-96E7-E63C83E9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D877-9CC7-426E-86E1-B1ECAF9A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288-B7B4-4FC7-AE4E-B9EC50C7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A72-BC0A-455D-BAAC-DC48C523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312-2822-44B8-B210-98133F1A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B13-710B-4852-BAC4-8CC9AA0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548F-FC69-464B-AFD2-0E162E62DF14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1170000" y="647640"/>
            <a:ext cx="3673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696000" y="1368360"/>
            <a:ext cx="3456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photo caption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3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1875960"/>
            <a:ext cx="2952720" cy="3561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 of the things that draws our attention when reading like magazines, journals or newspapers, together with topics or news headlines, is pictur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 picture is worth a thousand words.” This saying is always true, and what helps explain a picture is the description below it – caption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Captions written by a professional are interesting. This is because they answers 5 key questions about the picture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Who/What is shown in the picture?, What happened in the picture?,  When did it happen?, Where did it happen?, and Why did it happen?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47"/>
          <p:cNvSpPr/>
          <p:nvPr/>
        </p:nvSpPr>
        <p:spPr>
          <a:xfrm>
            <a:off x="9099720" y="2016000"/>
            <a:ext cx="170172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การอ่านสิ่งพิมพ์ต่างๆ เช่น นิตยสาร วารสาร หรือหนังสือพิมพ์สิ่งที่ดึงดูดสายตาเรามากที่สุดก็คือ หัวเรื่อง หัวข้อข่าว แต่ที่ไม่ยิ่งหย่อนไปกว่ากันคือรูปภาพ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“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 picture is worth a thousand words.”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กล่าวที่ว่ารูปภาพสื่อความหมายแทนคำได้เป็นพันๆคำนั้นเป็นความจริงเสมอ และสิ่งที่ช่วยขยายความให้รูปภาพก็คือ 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!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มีความน่าสนใจ โดยเฉพาะถ้าเขียนโดยมืออาชีพ สิ่งที่เขียนจะครอบคลุมการตอบคำถ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5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านหลัก ได้แก่ ภาพที่เห็นเป็นภาพใครหรืออะไร เกิดอะไรขึ้นในภาพ เมือไหร่หรือที่ไหน และทำไมถึงเกิดสิ่งนั้นขึ้นหรือเกิดขึ้นได้อย่างไ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อกจากนี้สิ่งที่น่าเรียนรู้จากคำบรรยายรูปภาพคือ สำนวนที่ใช้บรรยายตำแหน่งในรูป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ช่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above, upper left, clockwise from top left, standing to the left of the sofa, center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แม้จะเป็นคำบรรยายเพียงบรรทัดเดียว คุณก็ยังสามารถเรียนรู้ไวยากรณ์ในโครงสร้างประโยคได้อีก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67440" y="5583240"/>
            <a:ext cx="2952720" cy="155412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also learn about expressions used for locating people or objects form captions e.g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bove, upper left, clockwise from top left, standing to the left of the sofa, center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And… even form only single sentence, you can also learn grammar!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71680"/>
          <a:ext cx="4608360" cy="5441760"/>
        </p:xfrm>
        <a:graphic>
          <a:graphicData uri="http://schemas.openxmlformats.org/drawingml/2006/table">
            <a:tbl>
              <a:tblPr/>
              <a:tblGrid>
                <a:gridCol w="3024360"/>
                <a:gridCol w="1584000"/>
              </a:tblGrid>
              <a:tr h="47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are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48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9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4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6192720" y="79200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8" name="Rectangle 147"/>
          <p:cNvSpPr/>
          <p:nvPr/>
        </p:nvSpPr>
        <p:spPr>
          <a:xfrm>
            <a:off x="3313080" y="1584360"/>
            <a:ext cx="1440000" cy="89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บรรยายภาพที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เรียนรู้จากแหล่งม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ิ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บรรยายภาพสัก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เพื่อทำความเข้าใจ พยายา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ประโยชน์จากภาพเพื่อหาตัวช่วย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visual clue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ข้าใจคำบรรยา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ชัดเจนขึ้นก่อนที่จะใช้พจนานุกร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ข้าใจรายละเอียดเพื่มเติมก่อ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แผ่นบันทึกการ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บรรยายภาพให้ข้อมูลเพีย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ั้นๆ  ถ้ามีเวลาลองอ่านเนื่อหา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ิ่มเติม ก็จะเป็นการเพิ่มการฝึก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ได้ความรู้เพิ่มเติมไปในตัว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ไม่ได้รับสื่อสิ่งพิมพ์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ภาษาอังกฤษเป็นประจำ ลองฝ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นฝูงหรือคนรู้จักที่รับสื่อประเภท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เก็บสิ่งพิมพ์ไว้ให้ด้วยหรือถ้าว่างก็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ห้ช่วยตัดภาพร้อมคำบรรยายไว้ให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ด้วยเลย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....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้วนำมาแยกประเภท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นื้อหา รวมไว้ในแฟ้มเพื่อเรียนรู้ต่อไป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9" name="Picture 25" descr="5"/>
          <p:cNvPicPr/>
          <p:nvPr/>
        </p:nvPicPr>
        <p:blipFill>
          <a:blip r:embed="rId3"/>
          <a:stretch/>
        </p:blipFill>
        <p:spPr>
          <a:xfrm>
            <a:off x="9217080" y="216000"/>
            <a:ext cx="689040" cy="100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1"/>
          <p:cNvSpPr/>
          <p:nvPr/>
        </p:nvSpPr>
        <p:spPr>
          <a:xfrm>
            <a:off x="6048360" y="1368360"/>
            <a:ext cx="410544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รายละเอียดคำบรรยายใต้ภาพนักดับเพลิง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4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กำลังหามนักดับเพลิงที่นอนอยู่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ลส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นออกมาจากอาคาร ในการซ้อมการขนย้ายผู้ประสบอัคคีภัยมีดังนี้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our members of the Fire Rescue Department of Prakanong District  are carrying a role-playing crew member on a stretcher during the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ordia New"/>
              </a:rPr>
              <a:t>magnificen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fire-evacuation medical emergency drill held on October 21, 20xx in Bangkok to improve the effectiveness of team working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ordia New"/>
              </a:rPr>
              <a:t>”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61080" y="2521080"/>
          <a:ext cx="4608360" cy="4012920"/>
        </p:xfrm>
        <a:graphic>
          <a:graphicData uri="http://schemas.openxmlformats.org/drawingml/2006/table">
            <a:tbl>
              <a:tblPr/>
              <a:tblGrid>
                <a:gridCol w="3024000"/>
                <a:gridCol w="1584360"/>
              </a:tblGrid>
              <a:tr h="45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 of the photo c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บรรยาย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</a:t>
                      </a:r>
                      <a:br>
                        <a:rPr sz="1200"/>
                      </a:b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WWW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___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.c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/What is shown in the picture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ภาพแสดงรูปใครหรืออะไ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A group of firefigh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What happened in the picture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บรรยายให้ข้อมูลอะไรกับคุณบ้าง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?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Those firefighters were performing  a role-playing during the fire-evacuation medical emergency drill. They did this to improve the effectiveness of team work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Grammar points noted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ที่สังเกต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Past participle: held on October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un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drill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การฝึ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stretcher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ปลหา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ordia New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effectivenes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ประสิทธิภา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erb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jectiv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agnificent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เยี่ยมยอ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Adverb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Expression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upper left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ด้านบนซ้า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37"/>
          <p:cNvSpPr/>
          <p:nvPr/>
        </p:nvSpPr>
        <p:spPr>
          <a:xfrm>
            <a:off x="216000" y="596880"/>
            <a:ext cx="29527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caption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caption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Try to make use of the visual clue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before looking up words in 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 befor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mpleting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aptions provide brief information. If you have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time, also read the related story. This will help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 practice reading, as well as increase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knowledge about the caption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cannot find any printed materials, try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etting help from friends or acquaintances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gather materials, or just photos and captions.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Classify them and keep them in a file as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earning resourc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2:38Z</dcterms:modified>
  <cp:revision>1732</cp:revision>
  <dc:subject/>
  <dc:title>Slide 1</dc:title>
</cp:coreProperties>
</file>