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15E-832F-4A2D-981C-BC5CE48D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B3E-31A2-4C05-9A7D-B3863756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31C-3443-4DB0-BEB1-1F9C2620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CB3-0C93-4DE4-ABB9-695F43A0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88F-FAFD-4C1D-9995-69A778C6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B75-0FA3-4902-9952-0A77C607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0AB-778A-4CA2-9A54-1F5172B3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A72-D879-4A7C-AF43-A664125D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1DC-7EE5-4FF8-BA36-F18C4F29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099-5E19-4D62-A9A5-40EC6F3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6F9-AE25-460F-B7B9-6A05F818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A64-5EBD-4FD8-AA9B-30249AC0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35BF-08D5-46DF-9FE8-6F9746CBEF43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66720" y="6977160"/>
            <a:ext cx="424836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ngsana New"/>
              </a:rPr>
              <a:t>Copyright © 2011 Self-access Learning Centre, KMUTT </a:t>
            </a:r>
            <a:endParaRPr b="0" lang="en-US" sz="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1170000" y="647640"/>
            <a:ext cx="36734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photo caption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" name="Text Box 73"/>
          <p:cNvSpPr/>
          <p:nvPr/>
        </p:nvSpPr>
        <p:spPr>
          <a:xfrm>
            <a:off x="6696000" y="1368360"/>
            <a:ext cx="3456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photo caption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5" name="Text Box 118"/>
          <p:cNvSpPr/>
          <p:nvPr/>
        </p:nvSpPr>
        <p:spPr>
          <a:xfrm>
            <a:off x="7129440" y="504720"/>
            <a:ext cx="3240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want to improve your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kill? Try this reading strategy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No.3!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6" name="Rectangle 119"/>
          <p:cNvSpPr/>
          <p:nvPr/>
        </p:nvSpPr>
        <p:spPr>
          <a:xfrm>
            <a:off x="6048360" y="1875960"/>
            <a:ext cx="2952720" cy="3561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 of the things that draws our attention when reading like magazines, journals or newspapers, together with topics or news headlines, is pictur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 picture is worth a thousand words.” This saying is always true, and what helps explain a picture is the description below it – caption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Captions written by a professional are interesting. This is because they answers 5 key questions about the picture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Who/What is shown in the picture?, What happened in the picture?,  When did it happen?, Where did it happen?, and Why did it happen?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7" name="Rectangle 147"/>
          <p:cNvSpPr/>
          <p:nvPr/>
        </p:nvSpPr>
        <p:spPr>
          <a:xfrm>
            <a:off x="9099720" y="2016000"/>
            <a:ext cx="170172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การอ่านสิ่งพิมพ์ต่างๆ เช่น นิตยสาร วารสาร หรือหนังสือพิมพ์สิ่งที่ดึงดูดสายตาเรามากที่สุดก็คือ หัวเรื่อง หัวข้อข่าว แต่ที่ไม่ยิ่งหย่อนไปกว่ากันคือรูปภาพ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 “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A picture is worth a thousand words.”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กล่าวที่ว่ารูปภาพสื่อความหมายแทนคำได้เป็นพันๆคำนั้นเป็นความจริงเสมอ และสิ่งที่ช่วยขยายความให้รูปภาพก็คือ คำบรรยาย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!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บรรยายภาพมีความน่าสนใจ โดยเฉพาะถ้าเขียนโดยมืออาชีพ สิ่งที่เขียนจะครอบคลุมการตอบคำถ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5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ด้านหลัก ได้แก่ ภาพที่เห็นเป็นภาพใครหรืออะไร เกิดอะไรขึ้นในภาพ เมือไหร่หรือที่ไหน และทำไมถึงเกิดสิ่งนั้นขึ้นหรือเกิดขึ้นได้อย่างไ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นอกจากนี้สิ่งที่น่าเรียนรู้จากคำบรรยายรูปภาพคือ สำนวนที่ใช้บรรยายตำแหน่งในรูป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ช่น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above, upper left, clockwise from top left, standing to the left of the sofa, center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แม้จะเป็นคำบรรยายเพียงบรรทัดเดียว คุณก็ยังสามารถเรียนรู้ไวยากรณ์ในโครงสร้างประโยคได้อีกด้ว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8" name="Rectangle 194"/>
          <p:cNvSpPr/>
          <p:nvPr/>
        </p:nvSpPr>
        <p:spPr>
          <a:xfrm>
            <a:off x="6067440" y="5583240"/>
            <a:ext cx="2952720" cy="155412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You can also learn about expressions used for locating people or objects form captions e.g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bove, upper left, clockwise from top left, standing to the left of the sofa, center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nd… even form only single sentence, you can also learn grammar!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471680"/>
          <a:ext cx="4608360" cy="5441760"/>
        </p:xfrm>
        <a:graphic>
          <a:graphicData uri="http://schemas.openxmlformats.org/drawingml/2006/table">
            <a:tbl>
              <a:tblPr/>
              <a:tblGrid>
                <a:gridCol w="3024360"/>
                <a:gridCol w="1584000"/>
              </a:tblGrid>
              <a:tr h="47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photo c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algn="ctr"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บรรยาย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</a:t>
                      </a:r>
                      <a:br>
                        <a:rPr sz="1200"/>
                      </a:b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What are shown in the picture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ภาพแสดงรูปใครหรืออะไ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What happened in the pictur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บรรยายให้ข้อมูลอะไรกับคุณบ้า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Grammar points noted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ที่สังเกต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un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erb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jectiv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verb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Expression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48" descr="60"/>
          <p:cNvPicPr/>
          <p:nvPr/>
        </p:nvPicPr>
        <p:blipFill>
          <a:blip r:embed="rId1"/>
          <a:stretch/>
        </p:blipFill>
        <p:spPr>
          <a:xfrm>
            <a:off x="6121440" y="216000"/>
            <a:ext cx="84132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9" descr="60"/>
          <p:cNvPicPr/>
          <p:nvPr/>
        </p:nvPicPr>
        <p:blipFill>
          <a:blip r:embed="rId2"/>
          <a:stretch/>
        </p:blipFill>
        <p:spPr>
          <a:xfrm>
            <a:off x="360360" y="216000"/>
            <a:ext cx="792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8280360" y="325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4" name="Picture 20" descr="54"/>
          <p:cNvPicPr/>
          <p:nvPr/>
        </p:nvPicPr>
        <p:blipFill>
          <a:blip r:embed="rId1"/>
          <a:stretch/>
        </p:blipFill>
        <p:spPr>
          <a:xfrm>
            <a:off x="3529080" y="216000"/>
            <a:ext cx="7459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2" descr="9"/>
          <p:cNvPicPr/>
          <p:nvPr/>
        </p:nvPicPr>
        <p:blipFill>
          <a:blip r:embed="rId2"/>
          <a:stretch/>
        </p:blipFill>
        <p:spPr>
          <a:xfrm>
            <a:off x="360360" y="5905440"/>
            <a:ext cx="100800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3"/>
          <p:cNvSpPr/>
          <p:nvPr/>
        </p:nvSpPr>
        <p:spPr>
          <a:xfrm>
            <a:off x="1440000" y="6206400"/>
            <a:ext cx="1512720" cy="550800"/>
          </a:xfrm>
          <a:prstGeom prst="rect">
            <a:avLst/>
          </a:prstGeom>
          <a:noFill/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ee an example of how to use our learning record on the next pag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7" name="Text Box 51"/>
          <p:cNvSpPr/>
          <p:nvPr/>
        </p:nvSpPr>
        <p:spPr>
          <a:xfrm>
            <a:off x="6192720" y="792000"/>
            <a:ext cx="25923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การกรอกแผ่นบันทึก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8" name="Rectangle 147"/>
          <p:cNvSpPr/>
          <p:nvPr/>
        </p:nvSpPr>
        <p:spPr>
          <a:xfrm>
            <a:off x="3313080" y="1584360"/>
            <a:ext cx="1440000" cy="89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แผ่นบันทึกการเรียนรู้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คำบรรยายภาพที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สนใจเรียนรู้จากแหล่งมา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ิ้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2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ตรียมพจนานุกรมไว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ายๆเล่ม ถ้าเป็นไปได้ควรใช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ภาษาอังกฤษ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งกฤษ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ถ้าคุณสะดวกอาจค้นคว้าจ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ออนไลน์ก็ได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3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บรรยายภาพสัก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 เพื่อทำความเข้าใจ พยายา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ช้ประโยชน์จากภาพเพื่อหาตัวช่วย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(visual clues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เข้าใจคำบรรยา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ชัดเจนขึ้นก่อนที่จะใช้พจนานุกร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ซ้ำอี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– 2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เข้าใจรายละเอียดเพื่มเติมก่อ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แผ่นบันทึกการเรียนรู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้อเสนอแนะ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บรรยายภาพให้ข้อมูลเพียง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้นๆ  ถ้ามีเวลาลองอ่านเนื่อหา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ิ่มเติม ก็จะเป็นการเพิ่มการฝึกอ่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ได้ความรู้เพิ่มเติมไปในตัว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ไม่ได้รับสื่อสิ่งพิมพ์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ภาษาอังกฤษเป็นประจำ ลองฝ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นฝูงหรือคนรู้จักที่รับสื่อประเภท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เก็บสิ่งพิมพ์ไว้ให้ด้วยหรือถ้าว่างก็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ช่วยตัดภาพร้อมคำบรรยายไว้ให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ด้วยเลย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....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้วนำมาแยกประเภท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นื้อหา รวมไว้ในแฟ้มเพื่อเรียนรู้ต่อไป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9" name="Picture 25" descr="5"/>
          <p:cNvPicPr/>
          <p:nvPr/>
        </p:nvPicPr>
        <p:blipFill>
          <a:blip r:embed="rId3"/>
          <a:stretch/>
        </p:blipFill>
        <p:spPr>
          <a:xfrm>
            <a:off x="9217080" y="216000"/>
            <a:ext cx="689040" cy="100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1"/>
          <p:cNvSpPr/>
          <p:nvPr/>
        </p:nvSpPr>
        <p:spPr>
          <a:xfrm>
            <a:off x="6048360" y="1368360"/>
            <a:ext cx="41054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รายละเอียดคำบรรยายใต้ภาพนักดับเพลิง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4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นกำลังหามนักดับเพลิงที่นอนอยู่ใ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ลสน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นออกมาจากอาคาร ในการซ้อมการขนย้ายผู้ประสบอัคคีภัยมีดังนี้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Cordia New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Four members of the Fire Rescue Department of Prakanong District  are carrying a role-playing crew member on a stretcher during th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ordia New"/>
              </a:rPr>
              <a:t>magnificen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fire-evacuation medical emergency drill held on October 21, 20xx in Bangkok to improve the effectiveness of team working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Cordia New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761080" y="2521080"/>
          <a:ext cx="4608360" cy="4012920"/>
        </p:xfrm>
        <a:graphic>
          <a:graphicData uri="http://schemas.openxmlformats.org/drawingml/2006/table">
            <a:tbl>
              <a:tblPr/>
              <a:tblGrid>
                <a:gridCol w="3024000"/>
                <a:gridCol w="1584360"/>
              </a:tblGrid>
              <a:tr h="45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 of the photo c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บรรยาย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</a:t>
                      </a:r>
                      <a:br>
                        <a:rPr sz="1200"/>
                      </a:b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WWW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__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What is shown in the picture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ภาพแสดงรูปใครหรืออะไ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 group of firefigh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What happened in the pictur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บรรยายให้ข้อมูลอะไรกับคุณบ้า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Those firefighters were performing  a role-playing during the fire-evacuation medical emergency drill. They did this to improve the effectiveness of team workin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Grammar points noted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ที่สังเกต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Past participle: held on October 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un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rill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การฝึ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ordia New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stretcher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เปลหา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ordia New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ffectiveness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ประสิทธิ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erb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jectiv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agnific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เยี่ยมยอ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verb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Expression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upper left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ด้านบนซ้า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7"/>
          <p:cNvSpPr/>
          <p:nvPr/>
        </p:nvSpPr>
        <p:spPr>
          <a:xfrm>
            <a:off x="216000" y="596880"/>
            <a:ext cx="29527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ordia New"/>
              </a:rPr>
              <a:t>How to use this learning record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Choose a caption you might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njoy reading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Prepare some dictionaries, if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possible English-English and standard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s. You may also work with onlin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3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ad the caption once to get it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gist. Try to make use of the visual clue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before looking up words in 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read once or twice to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understand more details befor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completing the learning record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Further suggestions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Captions provide brief information. If you have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time, also read the related story. This will help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You practice reading, as well as increase your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knowledge about the caption.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If you cannot find any printed materials, try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getting help from friends or acquaintances t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gather materials, or just photos and captions.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Classify them and keep them in a file as a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learning resourc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oot</cp:lastModifiedBy>
  <dcterms:modified xsi:type="dcterms:W3CDTF">2015-05-11T16:32:38Z</dcterms:modified>
  <cp:revision>1732</cp:revision>
  <dc:subject/>
  <dc:title>Slide 1</dc:title>
</cp:coreProperties>
</file>