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799763" cy="7199313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E6A2-7E76-407D-A697-B33EC772E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612D-EC88-4AB6-9314-4D750102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DA29-7EA6-414C-A8E4-806425021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3789-4B32-49CE-9805-CFEB83E46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AC62-5151-4CE7-974F-E18C6F2C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45C9-A7D2-46E7-8EEB-83826BCD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24D6-3486-400D-9DF9-CAF39AFE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859D-50B0-4AC4-AFC0-A553C466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288720"/>
            <a:ext cx="972180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EAD1-87AE-4008-9F66-B57EC287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70D5-5F1C-40F0-A2E2-B54EB5F3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4435-B91B-4ED9-AAC9-C75F24E2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4B81-A1C2-47E3-8B44-E1F042CA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85920" indent="-385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22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57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800360" indent="-257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557760"/>
            <a:ext cx="2521080" cy="500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6557760"/>
            <a:ext cx="3419280" cy="500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6557760"/>
            <a:ext cx="2520720" cy="500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9B7D-F6AB-4F09-9751-612CECA8CCD4}" type="slidenum"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44360" y="4565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566720" y="6977160"/>
            <a:ext cx="424836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ngsana New"/>
              </a:rPr>
              <a:t>Copyright © 2011 Self-access Learning Centre, KMUTT </a:t>
            </a:r>
            <a:endParaRPr b="0" lang="en-US" sz="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1170000" y="647640"/>
            <a:ext cx="36734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ngsana New"/>
              </a:rPr>
              <a:t>Reading photo captions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4" name="Text Box 73"/>
          <p:cNvSpPr/>
          <p:nvPr/>
        </p:nvSpPr>
        <p:spPr>
          <a:xfrm>
            <a:off x="6696000" y="1368360"/>
            <a:ext cx="3456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ngsana New"/>
              </a:rPr>
              <a:t>Reading photo captions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5" name="Text Box 118"/>
          <p:cNvSpPr/>
          <p:nvPr/>
        </p:nvSpPr>
        <p:spPr>
          <a:xfrm>
            <a:off x="7129440" y="504720"/>
            <a:ext cx="32400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Do you want to improve your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reading skill? Try this reading strategy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No.3!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6" name="Rectangle 119"/>
          <p:cNvSpPr/>
          <p:nvPr/>
        </p:nvSpPr>
        <p:spPr>
          <a:xfrm>
            <a:off x="6048360" y="1875960"/>
            <a:ext cx="2952720" cy="356184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One of the things that draws our attention when reading like magazines, journals or newspapers, together with topics or news headlines, is pictures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Gulim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Gulim"/>
              </a:rPr>
              <a:t>A picture is worth a thousand words.” This saying is always true, and what helps explain a picture is the description below it – captions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Gulim"/>
              </a:rPr>
              <a:t>Captions written by a professional are interesting. This is because they answers 5 key questions about the picture: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Who/What is shown in the picture?, What happened in the picture?,  When did it happen?, Where did it happen?, and Why did it happen?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7" name="Rectangle 147"/>
          <p:cNvSpPr/>
          <p:nvPr/>
        </p:nvSpPr>
        <p:spPr>
          <a:xfrm>
            <a:off x="9099720" y="2016000"/>
            <a:ext cx="1701720" cy="57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rdia New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ในการอ่านสิ่งพิมพ์ต่างๆ เช่น นิตยสาร วารสาร หรือหนังสือพิมพ์สิ่งที่ดึงดูดสายตาเรามากที่สุดก็คือ หัวเรื่อง หัวข้อข่าว แต่ที่ไม่ยิ่งหย่อนไปกว่ากันคือรูปภาพ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dia New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Gulim"/>
              </a:rPr>
              <a:t> “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Gulim"/>
              </a:rPr>
              <a:t>A picture is worth a thousand words.”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คำกล่าวที่ว่ารูปภาพสื่อความหมายแทนคำได้เป็นพันๆคำนั้นเป็นความจริงเสมอ และสิ่งที่ช่วยขยายความให้รูปภาพก็คือ คำบรรยายภาพ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!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dia New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คำบรรยายภาพมีความน่าสนใจ โดยเฉพาะถ้าเขียนโดยมืออาชีพ สิ่งที่เขียนจะครอบคลุมการตอบคำถาม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5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ด้านหลัก ได้แก่ ภาพที่เห็นเป็นภาพใครหรืออะไร เกิดอะไรขึ้นในภาพ เมือไหร่หรือที่ไหน และทำไมถึงเกิดสิ่งนั้นขึ้นหรือเกิดขึ้นได้อย่างไร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dia New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นอกจากนี้สิ่งที่น่าเรียนรู้จากคำบรรยายรูปภาพคือ สำนวนที่ใช้บรรยายตำแหน่งในรูปภาพ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ช่น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Gulim"/>
              </a:rPr>
              <a:t>above, upper left, clockwise from top left, standing to the left of the sofa, center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dia New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Gulim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และแม้จะเป็นคำบรรยายเพียงบรรทัดเดียว คุณก็ยังสามารถเรียนรู้ไวยากรณ์ในโครงสร้างประโยคได้อีกด้วย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8" name="Rectangle 194"/>
          <p:cNvSpPr/>
          <p:nvPr/>
        </p:nvSpPr>
        <p:spPr>
          <a:xfrm>
            <a:off x="6067440" y="5583240"/>
            <a:ext cx="2952720" cy="155412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You can also learn about expressions used for locating people or objects form captions e.g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Gulim"/>
              </a:rPr>
              <a:t>above, upper left, clockwise from top left, standing to the left of the sofa, center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Gulim"/>
              </a:rPr>
              <a:t>And… even form only single sentence, you can also learn grammar!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60360" y="1471680"/>
          <a:ext cx="4608360" cy="5441760"/>
        </p:xfrm>
        <a:graphic>
          <a:graphicData uri="http://schemas.openxmlformats.org/drawingml/2006/table">
            <a:tbl>
              <a:tblPr/>
              <a:tblGrid>
                <a:gridCol w="3024360"/>
                <a:gridCol w="1584000"/>
              </a:tblGrid>
              <a:tr h="474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etails of the photo c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algn="ctr"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  <a:cs typeface="Tahoma"/>
                        </a:rPr>
                        <a:t>รายละเอียดของคำบรรยายภาพ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Vocabulary</a:t>
                      </a:r>
                      <a:br>
                        <a:rPr sz="1200"/>
                      </a:b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ำศัพท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Source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ที่ม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/What are shown in the picture?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ภาพแสดงรูปใครหรืออะไ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What happened in the picture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ำบรรยายให้ข้อมูลอะไรกับคุณบ้าง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?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Grammar points noted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ไวยากรณ์ที่สังเกตเห็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Noun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Verb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Adjective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Adverb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Expression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Picture 48" descr="60"/>
          <p:cNvPicPr/>
          <p:nvPr/>
        </p:nvPicPr>
        <p:blipFill>
          <a:blip r:embed="rId1"/>
          <a:stretch/>
        </p:blipFill>
        <p:spPr>
          <a:xfrm>
            <a:off x="6121440" y="216000"/>
            <a:ext cx="841320" cy="122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9" descr="60"/>
          <p:cNvPicPr/>
          <p:nvPr/>
        </p:nvPicPr>
        <p:blipFill>
          <a:blip r:embed="rId2"/>
          <a:stretch/>
        </p:blipFill>
        <p:spPr>
          <a:xfrm>
            <a:off x="360360" y="216000"/>
            <a:ext cx="792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144360" y="4565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8280360" y="325008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pic>
        <p:nvPicPr>
          <p:cNvPr id="54" name="Picture 20" descr="54"/>
          <p:cNvPicPr/>
          <p:nvPr/>
        </p:nvPicPr>
        <p:blipFill>
          <a:blip r:embed="rId1"/>
          <a:stretch/>
        </p:blipFill>
        <p:spPr>
          <a:xfrm>
            <a:off x="3529080" y="216000"/>
            <a:ext cx="745920" cy="1224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2" descr="9"/>
          <p:cNvPicPr/>
          <p:nvPr/>
        </p:nvPicPr>
        <p:blipFill>
          <a:blip r:embed="rId2"/>
          <a:stretch/>
        </p:blipFill>
        <p:spPr>
          <a:xfrm>
            <a:off x="360360" y="5905440"/>
            <a:ext cx="1008000" cy="1224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3"/>
          <p:cNvSpPr/>
          <p:nvPr/>
        </p:nvSpPr>
        <p:spPr>
          <a:xfrm>
            <a:off x="1440000" y="6206400"/>
            <a:ext cx="1512720" cy="550800"/>
          </a:xfrm>
          <a:prstGeom prst="rect">
            <a:avLst/>
          </a:prstGeom>
          <a:noFill/>
          <a:ln w="1908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See an example of how to use our learning record on the next page.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57" name="Text Box 51"/>
          <p:cNvSpPr/>
          <p:nvPr/>
        </p:nvSpPr>
        <p:spPr>
          <a:xfrm>
            <a:off x="6192720" y="792000"/>
            <a:ext cx="259236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dia New"/>
                <a:ea typeface="Cordia New"/>
              </a:rPr>
              <a:t>Example</a:t>
            </a:r>
            <a:r>
              <a:rPr b="0" lang="en-US" sz="1800" spc="-1" strike="noStrike">
                <a:solidFill>
                  <a:srgbClr val="000000"/>
                </a:solidFill>
                <a:latin typeface="Cordia New"/>
                <a:ea typeface="Cordia New"/>
              </a:rPr>
              <a:t>    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ตัวอย่างการกรอกแผ่นบันทึก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58" name="Rectangle 147"/>
          <p:cNvSpPr/>
          <p:nvPr/>
        </p:nvSpPr>
        <p:spPr>
          <a:xfrm>
            <a:off x="3313080" y="1584360"/>
            <a:ext cx="1440000" cy="89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ใช้แผ่นบันทึกการเรียนรู้นี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ขั้นตอนที่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Cordia New"/>
                <a:ea typeface="Cordia New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ลือกคำบรรยายภาพที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คุณสนใจเรียนรู้จากแหล่งมา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1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ชิ้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ขั้นตอนที่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ea typeface="Cordia New"/>
              </a:rPr>
              <a:t>2</a:t>
            </a:r>
            <a:r>
              <a:rPr b="1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ตรียมพจนานุกรมไว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หลายๆเล่ม ถ้าเป็นไปได้ควรใช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พจนานุกรมภาษาอังกฤษ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-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อังกฤษ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และถ้าคุณสะดวกอาจค้นคว้าจาก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พจนานุกรมออนไลน์ก็ได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ขั้นตอนที่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ea typeface="Cordia New"/>
              </a:rPr>
              <a:t>3</a:t>
            </a:r>
            <a:r>
              <a:rPr b="1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อ่านคำบรรยายภาพสัก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1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รอบ เพื่อทำความเข้าใจ พยายาม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ใช้ประโยชน์จากภาพเพื่อหาตัวช่วย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(visual clues)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ให้เข้าใจคำบรรยาย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ได้ชัดเจนขึ้นก่อนที่จะใช้พจนานุกรม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ขั้นตอนที่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ea typeface="Cordia New"/>
              </a:rPr>
              <a:t>4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อ่านซ้ำอีก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1 – 2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รอบ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พื่อเข้าใจรายละเอียดเพื่มเติมก่อ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กรอกแผ่นบันทึกการเรียนรู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ข้อเสนอแนะเพิ่มเติม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คำบรรยายภาพให้ข้อมูลเพียง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สั้นๆ  ถ้ามีเวลาลองอ่านเนื่อหา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พิ่มเติม ก็จะเป็นการเพิ่มการฝึกอ่า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และได้ความรู้เพิ่มเติมไปในตัว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ถ้าคุณไม่ได้รับสื่อสิ่งพิมพ์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ภาษาอังกฤษเป็นประจำ ลองฝาก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พื่อนฝูงหรือคนรู้จักที่รับสื่อประเภทนี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ให้เก็บสิ่งพิมพ์ไว้ให้ด้วยหรือถ้าว่างก็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ให้ช่วยตัดภาพร้อมคำบรรยายไว้ให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ด้วยเลย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....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แล้วนำมาแยกประเภท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นื้อหา รวมไว้ในแฟ้มเพื่อเรียนรู้ต่อไป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</p:txBody>
      </p:sp>
      <p:pic>
        <p:nvPicPr>
          <p:cNvPr id="59" name="Picture 25" descr="5"/>
          <p:cNvPicPr/>
          <p:nvPr/>
        </p:nvPicPr>
        <p:blipFill>
          <a:blip r:embed="rId3"/>
          <a:stretch/>
        </p:blipFill>
        <p:spPr>
          <a:xfrm>
            <a:off x="9217080" y="216000"/>
            <a:ext cx="689040" cy="100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81"/>
          <p:cNvSpPr/>
          <p:nvPr/>
        </p:nvSpPr>
        <p:spPr>
          <a:xfrm>
            <a:off x="6048360" y="1368360"/>
            <a:ext cx="4105440" cy="11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ตัวอย่างรายละเอียดคำบรรยายใต้ภาพนักดับเพลิง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4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คนกำลังหามนักดับเพลิงที่นอนอยู่ใ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ปลสนาม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1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คนออกมาจากอาคาร ในการซ้อมการขนย้ายผู้ประสบอัคคีภัยมีดังนี้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Cordia New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Four members of the Fire Rescue Department of Prakanong District  are carrying a role-playing crew member on a stretcher during th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Cordia New"/>
              </a:rPr>
              <a:t>magnificen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fire-evacuation medical emergency drill held on October 21, 20xx in Bangkok to improve the effectiveness of team working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Cordia New"/>
              </a:rPr>
              <a:t>”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761080" y="2521080"/>
          <a:ext cx="4608360" cy="4012920"/>
        </p:xfrm>
        <a:graphic>
          <a:graphicData uri="http://schemas.openxmlformats.org/drawingml/2006/table">
            <a:tbl>
              <a:tblPr/>
              <a:tblGrid>
                <a:gridCol w="3024000"/>
                <a:gridCol w="1584360"/>
              </a:tblGrid>
              <a:tr h="458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etail of the photo c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  <a:cs typeface="Tahoma"/>
                        </a:rPr>
                        <a:t>รายละเอียดของคำบรรยายภาพ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Vocabulary</a:t>
                      </a:r>
                      <a:br>
                        <a:rPr sz="1200"/>
                      </a:b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ำศัพท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Source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ที่ม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WWW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__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.c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/What is shown in the picture?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ภาพแสดงรูปใครหรืออะไ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A group of firefigh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What happened in the picture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ำบรรยายให้ข้อมูลอะไรกับคุณบ้าง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?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Those firefighters were performing  a role-playing during the fire-evacuation medical emergency drill. They did this to improve the effectiveness of team working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Grammar points noted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ไวยากรณ์ที่สังเกตเห็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Past participle: held on October 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Noun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drill 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การฝึ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ordia New"/>
                        <a:buChar char="•"/>
                        <a:tabLst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stretcher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เปลหา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ordia New"/>
                        <a:buChar char="•"/>
                        <a:tabLst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effectiveness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ประสิทธิภาพ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Verb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Adjective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magnificent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 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เยี่ยมยอ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Adverb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Expression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upper left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ด้านบนซ้า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37"/>
          <p:cNvSpPr/>
          <p:nvPr/>
        </p:nvSpPr>
        <p:spPr>
          <a:xfrm>
            <a:off x="216000" y="596880"/>
            <a:ext cx="2952720" cy="45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ordia New"/>
              </a:rPr>
              <a:t>How to use this learning record 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  <a:ea typeface="Cordia New"/>
              </a:rPr>
              <a:t>Step 1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Choose a caption you might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enjoy reading.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  <a:ea typeface="Cordia New"/>
              </a:rPr>
              <a:t>Step 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Prepare some dictionaries, if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possible English-English and standard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ones. You may also work with online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dictionaries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  <a:ea typeface="Cordia New"/>
              </a:rPr>
              <a:t>Step 3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Read the caption once to get its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gist. Try to make use of the visual clues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before looking up words in dictionaries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  <a:ea typeface="Cordia New"/>
              </a:rPr>
              <a:t>Step 4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Reread once or twice to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understand more details before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completing the learning record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Calibri"/>
                <a:ea typeface="Cordia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Calibri"/>
                <a:ea typeface="Cordia New"/>
              </a:rPr>
              <a:t>Further suggestions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Captions provide brief information. If you have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time, also read the related story. This will help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You practice reading, as well as increase your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knowledge about the caption.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If you cannot find any printed materials, try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getting help from friends or acquaintances to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gather materials, or just photos and captions.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Classify them and keep them in a file as a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learning resource.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oot</cp:lastModifiedBy>
  <dcterms:modified xsi:type="dcterms:W3CDTF">2015-05-11T16:32:38Z</dcterms:modified>
  <cp:revision>1732</cp:revision>
  <dc:subject/>
  <dc:title>Slide 1</dc:title>
</cp:coreProperties>
</file>