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C463-8EB5-42F6-9AD4-65A106B0C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D2219-1453-43A9-945D-F5D3AE9B7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0EC40-4B27-4B62-A89C-6E6C53024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C632-733F-49C1-80E6-B4A85EC69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0D90-4833-4A73-A983-7CE1F0AE1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8ECF-C3D1-4F06-ABE6-9BB714B4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0D7D7-4FA7-4B47-B45A-A0B00A098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02A5-30F6-48B4-AE6B-D0DA4041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E7527-93A8-439E-A82D-5F7360F1B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5CF1-EEFE-4EAC-9247-6B873F5B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D9E6-8771-463F-A455-269C1B73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084B-37A5-42DB-BCB9-0AE01670B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4896-B1E1-4575-98B0-A1EB59E06F30}"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424160" y="6977160"/>
            <a:ext cx="424800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6836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4" name="Text Box 73"/>
          <p:cNvSpPr/>
          <p:nvPr/>
        </p:nvSpPr>
        <p:spPr>
          <a:xfrm>
            <a:off x="6985080" y="1368360"/>
            <a:ext cx="2808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5" name="Text Box 118"/>
          <p:cNvSpPr/>
          <p:nvPr/>
        </p:nvSpPr>
        <p:spPr>
          <a:xfrm>
            <a:off x="7129440" y="504720"/>
            <a:ext cx="324000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2!</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121440" y="2041560"/>
            <a:ext cx="2952720" cy="337932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Have you ever heard the saying which say “Laughter is the best medicine.”? Apart from this advantage, we can also learn English from jokes in various aspects. What makes jokes interesting?</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Jokes are shorter than other reading materials such as articles and short stories. These long texts need more time to figure out. Thus, you tend to get bored easily.</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Since jokes are fun to read, they can inspire you to look up new vocabulary found in them. Moreover, they contain lots of slang and useful idioms which you can use in daily conversation.</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145440" y="2016000"/>
            <a:ext cx="1366920" cy="637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เคยได้ยินคำกล่าวว่า </a:t>
            </a:r>
            <a:r>
              <a:rPr b="0" lang="en-US" sz="1000" spc="-1" strike="noStrike">
                <a:solidFill>
                  <a:srgbClr val="000000"/>
                </a:solidFill>
                <a:latin typeface="Cordia New"/>
                <a:ea typeface="Cordia New"/>
              </a:rPr>
              <a:t>Laughter is the best medicine. </a:t>
            </a:r>
            <a:r>
              <a:rPr b="0" lang="th-TH" sz="1000" spc="-1" strike="noStrike">
                <a:solidFill>
                  <a:srgbClr val="000000"/>
                </a:solidFill>
                <a:latin typeface="Cordia New"/>
                <a:cs typeface="Cordia New"/>
              </a:rPr>
              <a:t>หรือการหัวเราะเป็นยาขนานเอกไหม</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นอกจากเป็นยาขนานเอกแล้วเรายังสามารถเรียนรู้ภาษาอังกฤษจากเรื่องขำขันได้หลากหลายแง่มุมอีกด้วยสิ่งที่ทำให้เรื่องขำขันมีความน่าสนใจคือ</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รื่องขำขันมีเนื้อหาสั้นๆ ไม่เหมือนสิ่งพิมพ์อื่นๆ เช่น บทความ เรื่องสั้น ซึ่งมีความยาว ต้องใช้เวลาในการเรียนรู้มากกว่า และทำให้เบื่อหน่ายได้ง่าย</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เรื่องขำขันเป็นเรื่องสนุก กรณีที่คุณพบคำศัพท์ใหม่ๆคุณจะมีแรงบันดาลใจในการค้นหาความหมายเพื่อให้หายสงสัย นอกจากนี้เรื่องขำขันจะเต็มไปด้วยคำสแลง และสำนวนที่คุณสามารถนำไปประยุกต์ใช้ได้ในการสนทนาในชีวิตประจำวันได้จริง</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แม้จะเป็นเรื่องขำขันคุณก็ยังสามารถเรียนรู้ไวยากรณ์ในโครงสร้างประโยคได้อีกด้ว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ไม่ว่าจะเป็นเรื่อง </a:t>
            </a:r>
            <a:r>
              <a:rPr b="0" lang="en-US" sz="1000" spc="-1" strike="noStrike">
                <a:solidFill>
                  <a:srgbClr val="000000"/>
                </a:solidFill>
                <a:latin typeface="Cordia New"/>
                <a:ea typeface="Cordia New"/>
              </a:rPr>
              <a:t>tenses, voice (active/passive voice), clauses </a:t>
            </a:r>
            <a:r>
              <a:rPr b="0" lang="th-TH" sz="1000" spc="-1" strike="noStrike">
                <a:solidFill>
                  <a:srgbClr val="000000"/>
                </a:solidFill>
                <a:latin typeface="Cordia New"/>
                <a:cs typeface="Cordia New"/>
              </a:rPr>
              <a:t>ฯลฯ</a:t>
            </a:r>
            <a:endParaRPr b="0" lang="en-US" sz="1000" spc="-1" strike="noStrike">
              <a:solidFill>
                <a:srgbClr val="000000"/>
              </a:solidFill>
              <a:latin typeface="Cordia New"/>
            </a:endParaRPr>
          </a:p>
        </p:txBody>
      </p:sp>
      <p:sp>
        <p:nvSpPr>
          <p:cNvPr id="48" name="Rectangle 194"/>
          <p:cNvSpPr/>
          <p:nvPr/>
        </p:nvSpPr>
        <p:spPr>
          <a:xfrm>
            <a:off x="6121440" y="5745600"/>
            <a:ext cx="2952720" cy="4590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You can also learn grammar from jokes!  (e.g. tenses, active-passive voice, clauses)</a:t>
            </a:r>
            <a:endParaRPr b="0" lang="en-US" sz="1200" spc="-1" strike="noStrike">
              <a:solidFill>
                <a:srgbClr val="000000"/>
              </a:solidFill>
              <a:latin typeface="Cordia New"/>
            </a:endParaRPr>
          </a:p>
        </p:txBody>
      </p:sp>
      <p:graphicFrame>
        <p:nvGraphicFramePr>
          <p:cNvPr id="49" name=""/>
          <p:cNvGraphicFramePr/>
          <p:nvPr/>
        </p:nvGraphicFramePr>
        <p:xfrm>
          <a:off x="360360" y="1440000"/>
          <a:ext cx="4560840" cy="5473440"/>
        </p:xfrm>
        <a:graphic>
          <a:graphicData uri="http://schemas.openxmlformats.org/drawingml/2006/table">
            <a:tbl>
              <a:tblPr/>
              <a:tblGrid>
                <a:gridCol w="2859120"/>
                <a:gridCol w="1701720"/>
              </a:tblGrid>
              <a:tr h="6062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72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  </a:t>
                      </a:r>
                      <a:r>
                        <a:rPr b="0" lang="th-TH"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0"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83170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ขำขัน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พจนานุกรมเล่มใหญ่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นื่องจากในเรื่องขำมักจะมีสำนวน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ก กรณีนี้พจนานุกรมเล่มเล็กๆจ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ม่มีข้อมูลเพียงพอ และ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เรื่องขำขัน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ก่อนกรอก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อ่านขำขันบางครั้งคุณอาจไม่รู้สึ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ขันถึงแม้จะเปิดพจนานุกรม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คำศัพท์ทุกตัวที่สงสัยแล้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ตาม  อย่ากังวลเพราะบางครั้ง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ไม่มีประสบการณ์ที่เกี่ยวข้อง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บางครั้งสิ่งที่อ่านก็เกี่ยวข้อง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ฒนธรรมที่แตกต่าง แม้จะไม่ขันแต่</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ได้เรียนรู้ไปแล้ว </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รอโอกาส</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ๆแล้วคอยถามผู้รู้</a:t>
            </a:r>
            <a:endParaRPr b="0" lang="en-US" sz="1000" spc="-1" strike="noStrike">
              <a:solidFill>
                <a:srgbClr val="000000"/>
              </a:solidFill>
              <a:latin typeface="Cordia New"/>
            </a:endParaRPr>
          </a:p>
        </p:txBody>
      </p:sp>
      <p:pic>
        <p:nvPicPr>
          <p:cNvPr id="59" name="Picture 26" descr="7"/>
          <p:cNvPicPr/>
          <p:nvPr/>
        </p:nvPicPr>
        <p:blipFill>
          <a:blip r:embed="rId3"/>
          <a:stretch/>
        </p:blipFill>
        <p:spPr>
          <a:xfrm>
            <a:off x="9145440" y="287280"/>
            <a:ext cx="787680" cy="936720"/>
          </a:xfrm>
          <a:prstGeom prst="rect">
            <a:avLst/>
          </a:prstGeom>
          <a:ln w="0">
            <a:noFill/>
          </a:ln>
        </p:spPr>
      </p:pic>
      <p:sp>
        <p:nvSpPr>
          <p:cNvPr id="60" name="Rectangle 33"/>
          <p:cNvSpPr/>
          <p:nvPr/>
        </p:nvSpPr>
        <p:spPr>
          <a:xfrm>
            <a:off x="6048360" y="1440000"/>
            <a:ext cx="4105440" cy="1157760"/>
          </a:xfrm>
          <a:prstGeom prst="rect">
            <a:avLst/>
          </a:prstGeom>
          <a:noFill/>
          <a:ln w="0">
            <a:noFill/>
          </a:ln>
        </p:spPr>
        <p:style>
          <a:lnRef idx="0"/>
          <a:fillRef idx="0"/>
          <a:effectRef idx="0"/>
          <a:fontRef idx="minor"/>
        </p:style>
        <p:txBody>
          <a:bodyPr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ตัวอย่างเรื่องขำขันที่เลือก</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Cordia New"/>
              </a:rPr>
              <a:t>My daughter has just turned 13 and had suddenly become very aware of male-female relationships. As we were driving through the city one day, we passed a billboard that was not rented. The word “Available” and a name and number were posted on the billboard for anyone who was interested in using the space. My daughter turned to me with a worried look and said, “Gosh! I hope I never get that desperate.”</a:t>
            </a:r>
            <a:endParaRPr b="0" lang="en-US" sz="1000" spc="-1" strike="noStrike">
              <a:solidFill>
                <a:srgbClr val="000000"/>
              </a:solidFill>
              <a:latin typeface="Cordia New"/>
            </a:endParaRPr>
          </a:p>
        </p:txBody>
      </p:sp>
      <p:graphicFrame>
        <p:nvGraphicFramePr>
          <p:cNvPr id="61" name=""/>
          <p:cNvGraphicFramePr/>
          <p:nvPr/>
        </p:nvGraphicFramePr>
        <p:xfrm>
          <a:off x="5905440" y="2808360"/>
          <a:ext cx="4608720" cy="344484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1557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a:t>
                      </a:r>
                      <a:r>
                        <a:rPr b="0" lang="en-US"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Xxx magazi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joke is about a daughter and a mother. The girl misunderstood what was advertised on a billboard.</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enses e.g. has just turned (present perfect)</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Voice e.g. that was not rented, were posted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illboard   </a:t>
                      </a:r>
                      <a:r>
                        <a:rPr b="0" lang="th-TH" sz="1000" spc="-1" strike="noStrike">
                          <a:solidFill>
                            <a:srgbClr val="000000"/>
                          </a:solidFill>
                          <a:latin typeface="Cordia New"/>
                        </a:rPr>
                        <a:t>ป้ายโฆษณา</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e aware of   </a:t>
                      </a:r>
                      <a:r>
                        <a:rPr b="0" lang="th-TH" sz="1000" spc="-1" strike="noStrike">
                          <a:solidFill>
                            <a:srgbClr val="000000"/>
                          </a:solidFill>
                          <a:latin typeface="Cordia New"/>
                        </a:rPr>
                        <a:t>ตระหนัก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available  </a:t>
                      </a:r>
                      <a:r>
                        <a:rPr b="0" lang="th-TH" sz="1000" spc="-1" strike="noStrike">
                          <a:solidFill>
                            <a:srgbClr val="000000"/>
                          </a:solidFill>
                          <a:latin typeface="Cordia New"/>
                        </a:rPr>
                        <a:t>มีอยู่ ปรากฎอยู่</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Gosh!   </a:t>
                      </a:r>
                      <a:r>
                        <a:rPr b="0" lang="th-TH" sz="1000" spc="-1" strike="noStrike">
                          <a:solidFill>
                            <a:srgbClr val="000000"/>
                          </a:solidFill>
                          <a:latin typeface="Cordia New"/>
                        </a:rPr>
                        <a:t>โอ้</a:t>
                      </a:r>
                      <a:r>
                        <a:rPr b="0" lang="en-US" sz="1000" spc="-1" strike="noStrike">
                          <a:solidFill>
                            <a:srgbClr val="000000"/>
                          </a:solidFill>
                          <a:latin typeface="Cordia New"/>
                        </a:rPr>
                        <a: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7"/>
          <p:cNvSpPr/>
          <p:nvPr/>
        </p:nvSpPr>
        <p:spPr>
          <a:xfrm>
            <a:off x="216000" y="738000"/>
            <a:ext cx="2952720" cy="42328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joke you might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They will work well with slang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dioms while small dictionaries will no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joke once to get it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is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ompleting the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imes reading a joke might not make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ugh though you have tried to look up ever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ord. Do not worry. This might be caused by lack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related experiences, or cultural differences. A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ar as you have read, you have already learn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hing. Wait until you have a good chanc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n consult a  guru.</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2:08Z</dcterms:modified>
  <cp:revision>1732</cp:revision>
  <dc:subject/>
  <dc:title>Slide 1</dc:title>
</cp:coreProperties>
</file>