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ACF7C-43A9-4A68-912D-082FB9083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04598-7E7F-474C-81DD-F21E7EC3B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F1D1D-A96A-4D0C-AA70-7240380DC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A173A-E6CA-48E7-9961-64B731DC8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52D6F-8FBB-4402-9311-89CB0837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0D9F3-A877-4D35-9DB1-F1D43088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3DA77-C052-4100-92FE-3321B4B31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FA6B9-F507-4006-9F02-0120D2190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C19E3-8B1D-45BE-9862-111136CC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DB40-6740-4CD2-BB43-2D3CB0DD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EF56-6527-41AE-B357-87A1E735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61F8-7271-42D5-BE85-70ADCB112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84D3-E161-4289-A0C6-17C9E2C348B4}"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297080" y="6977160"/>
            <a:ext cx="280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24080" y="647640"/>
            <a:ext cx="3024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labels</a:t>
            </a:r>
            <a:endParaRPr b="0" lang="en-US" sz="1800" spc="-1" strike="noStrike">
              <a:solidFill>
                <a:srgbClr val="000000"/>
              </a:solidFill>
              <a:latin typeface="Cordia New"/>
            </a:endParaRPr>
          </a:p>
        </p:txBody>
      </p:sp>
      <p:sp>
        <p:nvSpPr>
          <p:cNvPr id="44" name="Text Box 73"/>
          <p:cNvSpPr/>
          <p:nvPr/>
        </p:nvSpPr>
        <p:spPr>
          <a:xfrm>
            <a:off x="6840360" y="129708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labels</a:t>
            </a:r>
            <a:endParaRPr b="0" lang="en-US" sz="1800" spc="-1" strike="noStrike">
              <a:solidFill>
                <a:srgbClr val="000000"/>
              </a:solidFill>
              <a:latin typeface="Cordia New"/>
            </a:endParaRPr>
          </a:p>
        </p:txBody>
      </p:sp>
      <p:sp>
        <p:nvSpPr>
          <p:cNvPr id="45" name="Text Box 118"/>
          <p:cNvSpPr/>
          <p:nvPr/>
        </p:nvSpPr>
        <p:spPr>
          <a:xfrm>
            <a:off x="7129440" y="504720"/>
            <a:ext cx="338472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1!</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048360" y="1968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 </a:t>
            </a:r>
            <a:r>
              <a:rPr b="0" lang="en-US" sz="1200" spc="-1" strike="noStrike">
                <a:solidFill>
                  <a:srgbClr val="000000"/>
                </a:solidFill>
                <a:latin typeface="Calibri"/>
                <a:ea typeface="Gulim"/>
              </a:rPr>
              <a:t>The term ‘label’ used here refers to information about products found on bags, envelopes, bottles, or boxe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labels is interesting because you can enjoy reading information from a variety of products including food, accessories, even medical labels. Vocabulary and expressions found vary according to types of products e.g. introducing steps,  describing advantages or quality, warning, prohibiting and giving suggestion.</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217080" y="2160720"/>
            <a:ext cx="13669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ลากในที่นี้หมายถึงข้อมูลเกี่ยวกับผลิตภัณฑ์ซึ่งระบุไว้ที่ ถุง ซอง ขวด หรือกล่อง </a:t>
            </a:r>
            <a:br>
              <a:rPr sz="1000"/>
            </a:br>
            <a:r>
              <a:rPr b="0" lang="th-TH" sz="1000" spc="-1" strike="noStrike">
                <a:solidFill>
                  <a:srgbClr val="000000"/>
                </a:solidFill>
                <a:latin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ฉลากมีความน่าสนใจตรงที่</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มีผลิตภัณฑ์มากมายให้คุณได้เลือกไม่ว่าจะเป็นอาหาร ของใช้ประเภทต่างๆ แม้แต่ฉลากยา ซึ่งคำศัพท์ สำนวน ที่ใช้ก็หลากหลายตามประเภทของผลิตภัณฑ์ไปด้วย เช่น การแนะนำขั้นตอน การบรรยายประโยชน์หรือสรรพคุณของผลิตภัณฑ์นั้น การเตือน ห้าม รวมทั้งให้คำแนะนำ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ภาษาจะมีการใช้มีความน่าสนใจคือ จะพบการใช้คำคุณศัพท์อย่างหลากหลายมาก และ นอกจากการพัฒนาคำศัพท์แล้ว การอ่านฉลากจะช่วยพัฒนาทักษะการอ่าน ซึ่งจะส่งผลไปสู่การเขียนที่มีคุณภาพของคุณได้อีกด้วย </a:t>
            </a:r>
            <a:endParaRPr b="0" lang="en-US" sz="1000" spc="-1" strike="noStrike">
              <a:solidFill>
                <a:srgbClr val="000000"/>
              </a:solidFill>
              <a:latin typeface="Cordia New"/>
            </a:endParaRPr>
          </a:p>
        </p:txBody>
      </p:sp>
      <p:sp>
        <p:nvSpPr>
          <p:cNvPr id="48" name="Rectangle 194"/>
          <p:cNvSpPr/>
          <p:nvPr/>
        </p:nvSpPr>
        <p:spPr>
          <a:xfrm>
            <a:off x="6051600" y="497340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language use in writing labels is the use of adjectives which are very colorful. And apart from developing vocabulary reading labels also helps to increase your reading ability, which as a result leads to better writing.</a:t>
            </a:r>
            <a:endParaRPr b="0" lang="en-US" sz="1200" spc="-1" strike="noStrike">
              <a:solidFill>
                <a:srgbClr val="000000"/>
              </a:solidFill>
              <a:latin typeface="Cordia New"/>
            </a:endParaRPr>
          </a:p>
        </p:txBody>
      </p:sp>
      <p:graphicFrame>
        <p:nvGraphicFramePr>
          <p:cNvPr id="49" name=""/>
          <p:cNvGraphicFramePr/>
          <p:nvPr/>
        </p:nvGraphicFramePr>
        <p:xfrm>
          <a:off x="216000" y="1409760"/>
          <a:ext cx="4537080" cy="5432400"/>
        </p:xfrm>
        <a:graphic>
          <a:graphicData uri="http://schemas.openxmlformats.org/drawingml/2006/table">
            <a:tbl>
              <a:tblPr/>
              <a:tblGrid>
                <a:gridCol w="4537080"/>
              </a:tblGrid>
              <a:tr h="44820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200" spc="-1" strike="noStrike">
                          <a:solidFill>
                            <a:srgbClr val="000000"/>
                          </a:solidFill>
                          <a:latin typeface="Arial"/>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435348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2" descr="60"/>
          <p:cNvPicPr/>
          <p:nvPr/>
        </p:nvPicPr>
        <p:blipFill>
          <a:blip r:embed="rId2"/>
          <a:stretch/>
        </p:blipFill>
        <p:spPr>
          <a:xfrm>
            <a:off x="43164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655640"/>
            <a:ext cx="151128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ฉลากที่คุณ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มา </a:t>
            </a:r>
            <a:r>
              <a:rPr b="0" lang="th-TH" sz="1000" spc="-1" strike="noStrike">
                <a:solidFill>
                  <a:srgbClr val="000000"/>
                </a:solidFill>
                <a:latin typeface="Cordia New"/>
                <a:ea typeface="Cordia New"/>
              </a:rPr>
              <a:t>1 </a:t>
            </a:r>
            <a:r>
              <a:rPr b="0" lang="th-TH" sz="1000" spc="-1" strike="noStrike">
                <a:solidFill>
                  <a:srgbClr val="000000"/>
                </a:solidFill>
                <a:latin typeface="Cordia New"/>
                <a:cs typeface="Cordia New"/>
              </a:rPr>
              <a:t>ประเภท คุณอาจมีฉล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 ชิ้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เล่มใหญ่ๆ  เนื่องจาก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างคำอาจเป็นศัพท์เทคนิค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ด้าน กรณีนี้พจนานุกรมเล่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กๆจะไม่มีข้อมูลเพียงพอ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คำศัพท์หรือสำนว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ทำการศึกษาคำศัพท์ที่พ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านประเภทของคำ ได้แก่คำนาม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กริยา คำคุณศัพท์ หรือคำกริย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เศษณ์ และจดความหมาย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อย่างการใช้คำในประโยค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ข้อมูลลงใน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ฉลากควรเริ่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สมโดยการบอกกล่าวเพื่อนฝูงหรือ</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รู้จักให้ช่วยเก็บฉลากไว้ให้ </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เฉพาะฉลากผลิตภัณฑ์จาก</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ประเทศ  และที่สำคัญฉลากขอ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ผลิตภัณฑ์ที่มีราคาแพงๆ หรือนานครั้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ะซื้อ เช่น เครื่องสำอาง น้ำหอม อย่า</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ลืมรีบบอกเนิ่นๆก่อนที่ฉลากจะถูกโยน</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ไปหมดเสียก่อน</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endParaRPr b="0" lang="en-US" sz="1000" spc="-1" strike="noStrike">
              <a:solidFill>
                <a:srgbClr val="000000"/>
              </a:solidFill>
              <a:latin typeface="Cordia New"/>
            </a:endParaRPr>
          </a:p>
        </p:txBody>
      </p:sp>
      <p:pic>
        <p:nvPicPr>
          <p:cNvPr id="59" name="Picture 26" descr="28"/>
          <p:cNvPicPr/>
          <p:nvPr/>
        </p:nvPicPr>
        <p:blipFill>
          <a:blip r:embed="rId3"/>
          <a:stretch/>
        </p:blipFill>
        <p:spPr>
          <a:xfrm>
            <a:off x="9072720" y="144360"/>
            <a:ext cx="1098360" cy="1440000"/>
          </a:xfrm>
          <a:prstGeom prst="rect">
            <a:avLst/>
          </a:prstGeom>
          <a:ln w="0">
            <a:noFill/>
          </a:ln>
        </p:spPr>
      </p:pic>
      <p:graphicFrame>
        <p:nvGraphicFramePr>
          <p:cNvPr id="60" name=""/>
          <p:cNvGraphicFramePr/>
          <p:nvPr/>
        </p:nvGraphicFramePr>
        <p:xfrm>
          <a:off x="5977080" y="1655640"/>
          <a:ext cx="4537080" cy="4211640"/>
        </p:xfrm>
        <a:graphic>
          <a:graphicData uri="http://schemas.openxmlformats.org/drawingml/2006/table">
            <a:tbl>
              <a:tblPr/>
              <a:tblGrid>
                <a:gridCol w="4537080"/>
              </a:tblGrid>
              <a:tr h="48492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000" spc="-1" strike="noStrike">
                          <a:solidFill>
                            <a:srgbClr val="000000"/>
                          </a:solidFill>
                          <a:latin typeface="Calibri"/>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Tahoma"/>
                        </a:rPr>
                        <a:t>soap</a:t>
                      </a: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และจากผลิตภัณฑ์</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3114000">
                <a:tc>
                  <a:txBody>
                    <a:bodyPr lIns="81360" rIns="81360" tIns="40680" bIns="40680"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Vocabulary</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innocence (n.): the quality of having no experience or knowledg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the sweet innocence of youth…</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purify (v.): If you purify a substance, you make it pure by removing any harmful, dirty, or inferior substances from it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I take wheat and yeast tablets daily to purify the blood.</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glory (n.): Glory is the fame and admiration that you gain by doing something impressi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Walsham had his moment of glory when he won a 20 km race.</a:t>
                      </a:r>
                      <a:endParaRPr b="0" lang="en-US" sz="1000" spc="-1" strike="noStrike">
                        <a:solidFill>
                          <a:srgbClr val="000000"/>
                        </a:solidFill>
                        <a:latin typeface="Cordia New"/>
                      </a:endParaRPr>
                    </a:p>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a:t>
                      </a:r>
                      <a:r>
                        <a:rPr b="0" lang="en-US" sz="1000" spc="-1" strike="noStrike">
                          <a:solidFill>
                            <a:srgbClr val="000000"/>
                          </a:solidFill>
                          <a:latin typeface="Calibri"/>
                          <a:ea typeface="Angsana New"/>
                        </a:rPr>
                        <a:t>love that only resides in the soul…</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the symbol of innocence, purity, sincerity and spiritual lo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866520"/>
            <a:ext cx="2952720" cy="45979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kind of label you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You may work on as many as label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s you wan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on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y will work well with technical term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hile small dictionaries will not.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lso work with online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that interest you. Find ou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arts of speech of the chosen words e.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un, verb, adjective or adverb. Not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own their meaning and sample use i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entences from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mplete your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labels, start collecting label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tart by informing your interest to your friend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cquaintances, ask them to collect labels for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specially ones from abroad, ones of expensiv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r rare products like cosmetics and perfu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member to tell them in advance… before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bels are thrown away.</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1:43Z</dcterms:modified>
  <cp:revision>1732</cp:revision>
  <dc:subject/>
  <dc:title>Slide 1</dc:title>
</cp:coreProperties>
</file>