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079976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F1E-18DB-4F8D-A7D4-04F9EFEE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0A7-A5EA-42BB-87FA-E80EF994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C86-46E3-4D66-906B-4AAA2804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251928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6243120"/>
            <a:ext cx="20862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379-90A7-4AD1-B397-B2656E3F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F06-C5E2-43B7-A0FA-104BF903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34F-BC2D-472A-82D9-399D5DEB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D08-D6C6-4B5A-8038-61181D5A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52A-F0B0-41C0-9D39-4133D3A2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33440"/>
            <a:ext cx="6480000" cy="83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E0DF-1441-4B4C-B8E7-003DEE29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D78-601E-4446-8EE7-BFB21B05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624312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0CF-1012-4B35-8707-D720F5F4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2519280"/>
            <a:ext cx="316188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6243120"/>
            <a:ext cx="6480000" cy="34005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ACC-AC33-4A8D-8263-B3EF10C7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33440"/>
            <a:ext cx="6480000" cy="1800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2519280"/>
            <a:ext cx="6480000" cy="71294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9837360"/>
            <a:ext cx="227952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9837360"/>
            <a:ext cx="1679400" cy="7491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lstStyle>
            <a:lvl1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fld id="{FF15304F-F383-4E4D-9D56-16F631ED381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39"/>
          <p:cNvSpPr/>
          <p:nvPr/>
        </p:nvSpPr>
        <p:spPr>
          <a:xfrm>
            <a:off x="720720" y="2313000"/>
            <a:ext cx="3600360" cy="10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Goudy Old Style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60000" y="2952720"/>
            <a:ext cx="3181320" cy="1008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b">
            <a:normAutofit fontScale="53000"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   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ือ แผ่นบันทึกการเรียนรู้ที่ออกแบบมาเพื่อให้ผู้เรียนใช้พัฒนาการเรียนรู้ทางภาษา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จะแบ่งออกตามข้อมูลที่ผู้เรียนเลือกใช้เป็นสื่อในการเรียน เช่น ข่าว  เรื่องสั้น ภาพยนต์ และเวปไซด์ต่างๆ   จุดเด่นของ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ใช้ได้กับหลากหลายเนื้อห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080" y="2257560"/>
            <a:ext cx="3182760" cy="7030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txBody>
          <a:bodyPr lIns="102960" rIns="102960" tIns="51480" bIns="51480" anchor="t">
            <a:normAutofit fontScale="7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 </a:t>
            </a: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are  record sheets aim at providing language-learning procedures which learners can use many times varying the content for themselv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 </a:t>
            </a:r>
            <a:r>
              <a:rPr b="0" lang="en-US" sz="22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are classified according to different sources where you can learn English from. For example, you may study English through news, short stories, movies, and websites.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How to Use Generic Work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1. Survey the generic worksheets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2. Choose the one you would like to work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3. Study the information you  have to complete from the chosen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4. Study from chosen resources. For example, if you choose to work on news, you could get the news either form newspapers at SALC, at home or from the inter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5. Complete the sh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n case you are assigned from course work, consult your lecturer how to submit the sheet. For ones who work on self-study basis, it is suggested that you keep the sheet in your learning folder. The sheet is useful for furthe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71"/>
          <p:cNvSpPr/>
          <p:nvPr/>
        </p:nvSpPr>
        <p:spPr>
          <a:xfrm>
            <a:off x="216000" y="9288360"/>
            <a:ext cx="287964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ถ้าคุณมีคำถามเพิ่มเติมพบที่ปรึกษาประจำศูนย์ </a:t>
            </a: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i="1" lang="th-TH" sz="2000" spc="-1" strike="noStrike">
                <a:solidFill>
                  <a:srgbClr val="000000"/>
                </a:solidFill>
                <a:latin typeface="Cordia New"/>
                <a:cs typeface="Cordia New"/>
              </a:rPr>
              <a:t>ได้ที่ห้อ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dia New"/>
                <a:ea typeface="Cordia New"/>
              </a:rPr>
              <a:t>LNG 4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76"/>
          <p:cNvSpPr/>
          <p:nvPr/>
        </p:nvSpPr>
        <p:spPr>
          <a:xfrm>
            <a:off x="1655640" y="10369440"/>
            <a:ext cx="40323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Created 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Nov, 2009 by SALC counselor</a:t>
            </a:r>
            <a:r>
              <a:rPr b="0" lang="th-TH" sz="10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updated Jan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78"/>
          <p:cNvSpPr/>
          <p:nvPr/>
        </p:nvSpPr>
        <p:spPr>
          <a:xfrm>
            <a:off x="3887640" y="3313080"/>
            <a:ext cx="30243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685800" indent="-6858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55"/>
          <p:cNvSpPr/>
          <p:nvPr/>
        </p:nvSpPr>
        <p:spPr>
          <a:xfrm>
            <a:off x="431640" y="216000"/>
            <a:ext cx="3517920" cy="236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3400" rIns="113400" tIns="56880" bIns="568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radley Hand ITC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eneric Workshee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        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Cordia New"/>
                <a:cs typeface="Cordia New"/>
              </a:rPr>
              <a:t>คู่มือการใช้ </a:t>
            </a:r>
            <a:r>
              <a:rPr b="1" lang="en-US" sz="2400" spc="-1" strike="noStrike">
                <a:solidFill>
                  <a:srgbClr val="ff0000"/>
                </a:solidFill>
                <a:latin typeface="Bradley Hand ITC"/>
              </a:rPr>
              <a:t>Generic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0800" y="4389120"/>
            <a:ext cx="3181320" cy="469404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 fontScale="84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th-TH" sz="2200" spc="-1" strike="noStrike">
                <a:solidFill>
                  <a:srgbClr val="0070c0"/>
                </a:solidFill>
                <a:latin typeface="Cordia New"/>
                <a:cs typeface="Cordia New"/>
              </a:rPr>
              <a:t>การใช้ 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 “</a:t>
            </a:r>
            <a:r>
              <a:rPr b="1" lang="en-US" sz="2200" spc="-1" strike="noStrike">
                <a:solidFill>
                  <a:srgbClr val="0070c0"/>
                </a:solidFill>
                <a:latin typeface="Cordia New"/>
                <a:ea typeface="Cordia New"/>
              </a:rPr>
              <a:t>Generic  Worksheets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ำรวจ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”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เภทต่าง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ลือกหัวข้อที่คุณสนใจเรียนรู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ึกษาข้อมูลที่จะทำการบันทึกจา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ี่เลือ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ทำการศึกษาตามหัวข้อที่เลือกจากแหล่งต่างๆ เช่น ถ้าคุณเลือกพัฒนาการอ่านข่าว คุณอาจหาข่าวจากแหล่งที่สะดวกไม่ว่าจะเป็นหนังสือพิมพ์ที่บ้าน ที่ศูนย์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SALC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หรือจากทางอินเตอร์เน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rdia New"/>
              <a:buAutoNum type="arabicPeriod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อก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กรณีที่ได้รับหมายจากอาจารย์ให้ปฏิบัติตามที่อาจารย์กำหนด และสำหรับกรณีทำการศึกษาเพิ่มเติมด้วยตนเองควร เก็บ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generic worksheet </a:t>
            </a:r>
            <a:r>
              <a:rPr b="0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ไว้ในแฟ้มการเรียนรู้ของคุณเพื่อใช้ทบทวนต่อไ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6" descr="26"/>
          <p:cNvPicPr/>
          <p:nvPr/>
        </p:nvPicPr>
        <p:blipFill>
          <a:blip r:embed="rId1"/>
          <a:stretch/>
        </p:blipFill>
        <p:spPr>
          <a:xfrm>
            <a:off x="5184720" y="347760"/>
            <a:ext cx="125748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26"/>
          <p:cNvSpPr/>
          <p:nvPr/>
        </p:nvSpPr>
        <p:spPr>
          <a:xfrm>
            <a:off x="3817800" y="9596520"/>
            <a:ext cx="338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If you need more suggestions, meet our SALC counsellor at LNG 4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55:43Z</dcterms:created>
  <dc:creator>sKzXP</dc:creator>
  <dc:description/>
  <dc:language>en-US</dc:language>
  <cp:lastModifiedBy>user</cp:lastModifiedBy>
  <dcterms:modified xsi:type="dcterms:W3CDTF">2014-01-03T07:55:13Z</dcterms:modified>
  <cp:revision>105</cp:revision>
  <dc:subject/>
  <dc:title>Slide 1</dc:title>
</cp:coreProperties>
</file>