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199313" cy="10799763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1992-3FE5-438D-AA60-587A8019A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360" y="2519280"/>
            <a:ext cx="648000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0360" y="6243120"/>
            <a:ext cx="648000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DCA1-C532-4492-AF39-BF4D0F28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0360" y="2519280"/>
            <a:ext cx="316188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80640" y="2519280"/>
            <a:ext cx="316188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0360" y="6243120"/>
            <a:ext cx="316188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80640" y="6243120"/>
            <a:ext cx="316188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143E-935E-4394-BBE6-FF9E62F84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0360" y="2519280"/>
            <a:ext cx="208620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51320" y="2519280"/>
            <a:ext cx="208620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42280" y="2519280"/>
            <a:ext cx="208620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0360" y="6243120"/>
            <a:ext cx="208620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51320" y="6243120"/>
            <a:ext cx="208620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42280" y="6243120"/>
            <a:ext cx="208620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9E43-7929-4F08-B383-7EEC22DBE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0360" y="2519280"/>
            <a:ext cx="6480000" cy="71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530C-3F23-4F64-91DA-7CD420E6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0360" y="2519280"/>
            <a:ext cx="6480000" cy="712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AE1B-CA79-4755-AFD5-DD8BCCE7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0360" y="2519280"/>
            <a:ext cx="3161880" cy="712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80640" y="2519280"/>
            <a:ext cx="3161880" cy="712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7255-DB29-4E28-8BE2-2BACE80F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E833-3FAF-4F48-929A-C7D5A843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0360" y="433440"/>
            <a:ext cx="6480000" cy="83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AB0A-A695-4F28-9B32-484B58AC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0360" y="2519280"/>
            <a:ext cx="316188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80640" y="2519280"/>
            <a:ext cx="3161880" cy="712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0360" y="6243120"/>
            <a:ext cx="316188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3705-EBA8-4F0B-A8B5-E4257ADA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360" y="2519280"/>
            <a:ext cx="3161880" cy="712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80640" y="2519280"/>
            <a:ext cx="316188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80640" y="6243120"/>
            <a:ext cx="316188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3139-EF0A-4983-ADCF-FCC55772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360" y="2519280"/>
            <a:ext cx="316188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80640" y="2519280"/>
            <a:ext cx="316188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0360" y="6243120"/>
            <a:ext cx="648000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1F71-54AD-4F27-9AA3-8C4BF3AE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0360" y="2519280"/>
            <a:ext cx="6480000" cy="712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385920" indent="-385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222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57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800360" indent="-2574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60000" y="9837360"/>
            <a:ext cx="1679400" cy="7491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60600" y="9837360"/>
            <a:ext cx="2279520" cy="7491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60600" y="9837360"/>
            <a:ext cx="1679400" cy="7491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lstStyle>
            <a:lvl1pPr indent="0" algn="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fld id="{DBA3CF5D-1ED3-4BD7-BE1B-CBC040033825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39"/>
          <p:cNvSpPr/>
          <p:nvPr/>
        </p:nvSpPr>
        <p:spPr>
          <a:xfrm>
            <a:off x="720720" y="2313000"/>
            <a:ext cx="3600360" cy="108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oudy Old Style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Goudy Old Style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60000" y="2952720"/>
            <a:ext cx="3181320" cy="1008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b">
            <a:normAutofit fontScale="53000"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dia New"/>
                <a:ea typeface="Cordia New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dia New"/>
                <a:ea typeface="Cordia New"/>
              </a:rPr>
              <a:t>    “</a:t>
            </a:r>
            <a:r>
              <a:rPr b="1" lang="en-US" sz="2200" spc="-1" strike="noStrike">
                <a:solidFill>
                  <a:srgbClr val="000000"/>
                </a:solidFill>
                <a:latin typeface="Cordia New"/>
                <a:ea typeface="Cordia New"/>
              </a:rPr>
              <a:t>Generic  Worksheets”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คือ แผ่นบันทึกการเรียนรู้ที่ออกแบบมาเพื่อให้ผู้เรียนใช้พัฒนาการเรียนรู้ทางภาษา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Generic worksheets”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จะแบ่งออกตามข้อมูลที่ผู้เรียนเลือกใช้เป็นสื่อในการเรียน เช่น ข่าว  เรื่องสั้น ภาพยนต์ และเวปไซด์ต่างๆ   จุดเด่นของ 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Generic Worksheet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ใช้ได้กับหลากหลายเนื้อห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808080" y="2257560"/>
            <a:ext cx="3182760" cy="70308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ash"/>
            <a:miter/>
          </a:ln>
        </p:spPr>
        <p:txBody>
          <a:bodyPr lIns="102960" rIns="102960" tIns="51480" bIns="51480" anchor="t">
            <a:normAutofit fontScale="7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dia New"/>
                <a:ea typeface="Cordia New"/>
              </a:rPr>
              <a:t>“</a:t>
            </a:r>
            <a:r>
              <a:rPr b="1" lang="en-US" sz="2200" spc="-1" strike="noStrike">
                <a:solidFill>
                  <a:srgbClr val="000000"/>
                </a:solidFill>
                <a:latin typeface="Cordia New"/>
                <a:ea typeface="Cordia New"/>
              </a:rPr>
              <a:t>Generic worksheets” </a:t>
            </a:r>
            <a:r>
              <a:rPr b="0" lang="en-US" sz="1400" spc="-1" strike="noStrike">
                <a:solidFill>
                  <a:srgbClr val="000000"/>
                </a:solidFill>
                <a:latin typeface="Cordia New"/>
                <a:ea typeface="Cordia New"/>
              </a:rPr>
              <a:t>are  record sheets aim at providing language-learning procedures which learners can use many times varying the content for themselv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dia New"/>
                <a:ea typeface="Cordia New"/>
              </a:rPr>
              <a:t>Generic worksheets </a:t>
            </a:r>
            <a:r>
              <a:rPr b="0" lang="en-US" sz="22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are classified according to different sources where you can learn English from. For example, you may study English through news, short stories, movies, and websites.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rdia New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Cordia New"/>
                <a:ea typeface="Cordia New"/>
              </a:rPr>
              <a:t>How to Use Generic Workshe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1. Survey the generic worksheets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2. Choose the one you would like to work 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3. Study the information you  have to complete from the chosen she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4. Study from chosen resources. For example, if you choose to work on news, you could get the news either form newspapers at SALC, at home or from the inter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5. Complete the she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rdia New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In case you are assigned from course work, consult your lecturer how to submit the sheet. For ones who work on self-study basis, it is suggested that you keep the sheet in your learning folder. The sheet is useful for further revi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71"/>
          <p:cNvSpPr/>
          <p:nvPr/>
        </p:nvSpPr>
        <p:spPr>
          <a:xfrm>
            <a:off x="216000" y="9288360"/>
            <a:ext cx="287964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i="1" lang="th-TH" sz="2000" spc="-1" strike="noStrike">
                <a:solidFill>
                  <a:srgbClr val="000000"/>
                </a:solidFill>
                <a:latin typeface="Cordia New"/>
                <a:cs typeface="Cordia New"/>
              </a:rPr>
              <a:t>ถ้าคุณมีคำถามเพิ่มเติมพบที่ปรึกษาประจำศูนย์ </a:t>
            </a:r>
            <a:r>
              <a:rPr b="0" i="1" lang="en-US" sz="2000" spc="-1" strike="noStrike">
                <a:solidFill>
                  <a:srgbClr val="000000"/>
                </a:solidFill>
                <a:latin typeface="Cordia New"/>
                <a:ea typeface="Cordia New"/>
              </a:rPr>
              <a:t>SALC </a:t>
            </a:r>
            <a:r>
              <a:rPr b="0" i="1" lang="th-TH" sz="2000" spc="-1" strike="noStrike">
                <a:solidFill>
                  <a:srgbClr val="000000"/>
                </a:solidFill>
                <a:latin typeface="Cordia New"/>
                <a:cs typeface="Cordia New"/>
              </a:rPr>
              <a:t>ได้ที่ห้อ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dia New"/>
                <a:ea typeface="Cordia New"/>
              </a:rPr>
              <a:t>LNG 4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76"/>
          <p:cNvSpPr/>
          <p:nvPr/>
        </p:nvSpPr>
        <p:spPr>
          <a:xfrm>
            <a:off x="1655640" y="10369440"/>
            <a:ext cx="40323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ov, 2009 by SALC counselor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updated Jan,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78"/>
          <p:cNvSpPr/>
          <p:nvPr/>
        </p:nvSpPr>
        <p:spPr>
          <a:xfrm>
            <a:off x="3887640" y="3313080"/>
            <a:ext cx="302436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685800" indent="-6858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55"/>
          <p:cNvSpPr/>
          <p:nvPr/>
        </p:nvSpPr>
        <p:spPr>
          <a:xfrm>
            <a:off x="431640" y="216000"/>
            <a:ext cx="3517920" cy="236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Bradley Hand ITC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Generic Workshee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        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th-TH" sz="2000" spc="-1" strike="noStrike">
                <a:solidFill>
                  <a:srgbClr val="ff0000"/>
                </a:solidFill>
                <a:latin typeface="Cordia New"/>
                <a:cs typeface="Cordia New"/>
              </a:rPr>
              <a:t>คู่มือการใช้ </a:t>
            </a:r>
            <a:r>
              <a:rPr b="1" lang="en-US" sz="2400" spc="-1" strike="noStrike">
                <a:solidFill>
                  <a:srgbClr val="ff0000"/>
                </a:solidFill>
                <a:latin typeface="Bradley Hand ITC"/>
              </a:rPr>
              <a:t>Generic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80800" y="4389120"/>
            <a:ext cx="3181320" cy="46940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 fontScale="84000"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2200" spc="-1" strike="noStrike">
                <a:solidFill>
                  <a:srgbClr val="0070c0"/>
                </a:solidFill>
                <a:latin typeface="Cordia New"/>
                <a:cs typeface="Cordia New"/>
              </a:rPr>
              <a:t>การใช้ </a:t>
            </a:r>
            <a:r>
              <a:rPr b="1" lang="en-US" sz="2200" spc="-1" strike="noStrike">
                <a:solidFill>
                  <a:srgbClr val="0070c0"/>
                </a:solidFill>
                <a:latin typeface="Cordia New"/>
                <a:ea typeface="Cordia New"/>
              </a:rPr>
              <a:t> “</a:t>
            </a:r>
            <a:r>
              <a:rPr b="1" lang="en-US" sz="2200" spc="-1" strike="noStrike">
                <a:solidFill>
                  <a:srgbClr val="0070c0"/>
                </a:solidFill>
                <a:latin typeface="Cordia New"/>
                <a:ea typeface="Cordia New"/>
              </a:rPr>
              <a:t>Generic  Worksheets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rdia New"/>
              <a:buAutoNum type="arabicPeriod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สำรวจ 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generic worksheet”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ประเภทต่าง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rdia New"/>
              <a:buAutoNum type="arabicPeriod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เลือกหัวข้อที่คุณสนใจเรียนรู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rdia New"/>
              <a:buAutoNum type="arabicPeriod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ศึกษาข้อมูลที่จะทำการบันทึกจาก 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generic worksheet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ที่เลือ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rdia New"/>
              <a:buAutoNum type="arabicPeriod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ทำการศึกษาตามหัวข้อที่เลือกจากแหล่งต่างๆ เช่น ถ้าคุณเลือกพัฒนาการอ่านข่าว คุณอาจหาข่าวจากแหล่งที่สะดวกไม่ว่าจะเป็นหนังสือพิมพ์ที่บ้าน ที่ศูนย์ 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SALC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หรือจากทางอินเตอร์เน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rdia New"/>
              <a:buAutoNum type="arabicPeriod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กรอก 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generic worksheet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กรณีที่ได้รับหมายจากอาจารย์ให้ปฏิบัติตามที่อาจารย์กำหนด และสำหรับกรณีทำการศึกษาเพิ่มเติมด้วยตนเองควร เก็บ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generic worksheet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ไว้ในแฟ้มการเรียนรู้ของคุณเพื่อใช้ทบทวนต่อไ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6" descr="26"/>
          <p:cNvPicPr/>
          <p:nvPr/>
        </p:nvPicPr>
        <p:blipFill>
          <a:blip r:embed="rId1"/>
          <a:stretch/>
        </p:blipFill>
        <p:spPr>
          <a:xfrm>
            <a:off x="5184720" y="347760"/>
            <a:ext cx="125748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26"/>
          <p:cNvSpPr/>
          <p:nvPr/>
        </p:nvSpPr>
        <p:spPr>
          <a:xfrm>
            <a:off x="3817800" y="9596520"/>
            <a:ext cx="3389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If you need more suggestions, meet our SALC counsellor at LNG 4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4:55:43Z</dcterms:created>
  <dc:creator>sKzXP</dc:creator>
  <dc:description/>
  <dc:language>en-US</dc:language>
  <cp:lastModifiedBy>user</cp:lastModifiedBy>
  <dcterms:modified xsi:type="dcterms:W3CDTF">2014-01-03T07:55:13Z</dcterms:modified>
  <cp:revision>105</cp:revision>
  <dc:subject/>
  <dc:title>Slide 1</dc:title>
</cp:coreProperties>
</file>