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079976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63B-BB16-4222-8E86-681DCC0B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050-C7E1-42AE-AD34-17213693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EE8-B3DF-446B-80A0-5372A2BE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132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228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132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228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D749-40D8-485D-969B-0EF278FD7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FFC-1987-49BA-ABC1-8ECA7E5E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B17E-3BB5-455A-BFCB-D270D5B0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9C2-3143-4A30-8DF8-FEBB6F22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CE9-17A8-4789-946B-A1300900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433440"/>
            <a:ext cx="64800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944-CFCC-4080-9C74-5949B671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319-038C-4195-8EBF-53A7843F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9F0-6DB1-47EB-A749-8FEFB09F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4A5-E353-41C4-9043-EA79F06A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0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0600" y="9837360"/>
            <a:ext cx="227952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06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fld id="{845F3FE2-C0FE-44B3-AEBE-E22D5B8019A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39"/>
          <p:cNvSpPr/>
          <p:nvPr/>
        </p:nvSpPr>
        <p:spPr>
          <a:xfrm>
            <a:off x="720720" y="2313000"/>
            <a:ext cx="3600360" cy="10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60000" y="2952720"/>
            <a:ext cx="3181320" cy="1008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b">
            <a:normAutofit fontScale="53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   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ือ แผ่นบันทึกการเรียนรู้ที่ออกแบบมาเพื่อให้ผู้เรียนใช้พัฒนาการเรียนรู้ทางภาษา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จะแบ่งออกตามข้อมูลที่ผู้เรียนเลือกใช้เป็นสื่อในการเรียน เช่น ข่าว  เรื่องสั้น ภาพยนต์ และเวปไซด์ต่างๆ   จุดเด่นของ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ใช้ได้กับหลากหลายเนื้อห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080" y="2257560"/>
            <a:ext cx="3182760" cy="703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txBody>
          <a:bodyPr lIns="102960" rIns="102960" tIns="51480" bIns="51480" anchor="t">
            <a:normAutofit fontScale="7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are  record sheets aim at providing language-learning procedures which learners can use many times varying the content for themsel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 </a:t>
            </a:r>
            <a:r>
              <a:rPr b="0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are classified according to different sources where you can learn English from. For example, you may study English through news, short stories, movies, and websites.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How to Use Generic Work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1. Survey the generic worksheets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2. Choose the one you would like to work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3. Study the information you  have to complete from the chosen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4. Study from chosen resources. For example, if you choose to work on news, you could get the news either form newspapers at SALC, at home or from th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5. Complete the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n case you are assigned from course work, consult your lecturer how to submit the sheet. For ones who work on self-study basis, it is suggested that you keep the sheet in your learning folder. The sheet is useful for furthe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71"/>
          <p:cNvSpPr/>
          <p:nvPr/>
        </p:nvSpPr>
        <p:spPr>
          <a:xfrm>
            <a:off x="216000" y="9288360"/>
            <a:ext cx="287964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มีคำถามเพิ่มเติมพบที่ปรึกษาประจำศูนย์ </a:t>
            </a: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ที่ห้อ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LNG 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76"/>
          <p:cNvSpPr/>
          <p:nvPr/>
        </p:nvSpPr>
        <p:spPr>
          <a:xfrm>
            <a:off x="1655640" y="10369440"/>
            <a:ext cx="4032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v, 2009 by SALC counselor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updated Jan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78"/>
          <p:cNvSpPr/>
          <p:nvPr/>
        </p:nvSpPr>
        <p:spPr>
          <a:xfrm>
            <a:off x="3887640" y="3313080"/>
            <a:ext cx="30243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685800" indent="-685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55"/>
          <p:cNvSpPr/>
          <p:nvPr/>
        </p:nvSpPr>
        <p:spPr>
          <a:xfrm>
            <a:off x="431640" y="216000"/>
            <a:ext cx="3517920" cy="236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radley Hand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eneric Workshee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       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Cordia New"/>
                <a:cs typeface="Cordia New"/>
              </a:rPr>
              <a:t>คู่มือการใช้ </a:t>
            </a: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Generic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0800" y="4389120"/>
            <a:ext cx="3181320" cy="4694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 fontScale="84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2200" spc="-1" strike="noStrike">
                <a:solidFill>
                  <a:srgbClr val="0070c0"/>
                </a:solidFill>
                <a:latin typeface="Cordia New"/>
                <a:cs typeface="Cordia New"/>
              </a:rPr>
              <a:t>การใช้ 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 “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Generic  Worksheets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ำรวจ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เภทต่าง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หัวข้อที่คุณสนใจเรียน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ึกษาข้อมูลที่จะทำการบันทึกจา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เลือ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การศึกษาตามหัวข้อที่เลือกจากแหล่งต่างๆ เช่น ถ้าคุณเลือกพัฒนาการอ่านข่าว คุณอาจหาข่าวจากแหล่งที่สะดวกไม่ว่าจะเป็นหนังสือพิมพ์ที่บ้าน ที่ศูนย์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หรือจากทางอินเตอร์เน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ณีที่ได้รับหมายจากอาจารย์ให้ปฏิบัติตามที่อาจารย์กำหนด และสำหรับกรณีทำการศึกษาเพิ่มเติมด้วยตนเองควร เก็บ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ไว้ในแฟ้มการเรียนรู้ของคุณเพื่อใช้ทบทวนต่อไ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26"/>
          <p:cNvPicPr/>
          <p:nvPr/>
        </p:nvPicPr>
        <p:blipFill>
          <a:blip r:embed="rId1"/>
          <a:stretch/>
        </p:blipFill>
        <p:spPr>
          <a:xfrm>
            <a:off x="5184720" y="347760"/>
            <a:ext cx="125748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6"/>
          <p:cNvSpPr/>
          <p:nvPr/>
        </p:nvSpPr>
        <p:spPr>
          <a:xfrm>
            <a:off x="3817800" y="9596520"/>
            <a:ext cx="338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f you need more suggestions, meet our SALC counsellor at LNG 4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dcterms:modified xsi:type="dcterms:W3CDTF">2014-01-03T07:55:13Z</dcterms:modified>
  <cp:revision>105</cp:revision>
  <dc:subject/>
  <dc:title>Slide 1</dc:title>
</cp:coreProperties>
</file>