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0B8-FD4A-4D0C-AADC-7549059E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D1D-8EC1-4EB7-B24E-E43C77F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E94-C8BB-4567-B8EA-BCF4FE51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E2F-2EEF-4494-A1A2-23FE70AB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6AC-6389-42DF-876F-5A4C12B4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593-3847-4163-89B0-7F28CD47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334-7145-4094-A9E8-1A9FE0A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864-7250-44C6-9782-507205E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3440"/>
            <a:ext cx="6480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03B-86A5-43B8-B2AE-9649ACD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299-8E01-4931-88DB-E7AC3C8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436-605D-47DD-89C9-BAB49C9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76D-7762-42F0-86C5-80C97EE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837360"/>
            <a:ext cx="227952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3D88B3E7-2C67-4EB3-A84A-B61D25CD7F2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39"/>
          <p:cNvSpPr/>
          <p:nvPr/>
        </p:nvSpPr>
        <p:spPr>
          <a:xfrm>
            <a:off x="720720" y="2313000"/>
            <a:ext cx="360036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60000" y="2952720"/>
            <a:ext cx="3181320" cy="1008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 fontScale="53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   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ือ แผ่นบันทึกการเรียนรู้ที่ออกแบบมาเพื่อให้ผู้เรียนใช้พัฒนาการเรียนรู้ทางภาษ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ะแบ่งออกตามข้อมูลที่ผู้เรียนเลือกใช้เป็นสื่อในการเรียน เช่น ข่าว  เรื่องสั้น ภาพยนต์ และเวปไซด์ต่างๆ   จุดเด่นของ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ได้กับหลากหลายเนื้อห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080" y="2257560"/>
            <a:ext cx="3182760" cy="703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txBody>
          <a:bodyPr lIns="102960" rIns="102960" tIns="51480" bIns="51480" anchor="t">
            <a:normAutofit fontScale="7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are  record sheets aim at providing language-learning procedures which learners can use many times varying the content for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 </a:t>
            </a:r>
            <a:r>
              <a:rPr b="0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are classified according to different sources where you can learn English from. For example, you may study English through news, short stories, movies, and websites.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How to Use Generic Work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. Survey the generic worksheet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. Choose the one you would like to work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3. Study the information you  have to complete from the chosen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. Study from chosen resources. For example, if you choose to work on news, you could get the news either form newspapers at SALC, at home or from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. Complete the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n case you are assigned from course work, consult your lecturer how to submit the sheet. For ones who work on self-study basis, it is suggested that you keep the sheet in your learning folder. The sheet is useful for furthe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1"/>
          <p:cNvSpPr/>
          <p:nvPr/>
        </p:nvSpPr>
        <p:spPr>
          <a:xfrm>
            <a:off x="216000" y="9288360"/>
            <a:ext cx="28796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มีคำถามเพิ่มเติมพบที่ปรึกษาประจำศูนย์ </a:t>
            </a: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ี่ห้อ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LNG 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6"/>
          <p:cNvSpPr/>
          <p:nvPr/>
        </p:nvSpPr>
        <p:spPr>
          <a:xfrm>
            <a:off x="1655640" y="10369440"/>
            <a:ext cx="4032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v, 2009 by SALC counselor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pdated Jan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78"/>
          <p:cNvSpPr/>
          <p:nvPr/>
        </p:nvSpPr>
        <p:spPr>
          <a:xfrm>
            <a:off x="3887640" y="3313080"/>
            <a:ext cx="30243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685800" indent="-68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55"/>
          <p:cNvSpPr/>
          <p:nvPr/>
        </p:nvSpPr>
        <p:spPr>
          <a:xfrm>
            <a:off x="431640" y="216000"/>
            <a:ext cx="3517920" cy="236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eneric Workshe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       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rdia New"/>
                <a:cs typeface="Cordia New"/>
              </a:rPr>
              <a:t>คู่มือการใช้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Generic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0800" y="4389120"/>
            <a:ext cx="3181320" cy="4694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8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200" spc="-1" strike="noStrike">
                <a:solidFill>
                  <a:srgbClr val="0070c0"/>
                </a:solidFill>
                <a:latin typeface="Cordia New"/>
                <a:cs typeface="Cordia New"/>
              </a:rPr>
              <a:t>การใช้ 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 “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Generic  Worksheet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ำรวจ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ภทต่าง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คุณสนใจ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ึกษาข้อมูลที่จะทำการบันทึกจา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ลือ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การศึกษาตามหัวข้อที่เลือกจากแหล่งต่างๆ เช่น ถ้าคุณเลือกพัฒนาการอ่านข่าว คุณอาจหาข่าวจากแหล่งที่สะดวกไม่ว่าจะเป็นหนังสือพิมพ์ที่บ้าน ที่ศูนย์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รือจากทางอินเตอร์เน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ณีที่ได้รับหมายจากอาจารย์ให้ปฏิบัติตามที่อาจารย์กำหนด และสำหรับกรณีทำการศึกษาเพิ่มเติมด้วยตนเองควร เก็บ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ว้ในแฟ้มการเรียนรู้ของคุณเพื่อใช้ทบทว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6"/>
          <p:cNvPicPr/>
          <p:nvPr/>
        </p:nvPicPr>
        <p:blipFill>
          <a:blip r:embed="rId1"/>
          <a:stretch/>
        </p:blipFill>
        <p:spPr>
          <a:xfrm>
            <a:off x="5184720" y="347760"/>
            <a:ext cx="12574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3817800" y="9596520"/>
            <a:ext cx="338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f you need more suggestions, meet our SALC counsellor at LNG 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dcterms:modified xsi:type="dcterms:W3CDTF">2014-01-03T07:55:13Z</dcterms:modified>
  <cp:revision>105</cp:revision>
  <dc:subject/>
  <dc:title>Slide 1</dc:title>
</cp:coreProperties>
</file>