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079976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D33-F0AE-4675-9F24-043E426A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624312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9810-C944-43E1-853A-84B64CDD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064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BC4-3952-434C-AAE7-1B5EE083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132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228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132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228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0FDA-8919-4172-B320-E975363B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EB9-4C5D-472F-A0AE-591240CE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9C9-DB2D-46C8-AC29-2CEA13C6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70C-9961-4EBE-BFE7-CC572B95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E40-8EC4-49BF-B7EA-6BBD1E88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433440"/>
            <a:ext cx="6480000" cy="83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B0D-E328-4652-8D58-C5180DF7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174-7BC7-472E-A037-CE2CE3FF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064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25E-60E3-4BC3-AC04-C0C5EEE7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2E9-3395-47D7-9F1B-4EA9A95E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000" y="9837360"/>
            <a:ext cx="167940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0600" y="9837360"/>
            <a:ext cx="227952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0600" y="9837360"/>
            <a:ext cx="167940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fld id="{25EB6D5A-2C42-43AA-B89E-B2B5BA7B0C54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39"/>
          <p:cNvSpPr/>
          <p:nvPr/>
        </p:nvSpPr>
        <p:spPr>
          <a:xfrm>
            <a:off x="720720" y="2313000"/>
            <a:ext cx="3600360" cy="10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oudy Old Style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oudy Old Style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60000" y="2952720"/>
            <a:ext cx="3181320" cy="1008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b">
            <a:normAutofit fontScale="53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    “</a:t>
            </a: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 Worksheets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คือ แผ่นบันทึกการเรียนรู้ที่ออกแบบมาเพื่อให้ผู้เรียนใช้พัฒนาการเรียนรู้ทางภาษา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จะแบ่งออกตามข้อมูลที่ผู้เรียนเลือกใช้เป็นสื่อในการเรียน เช่น ข่าว  เรื่องสั้น ภาพยนต์ และเวปไซด์ต่างๆ   จุดเด่นของ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ใช้ได้กับหลากหลายเนื้อห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080" y="2257560"/>
            <a:ext cx="3182760" cy="7030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txBody>
          <a:bodyPr lIns="102960" rIns="102960" tIns="51480" bIns="51480" anchor="t">
            <a:normAutofit fontScale="7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 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are  record sheets aim at providing language-learning procedures which learners can use many times varying the content for themselv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 </a:t>
            </a:r>
            <a:r>
              <a:rPr b="0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are classified according to different sources where you can learn English from. For example, you may study English through news, short stories, movies, and websites.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How to Use Generic Workshe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1. Survey the generic worksheets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2. Choose the one you would like to work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3. Study the information you  have to complete from the chosen sh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4. Study from chosen resources. For example, if you choose to work on news, you could get the news either form newspapers at SALC, at home or from the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5. Complete the sh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In case you are assigned from course work, consult your lecturer how to submit the sheet. For ones who work on self-study basis, it is suggested that you keep the sheet in your learning folder. The sheet is useful for furthe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71"/>
          <p:cNvSpPr/>
          <p:nvPr/>
        </p:nvSpPr>
        <p:spPr>
          <a:xfrm>
            <a:off x="216000" y="9288360"/>
            <a:ext cx="287964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คุณมีคำถามเพิ่มเติมพบที่ปรึกษาประจำศูนย์ </a:t>
            </a:r>
            <a:r>
              <a:rPr b="0" i="1" lang="en-US" sz="2000" spc="-1" strike="noStrike">
                <a:solidFill>
                  <a:srgbClr val="000000"/>
                </a:solidFill>
                <a:latin typeface="Cordia New"/>
                <a:ea typeface="Cordia New"/>
              </a:rPr>
              <a:t>SALC </a:t>
            </a:r>
            <a:r>
              <a:rPr b="0" i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ได้ที่ห้อ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dia New"/>
                <a:ea typeface="Cordia New"/>
              </a:rPr>
              <a:t>LNG 4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76"/>
          <p:cNvSpPr/>
          <p:nvPr/>
        </p:nvSpPr>
        <p:spPr>
          <a:xfrm>
            <a:off x="1655640" y="10369440"/>
            <a:ext cx="40323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ov, 2009 by SALC counselor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updated Jan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78"/>
          <p:cNvSpPr/>
          <p:nvPr/>
        </p:nvSpPr>
        <p:spPr>
          <a:xfrm>
            <a:off x="3887640" y="3313080"/>
            <a:ext cx="30243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685800" indent="-685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55"/>
          <p:cNvSpPr/>
          <p:nvPr/>
        </p:nvSpPr>
        <p:spPr>
          <a:xfrm>
            <a:off x="431640" y="216000"/>
            <a:ext cx="3517920" cy="236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radley Hand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Generic Workshee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       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Cordia New"/>
                <a:cs typeface="Cordia New"/>
              </a:rPr>
              <a:t>คู่มือการใช้ </a:t>
            </a: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Generic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0800" y="4389120"/>
            <a:ext cx="3181320" cy="4694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 fontScale="84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2200" spc="-1" strike="noStrike">
                <a:solidFill>
                  <a:srgbClr val="0070c0"/>
                </a:solidFill>
                <a:latin typeface="Cordia New"/>
                <a:cs typeface="Cordia New"/>
              </a:rPr>
              <a:t>การใช้ </a:t>
            </a: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 “</a:t>
            </a: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Generic  Worksheets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ำรวจ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เภทต่าง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หัวข้อที่คุณสนใจเรียนรู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ึกษาข้อมูลที่จะทำการบันทึกจาก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ี่เลือ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การศึกษาตามหัวข้อที่เลือกจากแหล่งต่างๆ เช่น ถ้าคุณเลือกพัฒนาการอ่านข่าว คุณอาจหาข่าวจากแหล่งที่สะดวกไม่ว่าจะเป็นหนังสือพิมพ์ที่บ้าน ที่ศูนย์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SALC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หรือจากทางอินเตอร์เน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อก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ณีที่ได้รับหมายจากอาจารย์ให้ปฏิบัติตามที่อาจารย์กำหนด และสำหรับกรณีทำการศึกษาเพิ่มเติมด้วยตนเองควร เก็บ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ไว้ในแฟ้มการเรียนรู้ของคุณเพื่อใช้ทบทวนต่อไ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26"/>
          <p:cNvPicPr/>
          <p:nvPr/>
        </p:nvPicPr>
        <p:blipFill>
          <a:blip r:embed="rId1"/>
          <a:stretch/>
        </p:blipFill>
        <p:spPr>
          <a:xfrm>
            <a:off x="5184720" y="347760"/>
            <a:ext cx="125748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6"/>
          <p:cNvSpPr/>
          <p:nvPr/>
        </p:nvSpPr>
        <p:spPr>
          <a:xfrm>
            <a:off x="3817800" y="9596520"/>
            <a:ext cx="338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If you need more suggestions, meet our SALC counsellor at LNG 4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dcterms:modified xsi:type="dcterms:W3CDTF">2014-01-03T07:55:13Z</dcterms:modified>
  <cp:revision>105</cp:revision>
  <dc:subject/>
  <dc:title>Slide 1</dc:title>
</cp:coreProperties>
</file>