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DF4A-795D-4AB9-A719-B32EB29D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F292-EA2B-40D5-8A7A-D328CC71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DD18-4614-48A6-AAFD-565688D6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AFA-14D2-471F-8104-70D83A30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0317-ABB5-4E06-AA4E-4FC5944F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A81-E562-44D2-A293-FC52891A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957B-67D9-42DA-93D2-AA77B682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352-5612-4FB2-8941-42649427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446-A320-44A8-820F-82F4ED33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7A8-FB62-4A58-B9E4-7D2F15ED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160-2C59-4ABC-9449-553561B1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C74B-7053-453E-AB3C-22297575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C1BB-B3A0-42D7-9A7D-2172D88EE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16088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c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cut   cut   cu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41360" y="560520"/>
            <a:ext cx="4680000" cy="3560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981000" y="6489720"/>
            <a:ext cx="42498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16088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ุด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ig   dug   dug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ุ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30440" y="200160"/>
            <a:ext cx="4176720" cy="38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506600" y="6515280"/>
            <a:ext cx="3600360" cy="33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วาดรู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raw   drew   drawn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วาดรู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773360" y="272880"/>
            <a:ext cx="3371760" cy="3472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73360" y="6810480"/>
            <a:ext cx="3006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ฝั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640" y="566028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ream   dreamt   dreamt     </a:t>
            </a:r>
            <a:r>
              <a:rPr b="0" lang="th-TH" sz="30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ฝั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36640" y="625320"/>
            <a:ext cx="4869000" cy="3402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1000" y="6537240"/>
            <a:ext cx="424836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17600" y="41306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ดื่มน้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0428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rink   drank   drunk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ดื่มน้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8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00280" y="243000"/>
            <a:ext cx="3460680" cy="381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768320" y="6392880"/>
            <a:ext cx="30038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ับร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45036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404640" y="566028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rive   drove   driv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ับร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9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052640" y="560520"/>
            <a:ext cx="4968720" cy="3384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07920" y="6392880"/>
            <a:ext cx="443556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17600" y="41306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e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ิ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404640" y="560016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eat   ate   eat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ิ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0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268280" y="488880"/>
            <a:ext cx="4967280" cy="3657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27080" y="6392880"/>
            <a:ext cx="424656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ให้อาห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384120" y="564768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eed   fed   fe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ให้อาห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1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97000" y="488880"/>
            <a:ext cx="4608360" cy="3560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125360" y="6402240"/>
            <a:ext cx="410400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บิ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33336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ly    flew   flow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บิ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2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92280" y="631800"/>
            <a:ext cx="5257800" cy="3205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907920" y="6372360"/>
            <a:ext cx="48974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8T07:02:06Z</dcterms:modified>
  <cp:revision>56</cp:revision>
  <dc:subject/>
  <dc:title>ภาพนิ่ง 1</dc:title>
</cp:coreProperties>
</file>