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6858000" cy="9907588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90E9-241E-4B36-B926-D23079A31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E4B8-FA2F-437A-B9CC-EE0E0C5C5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FF58-E233-48C7-BA96-17C866AA2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04D3-1193-4551-9121-BA46787B9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C3A0-ECDD-41FD-8AA7-26CC6E1DF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2E7A-6631-4770-9768-4F9E9830A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A05A-ACD6-480B-BD83-3BF137D40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9AE2-DBE6-498E-89D9-775E023CD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F820-A4E9-4496-8F01-5BBA534F1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696F-2D8A-454F-AC08-14EF1D85F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501E-27C1-4BD2-98C2-2A6A2C58A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D8A4-30A7-4BF5-A2F2-524BBD688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19800"/>
            <a:ext cx="16002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19800"/>
            <a:ext cx="217152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19800"/>
            <a:ext cx="16002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D275A-50E3-4E96-91CB-8E66FA0031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41360" y="4160880"/>
            <a:ext cx="4319640" cy="64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c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ตั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404280" y="5168880"/>
            <a:ext cx="2808360" cy="21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404640" y="5673240"/>
            <a:ext cx="6120000" cy="64800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cut   cut   cut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ตั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4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1341360" y="560520"/>
            <a:ext cx="4680000" cy="35607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981000" y="6489720"/>
            <a:ext cx="4249800" cy="32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41360" y="4160880"/>
            <a:ext cx="4319640" cy="64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d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ขุด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404280" y="509724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04640" y="5673240"/>
            <a:ext cx="6120000" cy="64800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dig   dug   dug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ขุ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5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630440" y="200160"/>
            <a:ext cx="4176720" cy="38574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1506600" y="6515280"/>
            <a:ext cx="3600360" cy="33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341360" y="4016520"/>
            <a:ext cx="4319640" cy="64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d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วาดรู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10800000">
            <a:off x="404280" y="502416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404640" y="5673240"/>
            <a:ext cx="6120000" cy="64800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draw   drew   drawn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วาดรู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6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1773360" y="272880"/>
            <a:ext cx="3371760" cy="34722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1773360" y="6810480"/>
            <a:ext cx="30067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341360" y="4089240"/>
            <a:ext cx="4319640" cy="649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d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ฝั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404280" y="509724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404640" y="5660280"/>
            <a:ext cx="6120000" cy="64764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dream   dreamt   dreamt     </a:t>
            </a:r>
            <a:r>
              <a:rPr b="0" lang="th-TH" sz="30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ฝั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7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836640" y="625320"/>
            <a:ext cx="4869000" cy="3402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981000" y="6537240"/>
            <a:ext cx="4248360" cy="29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317600" y="4130640"/>
            <a:ext cx="4319640" cy="649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d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ดื่มน้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04280" y="5168880"/>
            <a:ext cx="2808360" cy="21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0800000">
            <a:off x="404640" y="5673240"/>
            <a:ext cx="6120000" cy="64800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drink   drank   drunk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ดื่มน้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8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700280" y="243000"/>
            <a:ext cx="3460680" cy="38178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1768320" y="6392880"/>
            <a:ext cx="300384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341360" y="4016520"/>
            <a:ext cx="4319640" cy="64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d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ขับร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10800000">
            <a:off x="450360" y="509724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10800000">
            <a:off x="404640" y="5660280"/>
            <a:ext cx="6120000" cy="64764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drive   drove   driven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ขับร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9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1052640" y="560520"/>
            <a:ext cx="4968720" cy="3384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907920" y="6392880"/>
            <a:ext cx="443556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317600" y="4130640"/>
            <a:ext cx="4319640" cy="649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e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กิน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10800000">
            <a:off x="404280" y="509724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0800000">
            <a:off x="404640" y="5600160"/>
            <a:ext cx="6120000" cy="64764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eat   ate   eaten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กิ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10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1268280" y="488880"/>
            <a:ext cx="4967280" cy="36576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1027080" y="6392880"/>
            <a:ext cx="4246560" cy="31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341360" y="4089240"/>
            <a:ext cx="4319640" cy="649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f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ให้อาหา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404280" y="509724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10800000">
            <a:off x="384120" y="5647680"/>
            <a:ext cx="6120000" cy="64764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feed   fed   fed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ให้อาหา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11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197000" y="488880"/>
            <a:ext cx="4608360" cy="35607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1125360" y="6402240"/>
            <a:ext cx="4104000" cy="31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341360" y="4089240"/>
            <a:ext cx="4319640" cy="649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f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บิน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10800000">
            <a:off x="404280" y="509724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10800000">
            <a:off x="333360" y="5673240"/>
            <a:ext cx="6120000" cy="64800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fly    flew   flown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บิ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12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692280" y="631800"/>
            <a:ext cx="5257800" cy="32050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907920" y="6372360"/>
            <a:ext cx="4897440" cy="29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08:51:53Z</dcterms:created>
  <dc:creator>iLLuSioN</dc:creator>
  <dc:description/>
  <dc:language>en-US</dc:language>
  <cp:lastModifiedBy>Aj_Shannoy</cp:lastModifiedBy>
  <dcterms:modified xsi:type="dcterms:W3CDTF">2010-03-08T07:02:06Z</dcterms:modified>
  <cp:revision>56</cp:revision>
  <dc:subject/>
  <dc:title>ภาพนิ่ง 1</dc:title>
</cp:coreProperties>
</file>