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F49-AB8D-47DD-949A-A0EDC01C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447-B1E1-4951-A450-DC91782C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94F-8482-4C3F-B4D1-43CE5CB7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E7C-0808-4D08-B5E2-F5D46548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9E9-9865-42F3-AD55-BEEF8ED0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DD2-466D-486A-97C3-E2F50CED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F65-272A-485B-8359-EAA23DE8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253-DDC1-494D-B620-10F77888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4C0D-BC71-4F8E-9572-33C55E42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D69-6085-487C-A45C-730E7D36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C30-1BC9-4A0B-91D1-874F35EE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B3D-CFF3-4C98-9B14-9C3F083B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9ACB-DD11-478B-9683-53227E2EC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1360" y="416088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ut   cut   cu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ต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341360" y="560520"/>
            <a:ext cx="4680000" cy="3560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981000" y="6489720"/>
            <a:ext cx="42498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16088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ุด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ig   dug   dug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ุ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30440" y="200160"/>
            <a:ext cx="4176720" cy="385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506600" y="6515280"/>
            <a:ext cx="3600360" cy="33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าดรู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2416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aw   drew   drawn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วาดรู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773360" y="272880"/>
            <a:ext cx="3371760" cy="347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73360" y="6810480"/>
            <a:ext cx="3006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ฝ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640" y="56602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eam   dreamt   dreamt     </a:t>
            </a:r>
            <a:r>
              <a:rPr b="0" lang="th-TH" sz="30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ฝั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6640" y="625320"/>
            <a:ext cx="4869000" cy="3402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1000" y="6537240"/>
            <a:ext cx="4248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ื่มน้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04280" y="5168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40464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ink   drank   drunk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ดื่มน้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8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00280" y="243000"/>
            <a:ext cx="3460680" cy="381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768320" y="6392880"/>
            <a:ext cx="30038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41360" y="40165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ับร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45036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404640" y="56602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drive   drove   driv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ขับร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9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052640" y="560520"/>
            <a:ext cx="4968720" cy="338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7920" y="6392880"/>
            <a:ext cx="44355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e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ิ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404640" y="5600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eat   ate   ea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0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68280" y="488880"/>
            <a:ext cx="4967280" cy="3657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27080" y="6392880"/>
            <a:ext cx="424656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อาห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84120" y="56476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eed   fed   fed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ให้อาห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1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97000" y="488880"/>
            <a:ext cx="4608360" cy="3560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125360" y="6402240"/>
            <a:ext cx="410400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41360" y="40892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บิน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333360" y="5673240"/>
            <a:ext cx="6120000" cy="64800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fly    flew   flow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บิ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12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692280" y="631800"/>
            <a:ext cx="5257800" cy="3205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907920" y="6372360"/>
            <a:ext cx="489744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7:02:06Z</dcterms:modified>
  <cp:revision>56</cp:revision>
  <dc:subject/>
  <dc:title>ภาพนิ่ง 1</dc:title>
</cp:coreProperties>
</file>