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6858000" cy="9907588"/>
  <p:notesSz cx="6815138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57362-EF9C-4110-A4C0-9B1EB8CE8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E76D1-65C8-4804-A0BC-1079BF767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F958D-B560-4D6B-A515-2B7CF68B0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CAB2B-3C40-4B31-BFA9-E4E52AF16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067F3-9511-41C0-B558-366FE00A9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0F038-C5BE-4592-9105-8E1160F14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97A94-86D3-4957-9ED7-65A67E009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BD3F2-674A-4B79-B231-6FD00D68A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96360"/>
            <a:ext cx="617220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CF970-9849-4586-B714-BA75B0873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35331-EDB8-423A-99A0-B39C18D87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9AB14-A070-4E98-B22B-76B62265B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0BED9-AEF5-4F4F-8027-8B65E83B8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9019800"/>
            <a:ext cx="1600200" cy="6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h-TH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19800"/>
            <a:ext cx="2171520" cy="6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9019800"/>
            <a:ext cx="1600200" cy="6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4A4CD-AE6D-4765-A9EB-EE8C7A2185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41360" y="4160880"/>
            <a:ext cx="4319640" cy="649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c………..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  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cs typeface="Tahoma"/>
              </a:rPr>
              <a:t>ตั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950080" y="0"/>
            <a:ext cx="907920" cy="488880"/>
          </a:xfrm>
          <a:prstGeom prst="rect">
            <a:avLst/>
          </a:prstGeom>
          <a:solidFill>
            <a:srgbClr val="cc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o.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404280" y="5168880"/>
            <a:ext cx="2808360" cy="21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Handwriting"/>
              </a:rPr>
              <a:t>© </a:t>
            </a:r>
            <a:r>
              <a:rPr b="0" lang="en-US" sz="1200" spc="-1" strike="noStrike">
                <a:solidFill>
                  <a:srgbClr val="ffffff"/>
                </a:solidFill>
                <a:latin typeface="Comix Regular Caps"/>
              </a:rPr>
              <a:t>2007 Self-Access Learning Centre, KM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404640" y="5673240"/>
            <a:ext cx="6120000" cy="648000"/>
          </a:xfrm>
          <a:prstGeom prst="rect">
            <a:avLst/>
          </a:prstGeom>
          <a:noFill/>
          <a:ln w="381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cut   cut   cut   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cs typeface="Tahoma"/>
              </a:rPr>
              <a:t>ตั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rot="10800000">
            <a:off x="5297040" y="9414000"/>
            <a:ext cx="908280" cy="488880"/>
          </a:xfrm>
          <a:prstGeom prst="rect">
            <a:avLst/>
          </a:prstGeom>
          <a:solidFill>
            <a:srgbClr val="00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11360" y="0"/>
            <a:ext cx="907920" cy="488880"/>
          </a:xfrm>
          <a:prstGeom prst="rect">
            <a:avLst/>
          </a:prstGeom>
          <a:solidFill>
            <a:srgbClr val="00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ss_img" descr="Slideshow image"/>
          <p:cNvPicPr/>
          <p:nvPr/>
        </p:nvPicPr>
        <p:blipFill>
          <a:blip r:embed="rId1"/>
          <a:stretch/>
        </p:blipFill>
        <p:spPr>
          <a:xfrm>
            <a:off x="122400" y="47520"/>
            <a:ext cx="502920" cy="501840"/>
          </a:xfrm>
          <a:prstGeom prst="rect">
            <a:avLst/>
          </a:prstGeom>
          <a:ln w="0">
            <a:noFill/>
          </a:ln>
        </p:spPr>
      </p:pic>
      <p:pic>
        <p:nvPicPr>
          <p:cNvPr id="48" name="ss_img" descr="Slideshow image"/>
          <p:cNvPicPr/>
          <p:nvPr/>
        </p:nvPicPr>
        <p:blipFill>
          <a:blip r:embed="rId2"/>
          <a:stretch/>
        </p:blipFill>
        <p:spPr>
          <a:xfrm rot="10800000">
            <a:off x="6256440" y="9366120"/>
            <a:ext cx="503280" cy="5018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1341360" y="560520"/>
            <a:ext cx="4680000" cy="35607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981000" y="6489720"/>
            <a:ext cx="4249800" cy="32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41360" y="4160880"/>
            <a:ext cx="4319640" cy="649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d………..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  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cs typeface="Tahoma"/>
              </a:rPr>
              <a:t>ขุด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950080" y="0"/>
            <a:ext cx="907920" cy="488880"/>
          </a:xfrm>
          <a:prstGeom prst="rect">
            <a:avLst/>
          </a:prstGeom>
          <a:solidFill>
            <a:srgbClr val="cc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o.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404280" y="5097240"/>
            <a:ext cx="2808360" cy="215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Handwriting"/>
              </a:rPr>
              <a:t>© </a:t>
            </a:r>
            <a:r>
              <a:rPr b="0" lang="en-US" sz="1200" spc="-1" strike="noStrike">
                <a:solidFill>
                  <a:srgbClr val="ffffff"/>
                </a:solidFill>
                <a:latin typeface="Comix Regular Caps"/>
              </a:rPr>
              <a:t>2007 Self-Access Learning Centre, KM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04640" y="5673240"/>
            <a:ext cx="6120000" cy="648000"/>
          </a:xfrm>
          <a:prstGeom prst="rect">
            <a:avLst/>
          </a:prstGeom>
          <a:noFill/>
          <a:ln w="381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dig   dug   dug   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cs typeface="Tahoma"/>
              </a:rPr>
              <a:t>ขุ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rot="10800000">
            <a:off x="5297040" y="9414000"/>
            <a:ext cx="908280" cy="488880"/>
          </a:xfrm>
          <a:prstGeom prst="rect">
            <a:avLst/>
          </a:prstGeom>
          <a:solidFill>
            <a:srgbClr val="00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11360" y="0"/>
            <a:ext cx="907920" cy="488880"/>
          </a:xfrm>
          <a:prstGeom prst="rect">
            <a:avLst/>
          </a:prstGeom>
          <a:solidFill>
            <a:srgbClr val="00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ss_img" descr="Slideshow image"/>
          <p:cNvPicPr/>
          <p:nvPr/>
        </p:nvPicPr>
        <p:blipFill>
          <a:blip r:embed="rId1"/>
          <a:stretch/>
        </p:blipFill>
        <p:spPr>
          <a:xfrm>
            <a:off x="122400" y="47520"/>
            <a:ext cx="502920" cy="501840"/>
          </a:xfrm>
          <a:prstGeom prst="rect">
            <a:avLst/>
          </a:prstGeom>
          <a:ln w="0">
            <a:noFill/>
          </a:ln>
        </p:spPr>
      </p:pic>
      <p:pic>
        <p:nvPicPr>
          <p:cNvPr id="58" name="ss_img" descr="Slideshow image"/>
          <p:cNvPicPr/>
          <p:nvPr/>
        </p:nvPicPr>
        <p:blipFill>
          <a:blip r:embed="rId2"/>
          <a:stretch/>
        </p:blipFill>
        <p:spPr>
          <a:xfrm rot="10800000">
            <a:off x="6256440" y="9366120"/>
            <a:ext cx="503280" cy="5018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1630440" y="200160"/>
            <a:ext cx="4176720" cy="38574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4"/>
          <a:stretch/>
        </p:blipFill>
        <p:spPr>
          <a:xfrm>
            <a:off x="1506600" y="6515280"/>
            <a:ext cx="3600360" cy="33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341360" y="4016520"/>
            <a:ext cx="4319640" cy="649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d………..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  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cs typeface="Tahoma"/>
              </a:rPr>
              <a:t>วาดรู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950080" y="0"/>
            <a:ext cx="907920" cy="488880"/>
          </a:xfrm>
          <a:prstGeom prst="rect">
            <a:avLst/>
          </a:prstGeom>
          <a:solidFill>
            <a:srgbClr val="cc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o.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rot="10800000">
            <a:off x="404280" y="5024160"/>
            <a:ext cx="2808360" cy="215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Handwriting"/>
              </a:rPr>
              <a:t>© </a:t>
            </a:r>
            <a:r>
              <a:rPr b="0" lang="en-US" sz="1200" spc="-1" strike="noStrike">
                <a:solidFill>
                  <a:srgbClr val="ffffff"/>
                </a:solidFill>
                <a:latin typeface="Comix Regular Caps"/>
              </a:rPr>
              <a:t>2007 Self-Access Learning Centre, KM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404640" y="5673240"/>
            <a:ext cx="6120000" cy="648000"/>
          </a:xfrm>
          <a:prstGeom prst="rect">
            <a:avLst/>
          </a:prstGeom>
          <a:noFill/>
          <a:ln w="381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draw   drew   drawn  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cs typeface="Tahoma"/>
              </a:rPr>
              <a:t>วาดรู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rot="10800000">
            <a:off x="5297040" y="9414000"/>
            <a:ext cx="908280" cy="488880"/>
          </a:xfrm>
          <a:prstGeom prst="rect">
            <a:avLst/>
          </a:prstGeom>
          <a:solidFill>
            <a:srgbClr val="00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11360" y="0"/>
            <a:ext cx="907920" cy="488880"/>
          </a:xfrm>
          <a:prstGeom prst="rect">
            <a:avLst/>
          </a:prstGeom>
          <a:solidFill>
            <a:srgbClr val="00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ss_img" descr="Slideshow image"/>
          <p:cNvPicPr/>
          <p:nvPr/>
        </p:nvPicPr>
        <p:blipFill>
          <a:blip r:embed="rId1"/>
          <a:stretch/>
        </p:blipFill>
        <p:spPr>
          <a:xfrm>
            <a:off x="122400" y="47520"/>
            <a:ext cx="502920" cy="501840"/>
          </a:xfrm>
          <a:prstGeom prst="rect">
            <a:avLst/>
          </a:prstGeom>
          <a:ln w="0">
            <a:noFill/>
          </a:ln>
        </p:spPr>
      </p:pic>
      <p:pic>
        <p:nvPicPr>
          <p:cNvPr id="68" name="ss_img" descr="Slideshow image"/>
          <p:cNvPicPr/>
          <p:nvPr/>
        </p:nvPicPr>
        <p:blipFill>
          <a:blip r:embed="rId2"/>
          <a:stretch/>
        </p:blipFill>
        <p:spPr>
          <a:xfrm rot="10800000">
            <a:off x="6256440" y="9366120"/>
            <a:ext cx="503280" cy="5018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1773360" y="272880"/>
            <a:ext cx="3371760" cy="34722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1773360" y="6810480"/>
            <a:ext cx="300672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341360" y="4089240"/>
            <a:ext cx="4319640" cy="649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d………..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  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cs typeface="Tahoma"/>
              </a:rPr>
              <a:t>ฝั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950080" y="0"/>
            <a:ext cx="907920" cy="488880"/>
          </a:xfrm>
          <a:prstGeom prst="rect">
            <a:avLst/>
          </a:prstGeom>
          <a:solidFill>
            <a:srgbClr val="cc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o.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404280" y="5097240"/>
            <a:ext cx="2808360" cy="215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Handwriting"/>
              </a:rPr>
              <a:t>© </a:t>
            </a:r>
            <a:r>
              <a:rPr b="0" lang="en-US" sz="1200" spc="-1" strike="noStrike">
                <a:solidFill>
                  <a:srgbClr val="ffffff"/>
                </a:solidFill>
                <a:latin typeface="Comix Regular Caps"/>
              </a:rPr>
              <a:t>2007 Self-Access Learning Centre, KM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404640" y="5660280"/>
            <a:ext cx="6120000" cy="647640"/>
          </a:xfrm>
          <a:prstGeom prst="rect">
            <a:avLst/>
          </a:prstGeom>
          <a:noFill/>
          <a:ln w="381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dream   dreamt   dreamt     </a:t>
            </a:r>
            <a:r>
              <a:rPr b="0" lang="th-TH" sz="3000" spc="-1" strike="noStrike">
                <a:solidFill>
                  <a:srgbClr val="a50021"/>
                </a:solidFill>
                <a:latin typeface="ITC Avant Garde Gothic Demi"/>
                <a:cs typeface="Tahoma"/>
              </a:rPr>
              <a:t>ฝัน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5297040" y="9414000"/>
            <a:ext cx="908280" cy="488880"/>
          </a:xfrm>
          <a:prstGeom prst="rect">
            <a:avLst/>
          </a:prstGeom>
          <a:solidFill>
            <a:srgbClr val="00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11360" y="0"/>
            <a:ext cx="907920" cy="488880"/>
          </a:xfrm>
          <a:prstGeom prst="rect">
            <a:avLst/>
          </a:prstGeom>
          <a:solidFill>
            <a:srgbClr val="00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ss_img" descr="Slideshow image"/>
          <p:cNvPicPr/>
          <p:nvPr/>
        </p:nvPicPr>
        <p:blipFill>
          <a:blip r:embed="rId1"/>
          <a:stretch/>
        </p:blipFill>
        <p:spPr>
          <a:xfrm>
            <a:off x="122400" y="47520"/>
            <a:ext cx="502920" cy="501840"/>
          </a:xfrm>
          <a:prstGeom prst="rect">
            <a:avLst/>
          </a:prstGeom>
          <a:ln w="0">
            <a:noFill/>
          </a:ln>
        </p:spPr>
      </p:pic>
      <p:pic>
        <p:nvPicPr>
          <p:cNvPr id="78" name="ss_img" descr="Slideshow image"/>
          <p:cNvPicPr/>
          <p:nvPr/>
        </p:nvPicPr>
        <p:blipFill>
          <a:blip r:embed="rId2"/>
          <a:stretch/>
        </p:blipFill>
        <p:spPr>
          <a:xfrm rot="10800000">
            <a:off x="6256440" y="9366120"/>
            <a:ext cx="503280" cy="50184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836640" y="625320"/>
            <a:ext cx="4869000" cy="34020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4"/>
          <a:stretch/>
        </p:blipFill>
        <p:spPr>
          <a:xfrm>
            <a:off x="981000" y="6537240"/>
            <a:ext cx="4248360" cy="29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317600" y="4130640"/>
            <a:ext cx="4319640" cy="649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d………..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  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cs typeface="Tahoma"/>
              </a:rPr>
              <a:t>ดื่มน้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950080" y="0"/>
            <a:ext cx="907920" cy="488880"/>
          </a:xfrm>
          <a:prstGeom prst="rect">
            <a:avLst/>
          </a:prstGeom>
          <a:solidFill>
            <a:srgbClr val="cc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o.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04280" y="5168880"/>
            <a:ext cx="2808360" cy="21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Handwriting"/>
              </a:rPr>
              <a:t>© </a:t>
            </a:r>
            <a:r>
              <a:rPr b="0" lang="en-US" sz="1200" spc="-1" strike="noStrike">
                <a:solidFill>
                  <a:srgbClr val="ffffff"/>
                </a:solidFill>
                <a:latin typeface="Comix Regular Caps"/>
              </a:rPr>
              <a:t>2007 Self-Access Learning Centre, KM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rot="10800000">
            <a:off x="404640" y="5673240"/>
            <a:ext cx="6120000" cy="648000"/>
          </a:xfrm>
          <a:prstGeom prst="rect">
            <a:avLst/>
          </a:prstGeom>
          <a:noFill/>
          <a:ln w="381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drink   drank   drunk   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cs typeface="Tahoma"/>
              </a:rPr>
              <a:t>ดื่มน้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rot="10800000">
            <a:off x="5297040" y="9414000"/>
            <a:ext cx="908280" cy="488880"/>
          </a:xfrm>
          <a:prstGeom prst="rect">
            <a:avLst/>
          </a:prstGeom>
          <a:solidFill>
            <a:srgbClr val="00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11360" y="0"/>
            <a:ext cx="907920" cy="488880"/>
          </a:xfrm>
          <a:prstGeom prst="rect">
            <a:avLst/>
          </a:prstGeom>
          <a:solidFill>
            <a:srgbClr val="00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ss_img" descr="Slideshow image"/>
          <p:cNvPicPr/>
          <p:nvPr/>
        </p:nvPicPr>
        <p:blipFill>
          <a:blip r:embed="rId1"/>
          <a:stretch/>
        </p:blipFill>
        <p:spPr>
          <a:xfrm>
            <a:off x="122400" y="47520"/>
            <a:ext cx="502920" cy="501840"/>
          </a:xfrm>
          <a:prstGeom prst="rect">
            <a:avLst/>
          </a:prstGeom>
          <a:ln w="0">
            <a:noFill/>
          </a:ln>
        </p:spPr>
      </p:pic>
      <p:pic>
        <p:nvPicPr>
          <p:cNvPr id="88" name="ss_img" descr="Slideshow image"/>
          <p:cNvPicPr/>
          <p:nvPr/>
        </p:nvPicPr>
        <p:blipFill>
          <a:blip r:embed="rId2"/>
          <a:stretch/>
        </p:blipFill>
        <p:spPr>
          <a:xfrm rot="10800000">
            <a:off x="6256440" y="9366120"/>
            <a:ext cx="503280" cy="50184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1700280" y="243000"/>
            <a:ext cx="3460680" cy="38178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4"/>
          <a:stretch/>
        </p:blipFill>
        <p:spPr>
          <a:xfrm>
            <a:off x="1768320" y="6392880"/>
            <a:ext cx="300384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341360" y="4016520"/>
            <a:ext cx="4319640" cy="649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d………..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  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cs typeface="Tahoma"/>
              </a:rPr>
              <a:t>ขับร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950080" y="0"/>
            <a:ext cx="907920" cy="488880"/>
          </a:xfrm>
          <a:prstGeom prst="rect">
            <a:avLst/>
          </a:prstGeom>
          <a:solidFill>
            <a:srgbClr val="cc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o.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rot="10800000">
            <a:off x="450360" y="5097240"/>
            <a:ext cx="2808360" cy="215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Handwriting"/>
              </a:rPr>
              <a:t>© </a:t>
            </a:r>
            <a:r>
              <a:rPr b="0" lang="en-US" sz="1200" spc="-1" strike="noStrike">
                <a:solidFill>
                  <a:srgbClr val="ffffff"/>
                </a:solidFill>
                <a:latin typeface="Comix Regular Caps"/>
              </a:rPr>
              <a:t>2007 Self-Access Learning Centre, KM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10800000">
            <a:off x="404640" y="5660280"/>
            <a:ext cx="6120000" cy="647640"/>
          </a:xfrm>
          <a:prstGeom prst="rect">
            <a:avLst/>
          </a:prstGeom>
          <a:noFill/>
          <a:ln w="381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drive   drove   driven   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cs typeface="Tahoma"/>
              </a:rPr>
              <a:t>ขับร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10800000">
            <a:off x="5297040" y="9414000"/>
            <a:ext cx="908280" cy="488880"/>
          </a:xfrm>
          <a:prstGeom prst="rect">
            <a:avLst/>
          </a:prstGeom>
          <a:solidFill>
            <a:srgbClr val="00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11360" y="0"/>
            <a:ext cx="907920" cy="488880"/>
          </a:xfrm>
          <a:prstGeom prst="rect">
            <a:avLst/>
          </a:prstGeom>
          <a:solidFill>
            <a:srgbClr val="00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ss_img" descr="Slideshow image"/>
          <p:cNvPicPr/>
          <p:nvPr/>
        </p:nvPicPr>
        <p:blipFill>
          <a:blip r:embed="rId1"/>
          <a:stretch/>
        </p:blipFill>
        <p:spPr>
          <a:xfrm>
            <a:off x="122400" y="47520"/>
            <a:ext cx="502920" cy="501840"/>
          </a:xfrm>
          <a:prstGeom prst="rect">
            <a:avLst/>
          </a:prstGeom>
          <a:ln w="0">
            <a:noFill/>
          </a:ln>
        </p:spPr>
      </p:pic>
      <p:pic>
        <p:nvPicPr>
          <p:cNvPr id="98" name="ss_img" descr="Slideshow image"/>
          <p:cNvPicPr/>
          <p:nvPr/>
        </p:nvPicPr>
        <p:blipFill>
          <a:blip r:embed="rId2"/>
          <a:stretch/>
        </p:blipFill>
        <p:spPr>
          <a:xfrm rot="10800000">
            <a:off x="6256440" y="9366120"/>
            <a:ext cx="503280" cy="50184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1052640" y="560520"/>
            <a:ext cx="4968720" cy="33843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907920" y="6392880"/>
            <a:ext cx="4435560" cy="302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317600" y="4130640"/>
            <a:ext cx="4319640" cy="649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e………..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  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cs typeface="Tahoma"/>
              </a:rPr>
              <a:t>กิน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950080" y="0"/>
            <a:ext cx="907920" cy="488880"/>
          </a:xfrm>
          <a:prstGeom prst="rect">
            <a:avLst/>
          </a:prstGeom>
          <a:solidFill>
            <a:srgbClr val="cc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o.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rot="10800000">
            <a:off x="404280" y="5097240"/>
            <a:ext cx="2808360" cy="215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Handwriting"/>
              </a:rPr>
              <a:t>© </a:t>
            </a:r>
            <a:r>
              <a:rPr b="0" lang="en-US" sz="1200" spc="-1" strike="noStrike">
                <a:solidFill>
                  <a:srgbClr val="ffffff"/>
                </a:solidFill>
                <a:latin typeface="Comix Regular Caps"/>
              </a:rPr>
              <a:t>2007 Self-Access Learning Centre, KM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rot="10800000">
            <a:off x="404640" y="5600160"/>
            <a:ext cx="6120000" cy="647640"/>
          </a:xfrm>
          <a:prstGeom prst="rect">
            <a:avLst/>
          </a:prstGeom>
          <a:noFill/>
          <a:ln w="381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eat   ate   eaten   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cs typeface="Tahoma"/>
              </a:rPr>
              <a:t>กิ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rot="10800000">
            <a:off x="5297040" y="9414000"/>
            <a:ext cx="908280" cy="488880"/>
          </a:xfrm>
          <a:prstGeom prst="rect">
            <a:avLst/>
          </a:prstGeom>
          <a:solidFill>
            <a:srgbClr val="00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11360" y="0"/>
            <a:ext cx="907920" cy="488880"/>
          </a:xfrm>
          <a:prstGeom prst="rect">
            <a:avLst/>
          </a:prstGeom>
          <a:solidFill>
            <a:srgbClr val="00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ss_img" descr="Slideshow image"/>
          <p:cNvPicPr/>
          <p:nvPr/>
        </p:nvPicPr>
        <p:blipFill>
          <a:blip r:embed="rId1"/>
          <a:stretch/>
        </p:blipFill>
        <p:spPr>
          <a:xfrm>
            <a:off x="122400" y="47520"/>
            <a:ext cx="502920" cy="501840"/>
          </a:xfrm>
          <a:prstGeom prst="rect">
            <a:avLst/>
          </a:prstGeom>
          <a:ln w="0">
            <a:noFill/>
          </a:ln>
        </p:spPr>
      </p:pic>
      <p:pic>
        <p:nvPicPr>
          <p:cNvPr id="108" name="ss_img" descr="Slideshow image"/>
          <p:cNvPicPr/>
          <p:nvPr/>
        </p:nvPicPr>
        <p:blipFill>
          <a:blip r:embed="rId2"/>
          <a:stretch/>
        </p:blipFill>
        <p:spPr>
          <a:xfrm rot="10800000">
            <a:off x="6256440" y="9366120"/>
            <a:ext cx="503280" cy="50184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1268280" y="488880"/>
            <a:ext cx="4967280" cy="36576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4"/>
          <a:stretch/>
        </p:blipFill>
        <p:spPr>
          <a:xfrm>
            <a:off x="1027080" y="6392880"/>
            <a:ext cx="4246560" cy="312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341360" y="4089240"/>
            <a:ext cx="4319640" cy="649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f………..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  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cs typeface="Tahoma"/>
              </a:rPr>
              <a:t>ให้อาหา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950080" y="0"/>
            <a:ext cx="907920" cy="488880"/>
          </a:xfrm>
          <a:prstGeom prst="rect">
            <a:avLst/>
          </a:prstGeom>
          <a:solidFill>
            <a:srgbClr val="cc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o.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404280" y="5097240"/>
            <a:ext cx="2808360" cy="215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Handwriting"/>
              </a:rPr>
              <a:t>© </a:t>
            </a:r>
            <a:r>
              <a:rPr b="0" lang="en-US" sz="1200" spc="-1" strike="noStrike">
                <a:solidFill>
                  <a:srgbClr val="ffffff"/>
                </a:solidFill>
                <a:latin typeface="Comix Regular Caps"/>
              </a:rPr>
              <a:t>2007 Self-Access Learning Centre, KM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rot="10800000">
            <a:off x="384120" y="5647680"/>
            <a:ext cx="6120000" cy="647640"/>
          </a:xfrm>
          <a:prstGeom prst="rect">
            <a:avLst/>
          </a:prstGeom>
          <a:noFill/>
          <a:ln w="381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feed   fed   fed   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cs typeface="Tahoma"/>
              </a:rPr>
              <a:t>ให้อาหา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5297040" y="9414000"/>
            <a:ext cx="908280" cy="488880"/>
          </a:xfrm>
          <a:prstGeom prst="rect">
            <a:avLst/>
          </a:prstGeom>
          <a:solidFill>
            <a:srgbClr val="00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11360" y="0"/>
            <a:ext cx="907920" cy="488880"/>
          </a:xfrm>
          <a:prstGeom prst="rect">
            <a:avLst/>
          </a:prstGeom>
          <a:solidFill>
            <a:srgbClr val="00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ss_img" descr="Slideshow image"/>
          <p:cNvPicPr/>
          <p:nvPr/>
        </p:nvPicPr>
        <p:blipFill>
          <a:blip r:embed="rId1"/>
          <a:stretch/>
        </p:blipFill>
        <p:spPr>
          <a:xfrm>
            <a:off x="122400" y="47520"/>
            <a:ext cx="502920" cy="501840"/>
          </a:xfrm>
          <a:prstGeom prst="rect">
            <a:avLst/>
          </a:prstGeom>
          <a:ln w="0">
            <a:noFill/>
          </a:ln>
        </p:spPr>
      </p:pic>
      <p:pic>
        <p:nvPicPr>
          <p:cNvPr id="118" name="ss_img" descr="Slideshow image"/>
          <p:cNvPicPr/>
          <p:nvPr/>
        </p:nvPicPr>
        <p:blipFill>
          <a:blip r:embed="rId2"/>
          <a:stretch/>
        </p:blipFill>
        <p:spPr>
          <a:xfrm rot="10800000">
            <a:off x="6256440" y="9366120"/>
            <a:ext cx="503280" cy="5018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1197000" y="488880"/>
            <a:ext cx="4608360" cy="356076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4"/>
          <a:stretch/>
        </p:blipFill>
        <p:spPr>
          <a:xfrm>
            <a:off x="1125360" y="6402240"/>
            <a:ext cx="4104000" cy="317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341360" y="4089240"/>
            <a:ext cx="4319640" cy="649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f………..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  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cs typeface="Tahoma"/>
              </a:rPr>
              <a:t>บิน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950080" y="0"/>
            <a:ext cx="907920" cy="488880"/>
          </a:xfrm>
          <a:prstGeom prst="rect">
            <a:avLst/>
          </a:prstGeom>
          <a:solidFill>
            <a:srgbClr val="cc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o.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10800000">
            <a:off x="404280" y="5097240"/>
            <a:ext cx="2808360" cy="215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Handwriting"/>
              </a:rPr>
              <a:t>© </a:t>
            </a:r>
            <a:r>
              <a:rPr b="0" lang="en-US" sz="1200" spc="-1" strike="noStrike">
                <a:solidFill>
                  <a:srgbClr val="ffffff"/>
                </a:solidFill>
                <a:latin typeface="Comix Regular Caps"/>
              </a:rPr>
              <a:t>2007 Self-Access Learning Centre, KM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rot="10800000">
            <a:off x="333360" y="5673240"/>
            <a:ext cx="6120000" cy="648000"/>
          </a:xfrm>
          <a:prstGeom prst="rect">
            <a:avLst/>
          </a:prstGeom>
          <a:noFill/>
          <a:ln w="381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fly    flew   flown   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cs typeface="Tahoma"/>
              </a:rPr>
              <a:t>บิ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rot="10800000">
            <a:off x="5297040" y="9414000"/>
            <a:ext cx="908280" cy="488880"/>
          </a:xfrm>
          <a:prstGeom prst="rect">
            <a:avLst/>
          </a:prstGeom>
          <a:solidFill>
            <a:srgbClr val="00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11360" y="0"/>
            <a:ext cx="907920" cy="488880"/>
          </a:xfrm>
          <a:prstGeom prst="rect">
            <a:avLst/>
          </a:prstGeom>
          <a:solidFill>
            <a:srgbClr val="00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ss_img" descr="Slideshow image"/>
          <p:cNvPicPr/>
          <p:nvPr/>
        </p:nvPicPr>
        <p:blipFill>
          <a:blip r:embed="rId1"/>
          <a:stretch/>
        </p:blipFill>
        <p:spPr>
          <a:xfrm>
            <a:off x="122400" y="47520"/>
            <a:ext cx="502920" cy="501840"/>
          </a:xfrm>
          <a:prstGeom prst="rect">
            <a:avLst/>
          </a:prstGeom>
          <a:ln w="0">
            <a:noFill/>
          </a:ln>
        </p:spPr>
      </p:pic>
      <p:pic>
        <p:nvPicPr>
          <p:cNvPr id="128" name="ss_img" descr="Slideshow image"/>
          <p:cNvPicPr/>
          <p:nvPr/>
        </p:nvPicPr>
        <p:blipFill>
          <a:blip r:embed="rId2"/>
          <a:stretch/>
        </p:blipFill>
        <p:spPr>
          <a:xfrm rot="10800000">
            <a:off x="6256440" y="9366120"/>
            <a:ext cx="503280" cy="5018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692280" y="631800"/>
            <a:ext cx="5257800" cy="320508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4"/>
          <a:stretch/>
        </p:blipFill>
        <p:spPr>
          <a:xfrm>
            <a:off x="907920" y="6372360"/>
            <a:ext cx="4897440" cy="29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08:51:53Z</dcterms:created>
  <dc:creator>iLLuSioN</dc:creator>
  <dc:description/>
  <dc:language>en-US</dc:language>
  <cp:lastModifiedBy>Aj_Shannoy</cp:lastModifiedBy>
  <dcterms:modified xsi:type="dcterms:W3CDTF">2010-03-08T07:02:06Z</dcterms:modified>
  <cp:revision>56</cp:revision>
  <dc:subject/>
  <dc:title>ภาพนิ่ง 1</dc:title>
</cp:coreProperties>
</file>