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24F-FC3E-4C40-B7AD-9D37C129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13B-5153-4B20-98A6-856FF8B0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B82-176F-46C5-82E6-53BE910A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33E-2D17-4434-B891-A73F28B0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82A-CA1D-471A-A039-25B5B2D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04D-6AA6-4E75-B296-AEDE1A5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C59-1AC1-40B8-9CC5-A41B48F3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413-FC5F-4A1B-9F6A-04624397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AB8-B68C-46E9-9823-4668151A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427-7D65-4EB3-B4EF-AE6ADC2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2CC-5CCD-4285-AFDF-03F5A1E4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C93-5534-4AF6-AF2A-F32A8541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0E1-49EC-45B1-AAFB-C86FB3058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0832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5047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in   won   won     </a:t>
            </a:r>
            <a:r>
              <a:rPr b="0" lang="th-TH" sz="28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25360" y="560520"/>
            <a:ext cx="4500720" cy="34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377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04280" y="488160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640" y="5384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rite   wrote   wr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387360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415800"/>
            <a:ext cx="3738600" cy="329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00280" y="6465960"/>
            <a:ext cx="31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2550960" cy="35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73360" y="6248520"/>
            <a:ext cx="3081240" cy="3443040"/>
          </a:xfrm>
          <a:prstGeom prst="rect">
            <a:avLst/>
          </a:prstGeom>
          <a:ln w="0">
            <a:noFill/>
          </a:ln>
        </p:spPr>
      </p:pic>
      <p:pic>
        <p:nvPicPr>
          <p:cNvPr id="63" name="ss_img" descr="Slideshow image"/>
          <p:cNvPicPr/>
          <p:nvPr/>
        </p:nvPicPr>
        <p:blipFill>
          <a:blip r:embed="rId3"/>
          <a:stretch/>
        </p:blipFill>
        <p:spPr>
          <a:xfrm>
            <a:off x="476280" y="27288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ss_img" descr="Slideshow image"/>
          <p:cNvPicPr/>
          <p:nvPr/>
        </p:nvPicPr>
        <p:blipFill>
          <a:blip r:embed="rId4"/>
          <a:stretch/>
        </p:blipFill>
        <p:spPr>
          <a:xfrm rot="10800000">
            <a:off x="5373360" y="840888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425520" y="5524560"/>
            <a:ext cx="597672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4160880"/>
            <a:ext cx="59770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5:16Z</dcterms:modified>
  <cp:revision>85</cp:revision>
  <dc:subject/>
  <dc:title>ภาพนิ่ง 1</dc:title>
</cp:coreProperties>
</file>