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6829-13D4-4083-8E5E-11B61490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5764-0EFA-472F-A39B-66EFB5C9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280-5CDE-4518-921F-B0E8D85E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C7C0-FEBC-4799-ABF5-C30F8C8D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DF4C-11AA-4FE2-905D-E6770074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392-99B5-4E87-93CE-84CC3DD4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F70-8FE4-49C2-A449-A7902491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CE78-2A99-409D-9647-70ABBFF1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CF5-8B46-4418-B934-58432102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4CA-4054-4B16-8D40-EB2BF794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402F-892B-4492-9DAF-6F0562EA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4B0-D10E-4595-B36F-3F5332A5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3C82-BA23-4EFD-A9EF-B686F6511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17600" y="410832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ช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333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33360" y="550476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in   won   won     </a:t>
            </a:r>
            <a:r>
              <a:rPr b="0" lang="th-TH" sz="28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ชน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125360" y="560520"/>
            <a:ext cx="4500720" cy="3497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557360" y="6321600"/>
            <a:ext cx="37796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404280" y="488160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4640" y="538416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rite   wrote   writt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ขีย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7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13000" y="387360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ขีย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00280" y="415800"/>
            <a:ext cx="3738600" cy="3294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700280" y="6465960"/>
            <a:ext cx="3162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81360" y="0"/>
            <a:ext cx="2550960" cy="3584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73360" y="6248520"/>
            <a:ext cx="3081240" cy="3443040"/>
          </a:xfrm>
          <a:prstGeom prst="rect">
            <a:avLst/>
          </a:prstGeom>
          <a:ln w="0">
            <a:noFill/>
          </a:ln>
        </p:spPr>
      </p:pic>
      <p:pic>
        <p:nvPicPr>
          <p:cNvPr id="63" name="ss_img" descr="Slideshow image"/>
          <p:cNvPicPr/>
          <p:nvPr/>
        </p:nvPicPr>
        <p:blipFill>
          <a:blip r:embed="rId3"/>
          <a:stretch/>
        </p:blipFill>
        <p:spPr>
          <a:xfrm>
            <a:off x="476280" y="272880"/>
            <a:ext cx="1290600" cy="1285920"/>
          </a:xfrm>
          <a:prstGeom prst="rect">
            <a:avLst/>
          </a:prstGeom>
          <a:ln w="0">
            <a:noFill/>
          </a:ln>
        </p:spPr>
      </p:pic>
      <p:pic>
        <p:nvPicPr>
          <p:cNvPr id="64" name="ss_img" descr="Slideshow image"/>
          <p:cNvPicPr/>
          <p:nvPr/>
        </p:nvPicPr>
        <p:blipFill>
          <a:blip r:embed="rId4"/>
          <a:stretch/>
        </p:blipFill>
        <p:spPr>
          <a:xfrm rot="10800000">
            <a:off x="5373360" y="8408880"/>
            <a:ext cx="1290600" cy="128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10800000">
            <a:off x="425520" y="5524560"/>
            <a:ext cx="5976720" cy="504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8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6280" y="4160880"/>
            <a:ext cx="5977080" cy="504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8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4T07:35:16Z</dcterms:modified>
  <cp:revision>85</cp:revision>
  <dc:subject/>
  <dc:title>ภาพนิ่ง 1</dc:title>
</cp:coreProperties>
</file>