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D8A-2A67-48FD-8A18-35D0EED8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934A-493E-44E9-8E0E-9AE7A8AF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B776-493E-451F-B4F9-0403F4B8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04E-5AD0-4F95-AA62-CDA4BF61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6E2-6934-400B-A485-8EBFEFBD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331-4EC5-450F-BD30-988BF5B9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454-D570-46E4-B035-D7D99EF6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EFF-AD5B-4DAE-8DF0-003F2877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282-AEE0-4962-BEDF-050D8BE6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E562-28FE-4D21-8FAB-4E8BFB75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2B78-D994-4285-88C4-CFC663EC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B91-6C1C-4F41-BD2D-BA824D36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6706-0931-47AB-A1FE-DD5FCCE5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7600" y="410832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ช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33300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33360" y="55047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in   won   won     </a:t>
            </a:r>
            <a:r>
              <a:rPr b="0" lang="th-TH" sz="28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ชน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125360" y="560520"/>
            <a:ext cx="4500720" cy="34970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57360" y="6321600"/>
            <a:ext cx="37796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404280" y="488160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640" y="5384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rite   wrote   writ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ีย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7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13000" y="387360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w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ขีย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00280" y="415800"/>
            <a:ext cx="3738600" cy="3294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700280" y="6465960"/>
            <a:ext cx="3162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81360" y="0"/>
            <a:ext cx="2550960" cy="3584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73360" y="6248520"/>
            <a:ext cx="3081240" cy="3443040"/>
          </a:xfrm>
          <a:prstGeom prst="rect">
            <a:avLst/>
          </a:prstGeom>
          <a:ln w="0">
            <a:noFill/>
          </a:ln>
        </p:spPr>
      </p:pic>
      <p:pic>
        <p:nvPicPr>
          <p:cNvPr id="63" name="ss_img" descr="Slideshow image"/>
          <p:cNvPicPr/>
          <p:nvPr/>
        </p:nvPicPr>
        <p:blipFill>
          <a:blip r:embed="rId3"/>
          <a:stretch/>
        </p:blipFill>
        <p:spPr>
          <a:xfrm>
            <a:off x="476280" y="27288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64" name="ss_img" descr="Slideshow image"/>
          <p:cNvPicPr/>
          <p:nvPr/>
        </p:nvPicPr>
        <p:blipFill>
          <a:blip r:embed="rId4"/>
          <a:stretch/>
        </p:blipFill>
        <p:spPr>
          <a:xfrm rot="10800000">
            <a:off x="5373360" y="8408880"/>
            <a:ext cx="1290600" cy="128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10800000">
            <a:off x="425520" y="5524560"/>
            <a:ext cx="597672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8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4160880"/>
            <a:ext cx="5977080" cy="504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8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4T07:35:16Z</dcterms:modified>
  <cp:revision>85</cp:revision>
  <dc:subject/>
  <dc:title>ภาพนิ่ง 1</dc:title>
</cp:coreProperties>
</file>