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C1B-DF5D-4738-B093-91624BCC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E17-1D82-4F9B-B8AE-FB90657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775-6D52-49DF-B401-16965926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8F6-EF44-41E7-98E2-1787E04D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51B-2F5A-47FE-B777-B28374D7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1EF-C43C-44E5-83C3-263C66A4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8E8-F7B4-4857-B8EA-760A86F2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AB7-5D38-4E78-A5EB-88DE4153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935-08BC-42D0-892E-EF01DC4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AF0-5032-4C1C-A1E2-56673AE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400-57DC-4F6C-9C06-6C95090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0F9-264E-4E06-9231-AD6EBD94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239F-4B76-41B1-9838-FFD487A3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0832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5047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in   won   won     </a:t>
            </a:r>
            <a:r>
              <a:rPr b="0" lang="th-TH" sz="28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25360" y="560520"/>
            <a:ext cx="4500720" cy="34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37796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04280" y="488160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640" y="5384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rite   wrote   wr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387360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415800"/>
            <a:ext cx="3738600" cy="329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00280" y="6465960"/>
            <a:ext cx="3162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81360" y="0"/>
            <a:ext cx="2550960" cy="35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73360" y="6248520"/>
            <a:ext cx="3081240" cy="3443040"/>
          </a:xfrm>
          <a:prstGeom prst="rect">
            <a:avLst/>
          </a:prstGeom>
          <a:ln w="0">
            <a:noFill/>
          </a:ln>
        </p:spPr>
      </p:pic>
      <p:pic>
        <p:nvPicPr>
          <p:cNvPr id="63" name="ss_img" descr="Slideshow image"/>
          <p:cNvPicPr/>
          <p:nvPr/>
        </p:nvPicPr>
        <p:blipFill>
          <a:blip r:embed="rId3"/>
          <a:stretch/>
        </p:blipFill>
        <p:spPr>
          <a:xfrm>
            <a:off x="476280" y="27288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ss_img" descr="Slideshow image"/>
          <p:cNvPicPr/>
          <p:nvPr/>
        </p:nvPicPr>
        <p:blipFill>
          <a:blip r:embed="rId4"/>
          <a:stretch/>
        </p:blipFill>
        <p:spPr>
          <a:xfrm rot="10800000">
            <a:off x="5373360" y="8408880"/>
            <a:ext cx="1290600" cy="12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425520" y="5524560"/>
            <a:ext cx="597672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4160880"/>
            <a:ext cx="597708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5:16Z</dcterms:modified>
  <cp:revision>85</cp:revision>
  <dc:subject/>
  <dc:title>ภาพนิ่ง 1</dc:title>
</cp:coreProperties>
</file>