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B4CE-3BCB-4600-800C-DC81C21D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5E8-7DE5-4393-A79C-599658C5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2B8-02DE-480D-A1B0-2ADA9367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5C40-704F-449C-A8B4-124DECD9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D33-8195-42EA-A132-441D227B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AD8-23BF-48A9-8FAF-2B5604FE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3FC-07DC-41B6-9F58-BE6E9DF6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FAB-D867-451B-9F17-9D461676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D78-141C-4AD0-9E92-77FD1196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2C7-7EF3-4D74-BF35-BE3D8B29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DB9-11F0-405A-83F9-4CF252E2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4C3-32CF-4CC3-AC74-AD908280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5CD5-1C14-4B15-8228-C4137CCF1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่อ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ting   stung   stun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่อ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28640" y="272880"/>
            <a:ext cx="4321440" cy="3727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430280" y="6472080"/>
            <a:ext cx="381816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45036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9320" y="5528520"/>
            <a:ext cx="611964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weep   swept   swep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วา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7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1300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วา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00280" y="128520"/>
            <a:ext cx="4155840" cy="3467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341360" y="6392880"/>
            <a:ext cx="36514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แกว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wing   swung   swung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แกว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97000" y="623880"/>
            <a:ext cx="4608360" cy="34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557360" y="6321600"/>
            <a:ext cx="40305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t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76464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5238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teach   taught   taught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341360" y="560520"/>
            <a:ext cx="4321080" cy="329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413000" y="6392880"/>
            <a:ext cx="3889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t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ว้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throw   threw   thrown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ว้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92280" y="849240"/>
            <a:ext cx="5202000" cy="31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341360" y="6537240"/>
            <a:ext cx="4481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ื่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ake   woke   wok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ื่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49360" y="776160"/>
            <a:ext cx="5195880" cy="3284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341360" y="6456240"/>
            <a:ext cx="44038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4T07:32:58Z</dcterms:modified>
  <cp:revision>75</cp:revision>
  <dc:subject/>
  <dc:title>ภาพนิ่ง 1</dc:title>
</cp:coreProperties>
</file>