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907588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0096-F316-44F7-B5D8-9D5417A25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61E1-A99D-42D4-935B-CE50C061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2DD4-D5E3-45F3-B25C-9FF258294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15D4-6408-4DC9-A731-A6741A195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914A-7C21-4E9A-8295-8C5CD2DD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813A-1F18-46D5-AA96-D3136176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FC32-9054-4262-8FD2-3BCF2645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A0D5-6641-45DB-B688-353FB035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2065-20CB-42B8-A4BD-3578FDE4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A0FB-ADC7-42C5-A62E-86ED4532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8480-FABC-4AF8-8561-86BC2831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B493-29B5-4DEF-AF8F-A37199AC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059F-36FA-4BAF-B6C7-3D8725262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ต่อ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33360" y="545724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ting   stung   stung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ต่อ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4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628640" y="272880"/>
            <a:ext cx="4321440" cy="3727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430280" y="6472080"/>
            <a:ext cx="3818160" cy="32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45036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409320" y="5528520"/>
            <a:ext cx="611964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weep   swept   swept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กวา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57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41300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กวา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700280" y="128520"/>
            <a:ext cx="4155840" cy="3467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341360" y="6392880"/>
            <a:ext cx="365148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แกว่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404640" y="545724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wing   swung   swung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แกว่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6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197000" y="623880"/>
            <a:ext cx="4608360" cy="3414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557360" y="6321600"/>
            <a:ext cx="403056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t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สอ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76464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404640" y="552384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teach   taught   taught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สอ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7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341360" y="560520"/>
            <a:ext cx="4321080" cy="3294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1413000" y="6392880"/>
            <a:ext cx="388908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t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ขว้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33300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333360" y="545724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throw   threw   thrown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ขว้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8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92280" y="849240"/>
            <a:ext cx="5202000" cy="3189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341360" y="6537240"/>
            <a:ext cx="448164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w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ตื่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4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333360" y="545724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wake   woke   woken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ตื่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9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49360" y="776160"/>
            <a:ext cx="5195880" cy="3284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341360" y="6456240"/>
            <a:ext cx="440388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8:51:53Z</dcterms:created>
  <dc:creator>iLLuSioN</dc:creator>
  <dc:description/>
  <dc:language>en-US</dc:language>
  <cp:lastModifiedBy>Aj_Shannoy</cp:lastModifiedBy>
  <dcterms:modified xsi:type="dcterms:W3CDTF">2010-03-04T07:32:58Z</dcterms:modified>
  <cp:revision>75</cp:revision>
  <dc:subject/>
  <dc:title>ภาพนิ่ง 1</dc:title>
</cp:coreProperties>
</file>