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0AA-689E-4B05-BBC8-D8C237D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DE2-B771-4F3C-9E2F-16A10C55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EFE5-5BBA-47C5-A2DC-7CED0466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6B5-2F5A-4DED-A4FC-8FF61869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134-FC22-4BFC-83EB-11457F57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4A1-EA3A-4011-B256-07F4D08F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16C6-3C9F-42DE-922B-A44B1B84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DAC-5A55-47A6-81D7-982AD178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31E-7DA8-4BF5-931A-D386D028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DA6-1A48-4E0E-A944-643C1C1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8A9-6907-472C-9755-807A2921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F6C-BD4F-4C5E-8A45-B0B97653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AE4C-13C5-4399-8CCC-18F18941A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ting   stung   stun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่อ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321440" cy="3727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430280" y="6472080"/>
            <a:ext cx="381816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5036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9320" y="552852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eep   swept   swep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วา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128520"/>
            <a:ext cx="4155840" cy="3467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341360" y="6392880"/>
            <a:ext cx="365148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swing   swung   swung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แกว่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197000" y="623880"/>
            <a:ext cx="4608360" cy="34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4030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76464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5238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each   taught   taught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อ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321080" cy="3294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413000" y="6392880"/>
            <a:ext cx="3889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throw   threw   thrown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ว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92280" y="849240"/>
            <a:ext cx="5202000" cy="31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341360" y="6537240"/>
            <a:ext cx="4481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ake   woke   wok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ื่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49360" y="776160"/>
            <a:ext cx="5195880" cy="328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341360" y="6456240"/>
            <a:ext cx="4403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2:58Z</dcterms:modified>
  <cp:revision>75</cp:revision>
  <dc:subject/>
  <dc:title>ภาพนิ่ง 1</dc:title>
</cp:coreProperties>
</file>