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7FF-A924-414F-8C9E-75D495A4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08C1-D984-4D4C-8880-98AFE79B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2BF-133C-4F6F-9703-400CAE07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FB0E-809B-4637-A5EA-AD7577A1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D52-0D52-4D7F-B639-04EE234C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8135-F67C-4CFB-B0D3-D63D6BC3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3EBD-2B98-43A0-B5F7-BB102B6C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6C93-BBCC-41D4-8E5E-0A5E5689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A19B-BF02-4A7E-9D33-EE922415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6CB-9661-4267-ABCC-2F445F02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24D9-F3E2-4CCB-906D-9123A3E7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AA8-C6D2-4ACB-8605-4BED1E5E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A31B-D6B0-4E9C-84CE-30D3ADBBB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่อ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3336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ting   stung   stung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่อ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628640" y="272880"/>
            <a:ext cx="4321440" cy="3727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430280" y="6472080"/>
            <a:ext cx="381816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45036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409320" y="5528520"/>
            <a:ext cx="611964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weep   swept   swep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กวา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7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1300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กวา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00280" y="128520"/>
            <a:ext cx="4155840" cy="3467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341360" y="6392880"/>
            <a:ext cx="365148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แกว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40464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wing   swung   swung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แกว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197000" y="623880"/>
            <a:ext cx="4608360" cy="3414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557360" y="6321600"/>
            <a:ext cx="40305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t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76464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404640" y="55238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teach   taught   taught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341360" y="560520"/>
            <a:ext cx="4321080" cy="3294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413000" y="6392880"/>
            <a:ext cx="38890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t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ว้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33300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33336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throw   threw   thrown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ว้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8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92280" y="849240"/>
            <a:ext cx="5202000" cy="3189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341360" y="6537240"/>
            <a:ext cx="44816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w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ื่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33336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wake   woke   wok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ื่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9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49360" y="776160"/>
            <a:ext cx="5195880" cy="3284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341360" y="6456240"/>
            <a:ext cx="440388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4T07:32:58Z</dcterms:modified>
  <cp:revision>75</cp:revision>
  <dc:subject/>
  <dc:title>ภาพนิ่ง 1</dc:title>
</cp:coreProperties>
</file>