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B2C-3A57-4E92-9937-A58233A5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C21-3061-4E18-AEF1-6CBC67AA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B85-1778-4E78-82DB-8D7A6322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9D8-95AC-40A1-893C-FD355A22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E84-D536-4482-B361-DFBB6973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69A-2717-4FD2-93FE-8F0D63C2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E57-DD0D-4AED-868A-A508B3C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223-F733-4330-A4F1-262E94AE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2C1-8C39-428B-9199-C4E6C158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C11-2F29-4F73-B2E8-9B97DAD1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AA9-C893-44C5-BC8F-4B91194F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3EA-A996-4C55-9C11-44E4170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2391-C142-48A4-BFA0-D6D2B6B9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oot   shot   sho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7208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954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g   sang   s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28640" y="38160"/>
            <a:ext cx="4176720" cy="386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176880"/>
            <a:ext cx="3454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9360" y="488880"/>
            <a:ext cx="5904000" cy="349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k   sank   s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6640" y="6392880"/>
            <a:ext cx="4967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t   sat   sa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16280" y="344520"/>
            <a:ext cx="3166920" cy="352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1300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89000" y="6321600"/>
            <a:ext cx="2997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eep   slept   sl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65000" y="488880"/>
            <a:ext cx="5328000" cy="3470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7000" y="6270480"/>
            <a:ext cx="4537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ide   slid   sl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92360" y="243000"/>
            <a:ext cx="3882960" cy="369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00280" y="6397560"/>
            <a:ext cx="34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mell   smelt   sm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44640" y="272880"/>
            <a:ext cx="4032360" cy="372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84280" y="6321600"/>
            <a:ext cx="3672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and   stood   stoo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49520" y="344520"/>
            <a:ext cx="4017960" cy="356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84280" y="6465960"/>
            <a:ext cx="37306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eal   stole   stol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3938760" cy="394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700280" y="6392880"/>
            <a:ext cx="3378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8:09:13Z</dcterms:modified>
  <cp:revision>59</cp:revision>
  <dc:subject/>
  <dc:title>ภาพนิ่ง 1</dc:title>
</cp:coreProperties>
</file>