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21E-DF1D-4661-865C-6B9B8F55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3A9-A524-4740-B91B-1EC0D50E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4EF-0A3C-45A4-89C7-12B70F1C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B14-566E-4BCB-8437-2B47F334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C2F-E7D2-4535-A424-F2B3B80C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B4A-DAAB-47F2-9B74-4C9E4307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B95-328D-4796-8842-05587AD8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856-7828-4B3E-80C8-BBFD1C02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30E-A518-4957-8151-ECFA1E90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502-2CC7-4CBC-B996-3DA13734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297-3B73-4B8D-A55E-CD0AA018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0D3-D0A3-4E58-A451-FD0DC4D7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2FE0-A06C-4911-B890-94F9FBCB8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ิ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3336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hoot   shot   sho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ิ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4672080" cy="354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628640" y="6392880"/>
            <a:ext cx="39546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ร้องเพ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ing   sang   s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ร้องเพ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28640" y="38160"/>
            <a:ext cx="4176720" cy="3867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628640" y="6176880"/>
            <a:ext cx="3454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9360" y="488880"/>
            <a:ext cx="5904000" cy="349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ม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ink   sank   sunk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ss_img" descr="Slideshow image"/>
          <p:cNvPicPr/>
          <p:nvPr/>
        </p:nvPicPr>
        <p:blipFill>
          <a:blip r:embed="rId3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36640" y="6392880"/>
            <a:ext cx="49672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it   sat   sa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ั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7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916280" y="344520"/>
            <a:ext cx="3166920" cy="352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1300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ั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989000" y="6321600"/>
            <a:ext cx="2997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leep   slept   slep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65000" y="488880"/>
            <a:ext cx="5328000" cy="3470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7000" y="6270480"/>
            <a:ext cx="45370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ลื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lide   slid   sli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ลื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92360" y="243000"/>
            <a:ext cx="3882960" cy="3695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700280" y="6397560"/>
            <a:ext cx="3443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มกลิ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mell   smelt   smel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มกลิ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844640" y="272880"/>
            <a:ext cx="4032360" cy="372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84280" y="6321600"/>
            <a:ext cx="3672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ื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04640" y="54698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tand   stood   stoo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ื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649520" y="344520"/>
            <a:ext cx="4017960" cy="3567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84280" y="6465960"/>
            <a:ext cx="37306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โม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teal   stole   stol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โม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2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628640" y="0"/>
            <a:ext cx="3938760" cy="3944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700280" y="6392880"/>
            <a:ext cx="3378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8:09:13Z</dcterms:modified>
  <cp:revision>59</cp:revision>
  <dc:subject/>
  <dc:title>ภาพนิ่ง 1</dc:title>
</cp:coreProperties>
</file>