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8E8-3D24-4C19-B01E-8F7BA143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F053-87C4-4F1F-BE8F-F1655847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770-81AB-43C4-8536-D72EBE3A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116-2EE8-4AD9-8D3E-4F5CFCE4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D8CC-0F7A-423E-8827-4E298EBB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2B4C-CFBF-44F9-BC87-A652DC0D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CAD6-FF5C-49BA-83AA-9F4370A7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C37A-4D86-4B1A-958B-D9B54ABF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3FD4-D3A9-4F94-90A1-34448D81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8C05-ED29-41E6-958B-CBC10B73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FA0D-724C-4FF8-B9E1-F169FEA3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994-2226-4580-9BF5-1E00FD15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EE3F-DA7B-407E-BB6E-124E94509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ยิ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3336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hoot   shot   sho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ยิ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197000" y="488880"/>
            <a:ext cx="4672080" cy="354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628640" y="6392880"/>
            <a:ext cx="39546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ร้องเพล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333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3336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ing   sang   sung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ร้องเพล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28640" y="38160"/>
            <a:ext cx="4176720" cy="3867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628640" y="6176880"/>
            <a:ext cx="345456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49360" y="488880"/>
            <a:ext cx="5904000" cy="3498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ม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40464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ink   sank   sunk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ss_img" descr="Slideshow image"/>
          <p:cNvPicPr/>
          <p:nvPr/>
        </p:nvPicPr>
        <p:blipFill>
          <a:blip r:embed="rId3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836640" y="6392880"/>
            <a:ext cx="49672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40464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it   sat   sa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ั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7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916280" y="344520"/>
            <a:ext cx="3166920" cy="3527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1300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ั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989000" y="6321600"/>
            <a:ext cx="299736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40464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leep   slept   slep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น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8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65000" y="488880"/>
            <a:ext cx="5328000" cy="3470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97000" y="6270480"/>
            <a:ext cx="45370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ลื่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40464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lide   slid   sli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ลื่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9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692360" y="243000"/>
            <a:ext cx="3882960" cy="3695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700280" y="6397560"/>
            <a:ext cx="3443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ดมกลิ่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33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333360" y="552852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mell   smelt   smel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ดมกลิ่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0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844640" y="272880"/>
            <a:ext cx="4032360" cy="372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484280" y="6321600"/>
            <a:ext cx="3672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ยื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404640" y="54698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tand   stood   stoo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ยื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1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649520" y="344520"/>
            <a:ext cx="4017960" cy="3567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484280" y="6465960"/>
            <a:ext cx="37306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โม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33336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teal   stole   stol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โม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2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628640" y="0"/>
            <a:ext cx="3938760" cy="3944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700280" y="6392880"/>
            <a:ext cx="33782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8T08:09:13Z</dcterms:modified>
  <cp:revision>59</cp:revision>
  <dc:subject/>
  <dc:title>ภาพนิ่ง 1</dc:title>
</cp:coreProperties>
</file>