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0AD2-8127-4A4E-B8CA-DAF6D5B8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4777-9808-4191-A43E-EDFDBEB6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9DF6-5FA3-4071-8273-BE260333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5F1A-04E5-401A-A578-7228D652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A1BE-DD04-4262-BEF2-F419CE3D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419F-E68B-4056-85C0-66B23ADF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D079-319D-4B93-B134-017B41FD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06FC-6557-4FB5-A011-931ABA85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31EF-5B3C-4F06-88DE-9F36012C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1E5C-B160-4C1B-BE3C-8FAB5D0E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1529-35A1-4C15-B588-87AE8D67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0076-B0BA-4EC0-9161-686AB87E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CA50-C29C-40F2-B7C5-7068076C6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ยิ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04280" y="516888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3336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hoot   shot   sho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ยิ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197000" y="488880"/>
            <a:ext cx="4672080" cy="354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628640" y="6392880"/>
            <a:ext cx="39546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ร้องเพล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33300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333360" y="5528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ing   sang   sung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ร้องเพล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5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28640" y="38160"/>
            <a:ext cx="4176720" cy="3867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628640" y="6176880"/>
            <a:ext cx="345456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49360" y="488880"/>
            <a:ext cx="5904000" cy="3498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จม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40464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ink   sank   sunk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จ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s_img" descr="Slideshow image"/>
          <p:cNvPicPr/>
          <p:nvPr/>
        </p:nvPicPr>
        <p:blipFill>
          <a:blip r:embed="rId2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69" name="ss_img" descr="Slideshow image"/>
          <p:cNvPicPr/>
          <p:nvPr/>
        </p:nvPicPr>
        <p:blipFill>
          <a:blip r:embed="rId3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836640" y="6392880"/>
            <a:ext cx="49672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404640" y="5528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it   sat   sa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นั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77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916280" y="344520"/>
            <a:ext cx="3166920" cy="3527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41300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นั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989000" y="6321600"/>
            <a:ext cx="299736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น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40464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leep   slept   slep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น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8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65000" y="488880"/>
            <a:ext cx="5328000" cy="3470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97000" y="6270480"/>
            <a:ext cx="45370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ลื่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40464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lide   slid   slid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ลื่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9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692360" y="243000"/>
            <a:ext cx="3882960" cy="3695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700280" y="6397560"/>
            <a:ext cx="3443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ดมกลิ่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33300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333360" y="5528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mell   smelt   smel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ดมกลิ่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0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844640" y="272880"/>
            <a:ext cx="4032360" cy="3724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484280" y="6321600"/>
            <a:ext cx="3672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ยื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404640" y="54698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tand   stood   stood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ยื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1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649520" y="344520"/>
            <a:ext cx="4017960" cy="3567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484280" y="6465960"/>
            <a:ext cx="37306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โม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33336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teal   stole   stol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โม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2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628640" y="0"/>
            <a:ext cx="3938760" cy="3944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700280" y="6392880"/>
            <a:ext cx="33782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51:53Z</dcterms:created>
  <dc:creator>iLLuSioN</dc:creator>
  <dc:description/>
  <dc:language>en-US</dc:language>
  <cp:lastModifiedBy>Aj_Shannoy</cp:lastModifiedBy>
  <dcterms:modified xsi:type="dcterms:W3CDTF">2010-03-08T08:09:13Z</dcterms:modified>
  <cp:revision>59</cp:revision>
  <dc:subject/>
  <dc:title>ภาพนิ่ง 1</dc:title>
</cp:coreProperties>
</file>