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C60A-A21E-40CF-8753-AD4D3162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8AB-3EFA-46AF-A469-7A40C2A4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27E-306A-4845-B1BA-8446BAED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982-907A-4D7E-823E-504F88FA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6C0-124E-4FFD-95D2-EB054502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EC4-2910-4612-818A-9B962BC2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3F4-1DFB-4B8A-AF4B-659A9AB1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C32-E7AB-44B2-B151-CAA4FA71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7DF-129D-475C-9BE7-66E8F85D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039-6097-4FE8-A0AC-28F0F9F7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D8F7-85CA-4A5A-A604-EE1CF865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6B8-5883-4C1F-8F6D-5707305E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A710-4651-42AF-870E-E100A701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ead   read   rea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34894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73360" y="6537240"/>
            <a:ext cx="30240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ng   rang    r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39272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45960" y="5515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se   rose   ris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1000" y="776160"/>
            <a:ext cx="49690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97000" y="6537240"/>
            <a:ext cx="439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un   ran   ru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57360" y="631800"/>
            <a:ext cx="4468680" cy="324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25360" y="6608880"/>
            <a:ext cx="3889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ek   sought   so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4105440" cy="398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71480" y="6489720"/>
            <a:ext cx="351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nd   sent   sen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13000" y="542880"/>
            <a:ext cx="4035240" cy="34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57360" y="6558120"/>
            <a:ext cx="36003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w   sewed   se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28640" y="415800"/>
            <a:ext cx="411336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62120" y="6534000"/>
            <a:ext cx="36021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ake   shook   shake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16280" y="488880"/>
            <a:ext cx="3528720" cy="33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465960"/>
            <a:ext cx="3240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29:30Z</dcterms:modified>
  <cp:revision>48</cp:revision>
  <dc:subject/>
  <dc:title>ภาพนิ่ง 1</dc:title>
</cp:coreProperties>
</file>