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907588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04B3-0121-40A5-8565-3FADA9BD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EF6E-A5BB-4E9F-91CF-F8E5E894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CDE3-0718-48F4-97C9-7942804E0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1824-39FA-48E1-8633-E1B154608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F420-477E-4658-91A7-915ECF26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4C55-5233-498F-A3EC-D69C64F5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7885-7A6A-4CFD-9406-1AE73592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AEAD-FAD8-49CA-929E-C604AEB9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1C2D-AE35-40BE-B9D7-F3125319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6691-6392-4D9E-99A0-6C9493CE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89CF-3EDE-4ADA-A0AB-CA64B634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CFC8-91CC-423D-87C0-5811F9D7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8BB6-6581-46C8-95D3-012BDB586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r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อ่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404640" y="54698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read   read   read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อ่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4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628640" y="560520"/>
            <a:ext cx="3489480" cy="3468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773360" y="6537240"/>
            <a:ext cx="302400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r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ส่งเสียงดัง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04640" y="54572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ring   rang    rung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ส่งเสียงดั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5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197000" y="488880"/>
            <a:ext cx="4392720" cy="3544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628640" y="6392880"/>
            <a:ext cx="360072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r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ขึ้น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345960" y="551592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rise   rose   rise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ขึ้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6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981000" y="776160"/>
            <a:ext cx="4969080" cy="3095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197000" y="6537240"/>
            <a:ext cx="43927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r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วิ่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47592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404640" y="552852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run   ran   ru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วิ่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7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557360" y="631800"/>
            <a:ext cx="4468680" cy="3245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125360" y="6608880"/>
            <a:ext cx="388944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41360" y="40892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404640" y="552852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eek   sought   sough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8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628640" y="0"/>
            <a:ext cx="4105440" cy="3989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671480" y="6489720"/>
            <a:ext cx="351324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41360" y="40892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ส่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333360" y="552852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end   sent   sent 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ส่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9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413000" y="542880"/>
            <a:ext cx="4035240" cy="3433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557360" y="6558120"/>
            <a:ext cx="360036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41360" y="40892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เย็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0800000">
            <a:off x="404280" y="5168880"/>
            <a:ext cx="280836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40464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ew   sewed   sew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เย็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10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628640" y="415800"/>
            <a:ext cx="4113360" cy="3600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662120" y="6534000"/>
            <a:ext cx="360216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เขย่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33300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333360" y="552852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hake   shook   shaken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เขย่า</a:t>
            </a: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11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916280" y="488880"/>
            <a:ext cx="3528720" cy="3313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773360" y="6465960"/>
            <a:ext cx="324000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8:51:53Z</dcterms:created>
  <dc:creator>iLLuSioN</dc:creator>
  <dc:description/>
  <dc:language>en-US</dc:language>
  <cp:lastModifiedBy>Aj_Shannoy</cp:lastModifiedBy>
  <dcterms:modified xsi:type="dcterms:W3CDTF">2010-03-04T07:29:30Z</dcterms:modified>
  <cp:revision>48</cp:revision>
  <dc:subject/>
  <dc:title>ภาพนิ่ง 1</dc:title>
</cp:coreProperties>
</file>