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45A-5B89-4113-903F-CF71A167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EDD-F418-4243-957E-DA2008E9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4CC-DF46-4D2E-A288-A7F53C06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7975-7540-492B-9111-03820FE6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823-2AB5-4C30-8B70-341B259B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8D6-6976-42F0-9214-1B9FD120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326-B470-46E0-936A-0A5756C8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4D4-8068-45F3-B8E6-8BCB8143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8EC-21E2-485F-B7BD-1D653300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1CC-6AF7-409D-8D83-D12D4AB4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E4E-F88A-427D-9FCC-7AA6832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F2D-8D21-40A1-9056-0E70DF7A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B792-5CC4-4E06-8912-262C2B50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ead   read   rea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อ่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560520"/>
            <a:ext cx="3489480" cy="346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773360" y="6537240"/>
            <a:ext cx="30240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ng   rang    r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เสียงดั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39272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60072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45960" y="55159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ise   rose   ris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ึ้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81000" y="776160"/>
            <a:ext cx="4969080" cy="309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97000" y="6537240"/>
            <a:ext cx="4392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7592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run   ran   ru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ิ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557360" y="631800"/>
            <a:ext cx="4468680" cy="3245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125360" y="6608880"/>
            <a:ext cx="3889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ek   sought   so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4105440" cy="3989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671480" y="6489720"/>
            <a:ext cx="35132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nd   sent   sent 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13000" y="542880"/>
            <a:ext cx="4035240" cy="3433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57360" y="6558120"/>
            <a:ext cx="360036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ew   sewed   se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ย็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28640" y="415800"/>
            <a:ext cx="411336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662120" y="6534000"/>
            <a:ext cx="360216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ake   shook   shake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ย่า</a:t>
            </a: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916280" y="488880"/>
            <a:ext cx="3528720" cy="3313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73360" y="6465960"/>
            <a:ext cx="32400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29:30Z</dcterms:modified>
  <cp:revision>48</cp:revision>
  <dc:subject/>
  <dc:title>ภาพนิ่ง 1</dc:title>
</cp:coreProperties>
</file>