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C26-18C7-4DDC-A06E-D50A7973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B1E-C89E-4BAC-B862-E68F327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EE9-6320-4599-A0DB-03029A5D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895-58A7-4195-BE5A-F08860BE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02C-F494-439D-B3AD-0AF7EA6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A9E-012A-404F-BEB9-E220CD0B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9B0-818C-4179-B5C7-5BDDE174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BA7-0364-4544-9F07-15322C0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6E9-7F74-417D-8EA1-80106DC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0A0-53CF-47FE-9E48-D956895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1A2-75F4-4FF4-92CD-941972C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C80-74CB-4978-BB8A-F38B941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C06A-4209-4304-83BD-CC31D00A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ead   read   rea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3489480" cy="346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73360" y="6537240"/>
            <a:ext cx="30240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ng   rang    r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39272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45960" y="5515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se   rose   ris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81000" y="776160"/>
            <a:ext cx="49690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97000" y="6537240"/>
            <a:ext cx="439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un   ran   ru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57360" y="631800"/>
            <a:ext cx="4468680" cy="324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25360" y="6608880"/>
            <a:ext cx="3889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ek   sought   so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4105440" cy="398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71480" y="6489720"/>
            <a:ext cx="3513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nd   sent   sen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13000" y="542880"/>
            <a:ext cx="4035240" cy="34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57360" y="6558120"/>
            <a:ext cx="36003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w   sewed   se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28640" y="415800"/>
            <a:ext cx="411336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62120" y="6534000"/>
            <a:ext cx="36021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ake   shook   shake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16280" y="488880"/>
            <a:ext cx="3528720" cy="33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465960"/>
            <a:ext cx="3240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29:30Z</dcterms:modified>
  <cp:revision>48</cp:revision>
  <dc:subject/>
  <dc:title>ภาพนิ่ง 1</dc:title>
</cp:coreProperties>
</file>