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4CA-0741-4304-8712-EB7F619A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E94-45D8-4811-9EBE-6EF785BA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9F4-0DD6-4881-A643-94381FFE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221-500A-4D29-AA7F-A0512FE9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8CF-C9B2-4C1F-BB68-02FA384F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832-80AD-4E46-AE87-2E0727CC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623-2588-44EC-8450-0F562279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841-42C5-4CF4-B7B4-43ECF284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D8E-2E53-423A-9348-18DDAA6E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4AA-BB25-4AF1-9891-A2839A0C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E42-51B2-4EAE-8478-0C3A4040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E81-0495-460E-A910-C9B82223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A27D-FAD8-4F19-BFAD-32356B8E1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ออกไข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920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ay   laid   lai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ออกไข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41360" y="560520"/>
            <a:ext cx="4653000" cy="350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268280" y="6537240"/>
            <a:ext cx="38880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620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33360" y="5609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ead   led   le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07920" y="631800"/>
            <a:ext cx="5112000" cy="337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882720" y="6586560"/>
            <a:ext cx="43927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อนล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549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640" y="55969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ie   lay   lai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อนล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6640" y="1496880"/>
            <a:ext cx="525636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92280" y="6824520"/>
            <a:ext cx="4968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ุดไ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7592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ight   lit   li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ุดไ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628640" y="200160"/>
            <a:ext cx="3889440" cy="378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844640" y="6537240"/>
            <a:ext cx="316872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7:47:35Z</dcterms:modified>
  <cp:revision>50</cp:revision>
  <dc:subject/>
  <dc:title>ภาพนิ่ง 1</dc:title>
</cp:coreProperties>
</file>