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C00-291B-44C4-9112-D8F68BB8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AA7-DBE7-40F8-A930-DAB4475B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526-E0C6-48EF-B976-8FD06CEA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A73-0F11-4739-9AF8-1E6A1237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913-D7DC-4519-ACCB-B026C5BA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A53-0D38-4254-8DFB-351EA8D0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ED9-38A0-4F91-A94B-9802B495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E9A-336A-4DFD-984C-7901D4E6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B4F-6527-40EF-97BA-87654CBC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B13-929C-42BB-BB64-5B6E7F2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179-859C-4A5A-A9BE-99CAFB5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01F-7278-4E46-A2DB-C4A52968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0F21-1D8E-484E-8577-F674E6CA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อกไข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920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ay   laid   lai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อกไข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653000" cy="350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68280" y="6537240"/>
            <a:ext cx="38880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20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609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ead   led   le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07920" y="631800"/>
            <a:ext cx="511200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82720" y="6586560"/>
            <a:ext cx="4392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49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5969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ie   lay   lai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6640" y="1496880"/>
            <a:ext cx="525636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2280" y="6824520"/>
            <a:ext cx="4968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ุดไ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ight   lit   li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ุดไ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28640" y="200160"/>
            <a:ext cx="3889440" cy="37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844640" y="6537240"/>
            <a:ext cx="3168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47:35Z</dcterms:modified>
  <cp:revision>50</cp:revision>
  <dc:subject/>
  <dc:title>ภาพนิ่ง 1</dc:title>
</cp:coreProperties>
</file>