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907588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DE16-3A52-4FEB-9D0D-E15D0CEA4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DE50-35CD-4F07-BDBF-B375C5E3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0707-4A29-4BD8-9A1D-E3F95DABE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A389-4527-4698-87F0-62B185A18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C4C1-83C9-4A85-AC24-52AF01E8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CD47-4149-48A7-BED9-3F01C1A3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0BBB-E4E7-403F-9943-D795527C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DF45-7C69-42BA-8855-BE6FED61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42DA-0DEE-49A0-B817-BF54CFCD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71FF-B1E0-4B63-B09D-AE1BAD6D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C737-2D23-4F8B-86AF-29B8F541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B1E2-F56B-41CB-90CC-7F776573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0576-84C4-460F-B4FC-77120346A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l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ออกไข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404280" y="509724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92040" y="5673240"/>
            <a:ext cx="612000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lay   laid   laid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ออกไข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4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341360" y="560520"/>
            <a:ext cx="4653000" cy="3508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268280" y="6537240"/>
            <a:ext cx="3888000" cy="29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l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62028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333360" y="560952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lead   led   led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5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907920" y="631800"/>
            <a:ext cx="5112000" cy="3371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882720" y="6586560"/>
            <a:ext cx="439272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l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นอนล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54900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404640" y="559692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lie   lay   lain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นอนล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6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836640" y="1496880"/>
            <a:ext cx="5256360" cy="190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692280" y="6824520"/>
            <a:ext cx="496872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l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จุดไ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47592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404640" y="552852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light   lit   lit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จุดไ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7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628640" y="200160"/>
            <a:ext cx="3889440" cy="3787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1844640" y="6537240"/>
            <a:ext cx="316872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8:51:53Z</dcterms:created>
  <dc:creator>iLLuSioN</dc:creator>
  <dc:description/>
  <dc:language>en-US</dc:language>
  <cp:lastModifiedBy>Aj_Shannoy</cp:lastModifiedBy>
  <dcterms:modified xsi:type="dcterms:W3CDTF">2010-03-08T07:47:35Z</dcterms:modified>
  <cp:revision>50</cp:revision>
  <dc:subject/>
  <dc:title>ภาพนิ่ง 1</dc:title>
</cp:coreProperties>
</file>