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993-E5AB-45A1-8386-CD070C6B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824-12E2-4781-8934-3AD79A53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59A-433B-4285-B4EA-65EF254F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84B-B2C2-4ADA-8921-0EA1601E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902-6C99-4214-B87B-1C5BE8CA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076-7C66-4F5A-B7B6-7812EF23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233-9111-4BB6-9AAA-2876F797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3E9-9B2C-4C02-A8B5-90BDEDB1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E3F-1A4F-493E-A0A0-259D2F41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322-A2C6-4843-A6EF-20FF3BD7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8AA-8C94-4CAA-8944-BB5F9529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6F8-F486-4F46-8D5E-1BEF8B17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13B7-B761-4EE0-9876-D239E771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อกไข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920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ay   laid   lai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อกไข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653000" cy="350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68280" y="6537240"/>
            <a:ext cx="38880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620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609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ead   led   le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07920" y="631800"/>
            <a:ext cx="511200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82720" y="6586560"/>
            <a:ext cx="4392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49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5969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ie   lay   lai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6640" y="1496880"/>
            <a:ext cx="525636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2280" y="6824520"/>
            <a:ext cx="4968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ุดไ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ight   lit   li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ุดไ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28640" y="200160"/>
            <a:ext cx="3889440" cy="37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844640" y="6537240"/>
            <a:ext cx="3168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47:35Z</dcterms:modified>
  <cp:revision>50</cp:revision>
  <dc:subject/>
  <dc:title>ภาพนิ่ง 1</dc:title>
</cp:coreProperties>
</file>