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8C8-4577-467D-96BB-148DE20A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2540-E5D6-47A5-84F2-87AA4929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78BE-3C01-4A14-8375-B6645685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E4D4-3530-420F-9897-08A1C19B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72D-A153-4282-9BB8-08390E92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7D8B-AB88-47D1-AF35-C620365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327-FFED-4185-873F-719DFE0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323-65E2-4DC6-A4FB-DF9BF88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2CC-6B2E-417B-A1E1-BABF7083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9B5-C943-4BC7-964C-604670CA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EB24-44A2-4517-89ED-AE1E222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567-2863-4B40-B37F-464D3DC3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5B7-99C3-4131-AA37-89CD8110D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82520" y="1916280"/>
            <a:ext cx="4681440" cy="44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6"/>
          <p:cNvSpPr/>
          <p:nvPr/>
        </p:nvSpPr>
        <p:spPr>
          <a:xfrm>
            <a:off x="185760" y="20628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40"/>
          <p:cNvSpPr/>
          <p:nvPr/>
        </p:nvSpPr>
        <p:spPr>
          <a:xfrm>
            <a:off x="182520" y="661032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74280" y="36504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50"/>
          <p:cNvSpPr/>
          <p:nvPr/>
        </p:nvSpPr>
        <p:spPr>
          <a:xfrm>
            <a:off x="166680" y="90792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075280" y="1925640"/>
            <a:ext cx="4681440" cy="446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Title of the workshop / club attende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………………………………………………………………………………………….……..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I d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1.  ……………………………….………................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2. ……………………………………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3. ……………………………………………………………………………………………………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4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5. …………………………………………………………………………………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Language strategy / skill / knowledge gai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……………………………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…………………………………………… ………………………………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.……………………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 want to suggest e.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next topic / activity ……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focus learning strategy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[  ] others (please specify) …………………………………………………………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6"/>
          <p:cNvSpPr/>
          <p:nvPr/>
        </p:nvSpPr>
        <p:spPr>
          <a:xfrm>
            <a:off x="5078520" y="216000"/>
            <a:ext cx="180648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selling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900" spc="-1" strike="noStrike">
                <a:solidFill>
                  <a:srgbClr val="ffffff"/>
                </a:solidFill>
                <a:latin typeface="Arial Narrow"/>
              </a:rPr>
              <a:t>K    M   U    T    T        S    A    L   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40"/>
          <p:cNvSpPr/>
          <p:nvPr/>
        </p:nvSpPr>
        <p:spPr>
          <a:xfrm>
            <a:off x="5075280" y="6620040"/>
            <a:ext cx="412128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July, 2009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 by SALC counselor</a:t>
            </a:r>
            <a:r>
              <a:rPr b="0" lang="th-TH" sz="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updated  Dec, 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7040" y="37476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Workshe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50"/>
          <p:cNvSpPr/>
          <p:nvPr/>
        </p:nvSpPr>
        <p:spPr>
          <a:xfrm>
            <a:off x="5059440" y="917640"/>
            <a:ext cx="4699080" cy="7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 marL="533520" indent="-533520">
              <a:spcBef>
                <a:spcPts val="45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: workshop / cl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ame ……………………..……… Surname…………......................  Date 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[ ] Student   Group ….   Id.no. ………………… [ ] Staff   Dept.…….…………………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cp:lastPrinted>2013-12-19T04:36:04Z</cp:lastPrinted>
  <dcterms:modified xsi:type="dcterms:W3CDTF">2014-01-03T07:19:05Z</dcterms:modified>
  <cp:revision>63</cp:revision>
  <dc:subject/>
  <dc:title>Slide 1</dc:title>
</cp:coreProperties>
</file>