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6D81-4C39-41C5-8CB5-2C9406A6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3FF4-0A0D-47A9-A377-E29E4A56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E4A-CEAA-4586-80D5-F7FE5273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0CD-60AF-4DD8-A1D8-42ECF1C0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B07-2B3A-4F18-8060-2CB5FBC2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227-53D2-40EF-B423-10A8963B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94D1-27BB-4248-92AA-42892B36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7EE-9BB7-4058-A451-26607B05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3D65-FAAA-4A64-8F3C-6BC55FF4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09A-E2A3-4DE5-9803-13A6D703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C0B-DAD6-4D77-B9D8-2B95116B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97A-104E-45DF-AB26-7D3B96A8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BCF2-A384-4420-9A97-CFF78BF1E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520" y="1916280"/>
            <a:ext cx="4681440" cy="44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workshop / club attende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I d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……………………………….………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……………………………………………………………………………………………………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anguage strategy / skill / knowledge g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next topic / activity 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focus learning strategy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others (please specify)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185760" y="20628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66680" y="90792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workshop /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075280" y="1925640"/>
            <a:ext cx="4681440" cy="44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workshop / club attende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I d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……………………………….………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……………………………………………………………………………………………………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anguage strategy / skill / knowledge g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next topic / activity 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focus learning strategy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others (please specify)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6"/>
          <p:cNvSpPr/>
          <p:nvPr/>
        </p:nvSpPr>
        <p:spPr>
          <a:xfrm>
            <a:off x="5078520" y="21600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40"/>
          <p:cNvSpPr/>
          <p:nvPr/>
        </p:nvSpPr>
        <p:spPr>
          <a:xfrm>
            <a:off x="5075280" y="662004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267040" y="37476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50"/>
          <p:cNvSpPr/>
          <p:nvPr/>
        </p:nvSpPr>
        <p:spPr>
          <a:xfrm>
            <a:off x="5059440" y="91764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workshop /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9:05Z</dcterms:modified>
  <cp:revision>63</cp:revision>
  <dc:subject/>
  <dc:title>Slide 1</dc:title>
</cp:coreProperties>
</file>