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9871075" cy="67421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E1B93-3CDB-4BB5-8B26-D20E63416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B4315-AEBC-4B68-B2CC-ED0E44C85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7CFE4-39EE-47ED-8F04-B01ACD809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C9CA8-AA7E-4CAC-89C5-78D010C7E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F30E8-EBAD-4F82-BAB5-0D5B8CC22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FCC2E-6473-4DA9-A47B-26E2E17CC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7A072-428E-4764-B482-2D3C0B966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1014B-68A4-4781-8659-0285D4277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84BB8-A181-43C1-AD92-8B35D6A86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820AA-AB05-4C99-98FF-2A6AB2879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BC5A1-7D09-412F-B59A-0F62991CD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23ED9-0E33-4687-B3D4-512CEF680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23C51-1D63-4127-913A-F06F16785D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82520" y="1916280"/>
            <a:ext cx="4681440" cy="4465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  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Title of the workshop / club attended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………………………………………………………………………………………….……..………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Activities I di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1.  ……………………………….……….......................................................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     …………………………………………………………………………………………………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2. ……………………………………………………………………………………………………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    …………………………………………………………………………………………………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3. ……………………………………………………………………………………………………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    ……………………………………………………………………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4. ……………………………………………………………………………………………………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    ……………………………………………………………………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5. ……………………………………………………………………………………………………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    ……………………………………………………………………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Language strategy / skill / knowledge gain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…………………………………………………………………………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…………………………………………… 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.……………………....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 …………………………………………………………………………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…………………………………………… 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.……………………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…………………………………………………………………………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…………………………………………… 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.……………………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What I want to suggest e.g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[  ] next topic / activity ………………………………………………………………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[  ] focus learning strategy …………………………………………………………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[  ] others (please specify) …………………………………………………………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216"/>
          <p:cNvSpPr/>
          <p:nvPr/>
        </p:nvSpPr>
        <p:spPr>
          <a:xfrm>
            <a:off x="185760" y="206280"/>
            <a:ext cx="180648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selling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900" spc="-1" strike="noStrike">
                <a:solidFill>
                  <a:srgbClr val="ffffff"/>
                </a:solidFill>
                <a:latin typeface="Arial Narrow"/>
              </a:rPr>
              <a:t>K    M   U    T    T        S    A    L   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840"/>
          <p:cNvSpPr/>
          <p:nvPr/>
        </p:nvSpPr>
        <p:spPr>
          <a:xfrm>
            <a:off x="182520" y="6610320"/>
            <a:ext cx="4121280" cy="22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Created </a:t>
            </a:r>
            <a:r>
              <a:rPr b="0" lang="th-TH" sz="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July, 2009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 by SALC counselor</a:t>
            </a:r>
            <a:r>
              <a:rPr b="0" lang="th-TH" sz="800" spc="-1" strike="noStrike">
                <a:solidFill>
                  <a:srgbClr val="000000"/>
                </a:solidFill>
                <a:latin typeface="Tahoma"/>
                <a:ea typeface="Tahoma"/>
              </a:rPr>
              <a:t>: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updated  Dec,  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3374280" y="365040"/>
            <a:ext cx="162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Generic Workshee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50"/>
          <p:cNvSpPr/>
          <p:nvPr/>
        </p:nvSpPr>
        <p:spPr>
          <a:xfrm>
            <a:off x="166680" y="907920"/>
            <a:ext cx="4699080" cy="75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3400" rIns="113400" tIns="56880" bIns="56880" anchor="t">
            <a:spAutoFit/>
          </a:bodyPr>
          <a:p>
            <a:pPr marL="533520" indent="-533520">
              <a:spcBef>
                <a:spcPts val="451"/>
              </a:spcBef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opic: workshop / clu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Name ……………………..……… Surname…………......................  Date ………………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[ ] Student   Group ….   Id.no. ………………… [ ] Staff   Dept.…….…………………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5075280" y="1925640"/>
            <a:ext cx="4681440" cy="446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  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Title of the workshop / club attended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………………………………………………………………………………………….……..………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Activities I di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1.  ……………………………….……….......................................................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     …………………………………………………………………………………………………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2. ……………………………………………………………………………………………………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    …………………………………………………………………………………………………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3. ……………………………………………………………………………………………………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    ……………………………………………………………………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4. ……………………………………………………………………………………………………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    ……………………………………………………………………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5. ……………………………………………………………………………………………………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    ……………………………………………………………………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Language strategy / skill / knowledge gain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…………………………………………………………………………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…………………………………………… 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.……………………....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 …………………………………………………………………………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…………………………………………… 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.……………………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…………………………………………………………………………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…………………………………………… 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.……………………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AutoNum type="arabicPlain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What I want to suggest e.g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[  ] next topic / activity ………………………………………………………………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[  ] focus learning strategy …………………………………………………………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[  ] others (please specify) …………………………………………………………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216"/>
          <p:cNvSpPr/>
          <p:nvPr/>
        </p:nvSpPr>
        <p:spPr>
          <a:xfrm>
            <a:off x="5078520" y="216000"/>
            <a:ext cx="180648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selling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900" spc="-1" strike="noStrike">
                <a:solidFill>
                  <a:srgbClr val="ffffff"/>
                </a:solidFill>
                <a:latin typeface="Arial Narrow"/>
              </a:rPr>
              <a:t>K    M   U    T    T        S    A    L   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840"/>
          <p:cNvSpPr/>
          <p:nvPr/>
        </p:nvSpPr>
        <p:spPr>
          <a:xfrm>
            <a:off x="5075280" y="6620040"/>
            <a:ext cx="4121280" cy="22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Created </a:t>
            </a:r>
            <a:r>
              <a:rPr b="0" lang="th-TH" sz="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July, 2009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 by SALC counselor</a:t>
            </a:r>
            <a:r>
              <a:rPr b="0" lang="th-TH" sz="800" spc="-1" strike="noStrike">
                <a:solidFill>
                  <a:srgbClr val="000000"/>
                </a:solidFill>
                <a:latin typeface="Tahoma"/>
                <a:ea typeface="Tahoma"/>
              </a:rPr>
              <a:t>: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updated  Dec,  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8267040" y="374760"/>
            <a:ext cx="162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Generic Workshee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750"/>
          <p:cNvSpPr/>
          <p:nvPr/>
        </p:nvSpPr>
        <p:spPr>
          <a:xfrm>
            <a:off x="5059440" y="917640"/>
            <a:ext cx="4699080" cy="75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3400" rIns="113400" tIns="56880" bIns="56880" anchor="t">
            <a:spAutoFit/>
          </a:bodyPr>
          <a:p>
            <a:pPr marL="533520" indent="-533520">
              <a:spcBef>
                <a:spcPts val="451"/>
              </a:spcBef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opic: workshop / clu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Name ……………………..……… Surname…………......................  Date ………………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[ ] Student   Group ….   Id.no. ………………… [ ] Staff   Dept.…….…………………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5T14:55:43Z</dcterms:created>
  <dc:creator>sKzXP</dc:creator>
  <dc:description/>
  <dc:language>en-US</dc:language>
  <cp:lastModifiedBy>user</cp:lastModifiedBy>
  <cp:lastPrinted>2013-12-19T04:36:04Z</cp:lastPrinted>
  <dcterms:modified xsi:type="dcterms:W3CDTF">2014-01-03T07:19:05Z</dcterms:modified>
  <cp:revision>63</cp:revision>
  <dc:subject/>
  <dc:title>Slide 1</dc:title>
</cp:coreProperties>
</file>