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30D-322F-413E-AFFA-11F320D5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98E-B2CC-42A7-AF6B-02B5F43A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0D5-4C6C-443B-AA94-8F0052AF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00A-E406-49D7-A53F-EB9FA919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8B1-0682-41E0-ACE6-A2BF4CA9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882F-1231-44B9-B372-1B5D471C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82C-5B5D-4695-8FEF-B5D227F4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771-E5EA-498D-A464-82F86090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D175-18ED-4B06-B08A-398E0DE2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FB03-2594-4416-879C-46114088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BF4-CD97-4C29-832E-9783AAB7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77A-23A6-4BB2-830B-B11A14C4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C73C-6996-4A60-AC1F-6A19FFA88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916280"/>
            <a:ext cx="4681440" cy="44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workshop / club attende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I d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……………………………….………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……………………………………………………………………………………………………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anguage strategy / skill / knowledge g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next topic / activity 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focus learning strategy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others (please specify)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185760" y="2062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66680" y="9079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workshop /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075280" y="1925640"/>
            <a:ext cx="4681440" cy="44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workshop / club attende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I d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……………………………….………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……………………………………………………………………………………………………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anguage strategy / skill / knowledge g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next topic / activity 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focus learning strategy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others (please specify)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078520" y="21600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40"/>
          <p:cNvSpPr/>
          <p:nvPr/>
        </p:nvSpPr>
        <p:spPr>
          <a:xfrm>
            <a:off x="5075280" y="66200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267040" y="3747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50"/>
          <p:cNvSpPr/>
          <p:nvPr/>
        </p:nvSpPr>
        <p:spPr>
          <a:xfrm>
            <a:off x="5059440" y="91764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workshop /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9:05Z</dcterms:modified>
  <cp:revision>63</cp:revision>
  <dc:subject/>
  <dc:title>Slide 1</dc:title>
</cp:coreProperties>
</file>