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9C5-5F63-4399-A446-6A0CE530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CD1-910E-49F2-93E3-D500162E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EC3-DE3F-4893-B66E-3E98D099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82E-001E-4B6B-9E66-34B0469E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5D5-C490-4FA6-91D7-BDCECADE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201-842C-4957-BBDD-934EC2FC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25D-5FEF-49E7-B9F1-8B04E5B9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AE9-424F-4785-8B98-6F838200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250-9015-4B8D-ADF1-D2614D22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635-C71B-4F0F-AED7-4ACFCCA0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4F7-5D06-47E2-9517-1F3031E6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83D-9433-4FFD-9D4D-E85E823F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2FB3-1494-4ABC-BEC6-C13C90676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773360"/>
            <a:ext cx="4681440" cy="47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URL: …………………………………………………………………………………………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Focus skill: 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opic chosen: ……………………………….………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text/activity is about .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information/ knowledge I have go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8680" y="357336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8252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Online programme /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1244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079960" y="1776240"/>
            <a:ext cx="4681440" cy="475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URL: …………………………………………………………………………………………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Focus skill: 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opic chosen: ……………………………….………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text/activity is about .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information/ knowledge I have go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11640" y="20952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26120" y="357660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315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079960" y="661356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50"/>
          <p:cNvSpPr/>
          <p:nvPr/>
        </p:nvSpPr>
        <p:spPr>
          <a:xfrm>
            <a:off x="5079960" y="8557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Online programme /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309880" y="36828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8:29Z</dcterms:modified>
  <cp:revision>58</cp:revision>
  <dc:subject/>
  <dc:title>Slide 1</dc:title>
</cp:coreProperties>
</file>