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871075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69B6-B494-4617-8C17-1FAC74381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03A2-0DD2-491A-A813-6521F37C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3E60-3C0C-4CBF-9F62-810C31B95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EC4C-984E-49CA-AF12-E583824FC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8020-CAC9-4F3E-8BEC-FBFA5790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6605-2623-4B1E-B1E1-F5F1149E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7A09-9F36-4665-87A8-7B9AFB10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AB76-0B3F-439E-9FEF-3C023B56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D9FE-C0EE-4DAE-9D4E-EB2721DF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7577-324C-4A88-97A4-9C668E3A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09B3-5AF8-48C9-9228-4C97423D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5A2A-813C-479A-9F68-1BE7C8D9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5E32-6C78-4D3E-9FB5-8066A63E8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82520" y="1773360"/>
            <a:ext cx="4681440" cy="475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1.  URL: ………………………………………………………………………………………….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2.  Focus skill: 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 Topic chosen: ……………………………….………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 The text/activity is about .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New words I have lear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6.  Interesting sentences/ expressions I have learnt 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7.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information/ knowledge I have got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16"/>
          <p:cNvSpPr/>
          <p:nvPr/>
        </p:nvSpPr>
        <p:spPr>
          <a:xfrm>
            <a:off x="214200" y="206280"/>
            <a:ext cx="18068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8680" y="3573360"/>
          <a:ext cx="4406760" cy="1536840"/>
        </p:xfrm>
        <a:graphic>
          <a:graphicData uri="http://schemas.openxmlformats.org/drawingml/2006/table">
            <a:tbl>
              <a:tblPr/>
              <a:tblGrid>
                <a:gridCol w="1274760"/>
                <a:gridCol w="3132000"/>
              </a:tblGrid>
              <a:tr h="26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t of Speech (e.g. n., v.) &amp;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 Box 840"/>
          <p:cNvSpPr/>
          <p:nvPr/>
        </p:nvSpPr>
        <p:spPr>
          <a:xfrm>
            <a:off x="182520" y="661032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50"/>
          <p:cNvSpPr/>
          <p:nvPr/>
        </p:nvSpPr>
        <p:spPr>
          <a:xfrm>
            <a:off x="182520" y="852480"/>
            <a:ext cx="469908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Online programme /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412440" y="36504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5079960" y="1776240"/>
            <a:ext cx="4681440" cy="475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1.  URL: ………………………………………………………………………………………….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2.  Focus skill: 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 Topic chosen: ……………………………….………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 The text/activity is about .…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New words I have lear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6.  Interesting sentences/ expressions I have learnt 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7.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information/ knowledge I have got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…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16"/>
          <p:cNvSpPr/>
          <p:nvPr/>
        </p:nvSpPr>
        <p:spPr>
          <a:xfrm>
            <a:off x="5111640" y="209520"/>
            <a:ext cx="18068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226120" y="3576600"/>
          <a:ext cx="4406760" cy="1536840"/>
        </p:xfrm>
        <a:graphic>
          <a:graphicData uri="http://schemas.openxmlformats.org/drawingml/2006/table">
            <a:tbl>
              <a:tblPr/>
              <a:tblGrid>
                <a:gridCol w="1274760"/>
                <a:gridCol w="3132000"/>
              </a:tblGrid>
              <a:tr h="315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rt of Speech (e.g. n., v.) &amp;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a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 Box 840"/>
          <p:cNvSpPr/>
          <p:nvPr/>
        </p:nvSpPr>
        <p:spPr>
          <a:xfrm>
            <a:off x="5079960" y="661356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50"/>
          <p:cNvSpPr/>
          <p:nvPr/>
        </p:nvSpPr>
        <p:spPr>
          <a:xfrm>
            <a:off x="5079960" y="855720"/>
            <a:ext cx="469908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Online programme /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8309880" y="36828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user</cp:lastModifiedBy>
  <cp:lastPrinted>2013-12-19T04:36:04Z</cp:lastPrinted>
  <dcterms:modified xsi:type="dcterms:W3CDTF">2014-01-03T07:18:29Z</dcterms:modified>
  <cp:revision>58</cp:revision>
  <dc:subject/>
  <dc:title>Slide 1</dc:title>
</cp:coreProperties>
</file>