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105-9090-4FF3-9E3D-C9641504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31D7-10EF-4B67-85C0-4B475FC0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6ADC-1DAC-4055-B7F5-DCEA7294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DEB-0212-419F-889C-DFA7000F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D83-CD28-41BA-B5CA-A5A97B59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8EC-D7C3-447F-AB0F-6331F18A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DB7-D01E-444A-9ABC-0804612E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F65-30AB-43CB-87FD-C04C7B0E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D68-F1E5-4FEF-83C1-122AA88D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E88-5985-4E23-B6D2-C77CB0E1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494-65FC-4379-8AB4-EEAD057B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F0D-AC62-4181-B50D-6C05FBF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C1E6-385E-46FC-A4E1-6C5D13306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773360"/>
            <a:ext cx="4681440" cy="47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URL: …………………………………………………………………………………………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Focus skill: 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opic chosen: ……………………………….………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text/activity is about .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information/ knowledge I have go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8680" y="357336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8252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Online programme /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1244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079960" y="1776240"/>
            <a:ext cx="4681440" cy="475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URL: …………………………………………………………………………………………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Focus skill: 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opic chosen: ……………………………….………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text/activity is about .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information/ knowledge I have go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11640" y="20952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26120" y="357660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315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079960" y="661356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50"/>
          <p:cNvSpPr/>
          <p:nvPr/>
        </p:nvSpPr>
        <p:spPr>
          <a:xfrm>
            <a:off x="5079960" y="8557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Online programme /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309880" y="36828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8:29Z</dcterms:modified>
  <cp:revision>58</cp:revision>
  <dc:subject/>
  <dc:title>Slide 1</dc:title>
</cp:coreProperties>
</file>