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952-4B1D-4D4B-AD92-14CA1C87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389-9B77-452C-9A0F-B770E3E2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E88-AD00-4A02-A61E-1E700D32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8C7-9C8D-438E-891D-70E84452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9E4-D3E4-4766-890B-1A15B298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2B0-AEBC-435F-947F-D4C9E99E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888-12DB-44A7-84C7-324656B5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19A-6AB4-427C-8135-CB24910B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770-9527-4FA3-997E-88A72116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50B-D010-4922-A930-9BAA22F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E01-F0A4-4534-B20D-48D078B2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AAE-9046-420F-85C1-A0011E5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A0A7-AB4C-493B-ADCC-CC7E5423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773360"/>
            <a:ext cx="468144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357336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1244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79960" y="1776240"/>
            <a:ext cx="4681440" cy="47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11640" y="20952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26120" y="357660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79960" y="661356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79960" y="855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09880" y="36828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29Z</dcterms:modified>
  <cp:revision>58</cp:revision>
  <dc:subject/>
  <dc:title>Slide 1</dc:title>
</cp:coreProperties>
</file>