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C0F-AD77-4429-9689-2F25FB3E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3E7-341C-469C-BB14-9B8B770D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2E6-735B-4CA0-9975-B03FCD18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787-2B42-4F4A-B6EB-5D58B930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783-FCAD-4903-9549-CD286735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557-114C-42E7-81E4-B48DCAB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4D1-BA31-4B72-A16D-6E024722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B8B-41B6-42D9-90BB-5A06BB22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310-E449-479B-A311-8B498D1E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752-238D-4B36-825B-BBEE4E4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F1F-2725-4585-871D-DCD4EAA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180-5F17-44D5-93DC-EE979B3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BEF-771E-445A-83C4-98729866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773360"/>
            <a:ext cx="468144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357336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1244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79960" y="1776240"/>
            <a:ext cx="4681440" cy="47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11640" y="20952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26120" y="357660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79960" y="661356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79960" y="855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09880" y="36828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29Z</dcterms:modified>
  <cp:revision>58</cp:revision>
  <dc:subject/>
  <dc:title>Slide 1</dc:title>
</cp:coreProperties>
</file>