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FE34-91DC-4598-AB31-BD36B56C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9A6F-AAD3-46E2-B46E-FDD2FE9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ECB-1C0D-4A65-BE87-CCC59B3E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B0D-13EB-464B-9009-DEE430A2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3BF-6FE3-43DF-A05D-7BBAEF5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98F-068A-42CE-9929-7C1803F6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ADB4-BC3A-4508-824B-28F46D3E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145-CF8B-418E-8850-0C0E9BD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C93-DB1A-4B7A-8B24-88ECB564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B73-84C9-4335-BE07-FF6EAF0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CB0-44E2-4D5F-8447-B40AC55C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BF8E-1EBC-41F6-84B4-89C2F71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665-998C-4FA3-8463-7C57CB9AD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32120"/>
            <a:ext cx="4681440" cy="46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4365720"/>
          <a:ext cx="4406760" cy="153648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76500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33880" y="1954080"/>
            <a:ext cx="4681800" cy="46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itle of the news/ article: .………..…….……..……..……………………..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of the newspaper/ magazine: ……………………………………….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3.    Source: 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4.   Type of news/arti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politics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weather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featur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cr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conomics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scienc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environment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business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technology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religion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  ]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other 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5.  The news/article is about …………………………………………………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065560" y="21924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180040" y="438768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33880" y="66326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33880" y="758880"/>
            <a:ext cx="4699080" cy="10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News/ article (from newspape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magaz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225640" y="3873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00Z</dcterms:modified>
  <cp:revision>60</cp:revision>
  <dc:subject/>
  <dc:title>Slide 1</dc:title>
</cp:coreProperties>
</file>