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68B7-E508-4A32-A571-FFD59D52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BBFD-6F5A-459B-B9C0-F42609CD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9977-2CA5-4EAC-9606-13D73E5EC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60EC-DFC3-49A1-B2E0-C3B6FE69B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FD11-DBC0-4C7C-A6E8-7A963292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C4F0-B2E6-4EA5-9931-AA24CCD7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8EF6-8B46-4C01-9650-D6430CDE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2A72-831B-4A04-8EAC-545CB2F4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CBD9-31D5-4455-B065-93BF6BE9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61B1-858B-4DCD-B66E-A7C8F0EE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7AED-4A2F-4BB5-AE08-E9129C47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A71C-7DFA-4776-BAE3-CFC64617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3FD6-5680-495E-8AF5-00CD1CDE9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82520" y="1932120"/>
            <a:ext cx="4681440" cy="46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Title of the news/ article: .………..…….……..……..……………………..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of the newspaper/ magazine: ……………………………………….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3.    Source: 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4.   Type of news/arti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politic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weather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featur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cr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economics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scienc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environment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entertai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busines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technology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religion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other 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5.  The news/article is about …………………………………………………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…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6. New words I have lear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7.  Interesting sentences/ expressions I have learnt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16"/>
          <p:cNvSpPr/>
          <p:nvPr/>
        </p:nvSpPr>
        <p:spPr>
          <a:xfrm>
            <a:off x="214200" y="206280"/>
            <a:ext cx="1806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8680" y="4365720"/>
          <a:ext cx="4406760" cy="1536480"/>
        </p:xfrm>
        <a:graphic>
          <a:graphicData uri="http://schemas.openxmlformats.org/drawingml/2006/table">
            <a:tbl>
              <a:tblPr/>
              <a:tblGrid>
                <a:gridCol w="1274760"/>
                <a:gridCol w="3132000"/>
              </a:tblGrid>
              <a:tr h="26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t of Speech (e.g. n., v.) &amp;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 Box 840"/>
          <p:cNvSpPr/>
          <p:nvPr/>
        </p:nvSpPr>
        <p:spPr>
          <a:xfrm>
            <a:off x="182520" y="661032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50"/>
          <p:cNvSpPr/>
          <p:nvPr/>
        </p:nvSpPr>
        <p:spPr>
          <a:xfrm>
            <a:off x="182520" y="765000"/>
            <a:ext cx="4699080" cy="10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News/ article (from newspaper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magaz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374280" y="36504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5033880" y="1954080"/>
            <a:ext cx="4681800" cy="46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Title of the news/ article: .………..…….……..……..……………………..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of the newspaper/ magazine: ……………………………………….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3.    Source: 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4.   Type of news/arti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politic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weather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featur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cr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economics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scienc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environment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entertai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busines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technology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religion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other 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5.  The news/article is about …………………………………………………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…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6. New words I have lear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7.  Interesting sentences/ expressions I have learnt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16"/>
          <p:cNvSpPr/>
          <p:nvPr/>
        </p:nvSpPr>
        <p:spPr>
          <a:xfrm>
            <a:off x="5065560" y="219240"/>
            <a:ext cx="1806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180040" y="4387680"/>
          <a:ext cx="4406760" cy="1536840"/>
        </p:xfrm>
        <a:graphic>
          <a:graphicData uri="http://schemas.openxmlformats.org/drawingml/2006/table">
            <a:tbl>
              <a:tblPr/>
              <a:tblGrid>
                <a:gridCol w="1274760"/>
                <a:gridCol w="3132000"/>
              </a:tblGrid>
              <a:tr h="314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t of Speech (e.g. n., v.) &amp;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 Box 840"/>
          <p:cNvSpPr/>
          <p:nvPr/>
        </p:nvSpPr>
        <p:spPr>
          <a:xfrm>
            <a:off x="5033880" y="663264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50"/>
          <p:cNvSpPr/>
          <p:nvPr/>
        </p:nvSpPr>
        <p:spPr>
          <a:xfrm>
            <a:off x="5033880" y="758880"/>
            <a:ext cx="4699080" cy="10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News/ article (from newspaper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magaz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8225640" y="38736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user</cp:lastModifiedBy>
  <cp:lastPrinted>2013-12-19T04:36:04Z</cp:lastPrinted>
  <dcterms:modified xsi:type="dcterms:W3CDTF">2014-01-03T07:18:00Z</dcterms:modified>
  <cp:revision>60</cp:revision>
  <dc:subject/>
  <dc:title>Slide 1</dc:title>
</cp:coreProperties>
</file>