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0B2-17A9-470F-B010-059EA47C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2E06-677B-412E-BD54-1000FF5C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DF8-C2BB-46E9-B75D-7D6E2862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17B-9B64-4073-BA85-C0A6BB70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0D8-FFBF-468A-8614-B012DBC6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27B-DA2B-4FA3-A18E-DB77CBF7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984-5B96-4ED1-94E6-41E3D8AD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1F72-4BE2-43B1-AE4A-9713D82A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901-6920-4B0D-89D0-7D37199D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A2C-469D-4AE7-B9C1-50927B72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6A4-5579-4680-A082-A02DE9AB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B15-48C6-4E3F-81BE-43DDA084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619C-1BA4-421B-BF4E-033F2B330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932120"/>
            <a:ext cx="4681440" cy="46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itle of the news/ article: .………..…….……..……..……………………..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of the newspaper/ magazine: ……………………………………….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    Source: 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.   Type of news/art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politic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weath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eatu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conomic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ci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environment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ntertai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busin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echnology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relig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ther 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5.  The news/article is about …………………………………………………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8680" y="4365720"/>
          <a:ext cx="4406760" cy="153648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82520" y="76500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News/ article (from newspaper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magaz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033880" y="1954080"/>
            <a:ext cx="4681800" cy="46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itle of the news/ article: .………..…….……..……..……………………..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of the newspaper/ magazine: ……………………………………….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    Source: 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.   Type of news/art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politic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weath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eatu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conomic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ci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environment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ntertai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busin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echnology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relig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ther 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5.  The news/article is about …………………………………………………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065560" y="21924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180040" y="438768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31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033880" y="66326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50"/>
          <p:cNvSpPr/>
          <p:nvPr/>
        </p:nvSpPr>
        <p:spPr>
          <a:xfrm>
            <a:off x="5033880" y="75888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News/ article (from newspaper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magaz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225640" y="3873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8:00Z</dcterms:modified>
  <cp:revision>60</cp:revision>
  <dc:subject/>
  <dc:title>Slide 1</dc:title>
</cp:coreProperties>
</file>