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632-96EC-47F4-BEEF-7ABE695A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9BC-1632-4648-B227-59C755CD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C41-0945-440B-B603-41FFA0FD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CC8-4B95-43C6-9C70-942CDCAB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A49-8ABA-4D3A-A98E-824084D7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4D7-8362-439B-90E4-D8D9893D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F22-D4E0-4A72-A49F-FCD211CB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834-ED6C-4E24-ABC6-0ECB80D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95A-5137-4F55-A3AE-8F9BD806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4C9-E70F-462B-B2D5-FBAFC71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4EE-3204-4AC3-9BF5-506F65E6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FDA-143E-41A8-B1BF-1071153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684D-7E05-4C8C-944B-0680F161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32120"/>
            <a:ext cx="4681440" cy="46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4365720"/>
          <a:ext cx="44067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7650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33880" y="1954080"/>
            <a:ext cx="4681800" cy="46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065560" y="21924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80040" y="438768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33880" y="66326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33880" y="7588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225640" y="387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00Z</dcterms:modified>
  <cp:revision>60</cp:revision>
  <dc:subject/>
  <dc:title>Slide 1</dc:title>
</cp:coreProperties>
</file>