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965-050D-4288-AB39-06272FC3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2F6-43B7-4209-8227-15B928B7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4AF-C89A-4BB9-A469-3FCA3C11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001-4150-4D9F-8D95-B8DFB1CC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60E-A0FD-4193-B6A5-1754EB3D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339-6EA3-41C8-A586-6636A4FE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AF8-235A-42F7-9A63-72A9F72A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3DF0-C087-4408-B13E-EFE45F98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98B-89AC-4829-A973-C914AEAC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3BF-B4B8-4265-B4B5-84E1E6FA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451-2244-40EF-9BF2-E61119F3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CBE-9A03-490F-819F-E7DD46D9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235B-1469-490A-9963-C82D3FCD8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932120"/>
            <a:ext cx="4681440" cy="46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itle of the news/ article: .………..…….……..……..……………………..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of the newspaper/ magazine: ……………………………………….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    Source: 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4.   Type of news/art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politic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weath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eatu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conomic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sci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environment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ntertai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busin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echnology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relig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other 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5.  The news/article is about …………………………………………………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8680" y="4365720"/>
          <a:ext cx="4406760" cy="153648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82520" y="76500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News/ article (from newspaper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magaz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033880" y="1954080"/>
            <a:ext cx="4681800" cy="46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itle of the news/ article: .………..…….……..……..……………………..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of the newspaper/ magazine: ……………………………………….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    Source: 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4.   Type of news/art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politic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weath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eatu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conomic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sci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environment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ntertai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busin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echnology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relig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other 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5.  The news/article is about …………………………………………………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065560" y="21924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180040" y="438768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31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033880" y="66326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50"/>
          <p:cNvSpPr/>
          <p:nvPr/>
        </p:nvSpPr>
        <p:spPr>
          <a:xfrm>
            <a:off x="5033880" y="75888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News/ article (from newspaper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magaz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225640" y="3873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8:00Z</dcterms:modified>
  <cp:revision>60</cp:revision>
  <dc:subject/>
  <dc:title>Slide 1</dc:title>
</cp:coreProperties>
</file>