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2EC4-2CAE-4EFD-8E88-3250220A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AE91-4788-4683-B379-9CEB6D72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EC31-3945-424C-98D2-34D82B98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30D8-7C47-4B74-AB82-6EFDAB89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E3F2-8E82-44D1-8DC5-282D7629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3699-FD4A-4E81-A9BD-A117EC11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E57E-B7E8-4DBF-B5E5-1BBB87BE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DEE6-56B3-443A-B41C-03B4E6090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1012-C4A7-404B-B6A7-7EDA31DF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D7A7-3939-41EC-914B-0D1B96EF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BBC1-6787-4E78-B3A2-188240E9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FFDD-4BFC-4EB9-BE4B-076E2F24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C983-5B75-4C22-BEF7-F5C85223D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2520" y="1932120"/>
            <a:ext cx="4681440" cy="46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itle of the news/ article: .………..…….……..……..……………………..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of the newspaper/ magazine: ……………………………………….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3.    Source: 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4.   Type of news/arti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politic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weath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featu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cr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conomics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scien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environment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ntertai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busines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echnology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religion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other 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5.  The news/article is about …………………………………………………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…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8680" y="4365720"/>
          <a:ext cx="4406760" cy="1536480"/>
        </p:xfrm>
        <a:graphic>
          <a:graphicData uri="http://schemas.openxmlformats.org/drawingml/2006/table">
            <a:tbl>
              <a:tblPr/>
              <a:tblGrid>
                <a:gridCol w="1274760"/>
                <a:gridCol w="3132000"/>
              </a:tblGrid>
              <a:tr h="26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50"/>
          <p:cNvSpPr/>
          <p:nvPr/>
        </p:nvSpPr>
        <p:spPr>
          <a:xfrm>
            <a:off x="182520" y="765000"/>
            <a:ext cx="4699080" cy="10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News/ article (from newspaper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magaz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033880" y="1954080"/>
            <a:ext cx="4681800" cy="46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itle of the news/ article: .………..…….……..……..……………………..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of the newspaper/ magazine: ……………………………………….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3.    Source: 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4.   Type of news/arti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politic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weath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featu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cr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conomics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scien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environment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ntertai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busines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echnology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religion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other 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5.  The news/article is about …………………………………………………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…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6"/>
          <p:cNvSpPr/>
          <p:nvPr/>
        </p:nvSpPr>
        <p:spPr>
          <a:xfrm>
            <a:off x="5065560" y="21924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180040" y="4387680"/>
          <a:ext cx="4406760" cy="1536840"/>
        </p:xfrm>
        <a:graphic>
          <a:graphicData uri="http://schemas.openxmlformats.org/drawingml/2006/table">
            <a:tbl>
              <a:tblPr/>
              <a:tblGrid>
                <a:gridCol w="1274760"/>
                <a:gridCol w="3132000"/>
              </a:tblGrid>
              <a:tr h="31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840"/>
          <p:cNvSpPr/>
          <p:nvPr/>
        </p:nvSpPr>
        <p:spPr>
          <a:xfrm>
            <a:off x="5033880" y="663264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50"/>
          <p:cNvSpPr/>
          <p:nvPr/>
        </p:nvSpPr>
        <p:spPr>
          <a:xfrm>
            <a:off x="5033880" y="758880"/>
            <a:ext cx="4699080" cy="10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News/ article (from newspaper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magaz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8225640" y="38736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8:00Z</dcterms:modified>
  <cp:revision>60</cp:revision>
  <dc:subject/>
  <dc:title>Slide 1</dc:title>
</cp:coreProperties>
</file>