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690C-181C-409D-9381-AD6B4BD1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941-6513-4EAD-9A91-B6B81DAF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A43-2231-4890-BED4-248D3CE2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F1F-04CA-45C7-80CD-0A346B80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76A-441B-4A48-A2BB-45C71EA3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33BA-389D-421E-915F-0BE69C06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F7F8-35DD-4DE1-AD68-ED6E24BA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5E3-F45B-4D23-8299-FDD69A6B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155-23A8-426D-9EC9-7378796A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70E-282A-4220-B7DB-47956AA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EFF-6892-464F-B525-5333BB0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39C-E225-4602-820E-973CB96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51B1-6F62-4B07-9203-3CD46E564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160" y="157752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1280" y="407664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50"/>
          <p:cNvSpPr/>
          <p:nvPr/>
        </p:nvSpPr>
        <p:spPr>
          <a:xfrm>
            <a:off x="182520" y="80496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119560" y="1574640"/>
            <a:ext cx="4699080" cy="50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movie …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of mov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istorical     [  ]  love story    [  ] adventure  [  ] dete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religion       [  ]  comedy       [  ] tragedy      [  ] musi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horror         [  ]   crime         [  ] action        [  ] sci-f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he main characters are ……………………………….………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movie is about .……………………………………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 like / dislike about the movi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22800" y="20304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8320" y="4073400"/>
          <a:ext cx="4408560" cy="1292400"/>
        </p:xfrm>
        <a:graphic>
          <a:graphicData uri="http://schemas.openxmlformats.org/drawingml/2006/table">
            <a:tbl>
              <a:tblPr/>
              <a:tblGrid>
                <a:gridCol w="1274760"/>
                <a:gridCol w="3133800"/>
              </a:tblGrid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119560" y="660708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311320" y="3618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50"/>
          <p:cNvSpPr/>
          <p:nvPr/>
        </p:nvSpPr>
        <p:spPr>
          <a:xfrm>
            <a:off x="5119560" y="801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7:11Z</dcterms:modified>
  <cp:revision>59</cp:revision>
  <dc:subject/>
  <dc:title>Slide 1</dc:title>
</cp:coreProperties>
</file>