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9871075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F1C4-6C24-4A70-98A1-7ABFAAFC0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DE01-26A6-4831-851E-8A1485B4A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4F23-FC18-4E9B-9FA8-94A3A5640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B9EC-1DC6-4575-A974-1F6B7CC44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7D2C-8480-4DB6-B0BC-E5BFFBC1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556B-7540-4587-9825-0B03A7EA1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4236-DE0E-48C6-A215-270C211A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3648-E6E6-4E98-8706-CB398E846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90CC-71AC-4D3D-8BFB-7EFE8E66C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D1FE-13A3-439E-AB52-28CA41CA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77F4-5650-4BDC-8FA3-7778931D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523B-9A91-43DA-9942-465D5843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76759-DD90-4436-8341-87530B18A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82160" y="1577520"/>
            <a:ext cx="4699080" cy="5032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Title of the movie ………………………………………………………………………………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of movi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] historical     [  ]  love story    [  ] adventure  [  ] det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] religion       [  ]  comedy       [  ] tragedy      [  ] music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] horror         [  ]   crime         [  ] action        [  ] sci-f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 ……………………………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3.  The main characters are ……………………………….………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……………………………………………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……………………....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4.  The movie is about .……………………………………………………………………………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5. New words I have lear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6.  Interesting sentences/ expressions I have learnt 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7.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 like / dislike about the movi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16"/>
          <p:cNvSpPr/>
          <p:nvPr/>
        </p:nvSpPr>
        <p:spPr>
          <a:xfrm>
            <a:off x="185760" y="206280"/>
            <a:ext cx="180648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selling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K    M   U    T    T        S    A    L   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1280" y="4076640"/>
          <a:ext cx="4408560" cy="1292400"/>
        </p:xfrm>
        <a:graphic>
          <a:graphicData uri="http://schemas.openxmlformats.org/drawingml/2006/table">
            <a:tbl>
              <a:tblPr/>
              <a:tblGrid>
                <a:gridCol w="1274760"/>
                <a:gridCol w="3133800"/>
              </a:tblGrid>
              <a:tr h="264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rt of Speech (e.g. n., v.) &amp;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a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Text Box 840"/>
          <p:cNvSpPr/>
          <p:nvPr/>
        </p:nvSpPr>
        <p:spPr>
          <a:xfrm>
            <a:off x="182520" y="6610320"/>
            <a:ext cx="4121280" cy="2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Created 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uly, 2009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by SALC counselor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updated  Dec, 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3374280" y="365040"/>
            <a:ext cx="16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Workshee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50"/>
          <p:cNvSpPr/>
          <p:nvPr/>
        </p:nvSpPr>
        <p:spPr>
          <a:xfrm>
            <a:off x="182520" y="804960"/>
            <a:ext cx="4699080" cy="75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 marL="533520" indent="-533520">
              <a:spcBef>
                <a:spcPts val="4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pic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ame ……………………..……… Surname…………......................  Date 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[ ] Student   Group ….   Id.no. ………………… [ ] Staff   Dept.…….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5119560" y="1574640"/>
            <a:ext cx="4699080" cy="5032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Title of the movie ………………………………………………………………………………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of movi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] historical     [  ]  love story    [  ] adventure  [  ] det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] religion       [  ]  comedy       [  ] tragedy      [  ] music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] horror         [  ]   crime         [  ] action        [  ] sci-f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 ……………………………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3.  The main characters are ……………………………….………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……………………………………………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……………………....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4.  The movie is about .……………………………………………………………………………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5. New words I have lear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6.  Interesting sentences/ expressions I have learnt 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7.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 like / dislike about the movi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16"/>
          <p:cNvSpPr/>
          <p:nvPr/>
        </p:nvSpPr>
        <p:spPr>
          <a:xfrm>
            <a:off x="5122800" y="203040"/>
            <a:ext cx="180648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selling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K    M   U    T    T        S    A    L   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278320" y="4073400"/>
          <a:ext cx="4408560" cy="1292400"/>
        </p:xfrm>
        <a:graphic>
          <a:graphicData uri="http://schemas.openxmlformats.org/drawingml/2006/table">
            <a:tbl>
              <a:tblPr/>
              <a:tblGrid>
                <a:gridCol w="1274760"/>
                <a:gridCol w="3133800"/>
              </a:tblGrid>
              <a:tr h="314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rt of Speech (e.g. n., v.) &amp;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a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Text Box 840"/>
          <p:cNvSpPr/>
          <p:nvPr/>
        </p:nvSpPr>
        <p:spPr>
          <a:xfrm>
            <a:off x="5119560" y="6607080"/>
            <a:ext cx="4121280" cy="2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Created 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uly, 2009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by SALC counselor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updated  Dec, 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8311320" y="361800"/>
            <a:ext cx="16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Workshee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50"/>
          <p:cNvSpPr/>
          <p:nvPr/>
        </p:nvSpPr>
        <p:spPr>
          <a:xfrm>
            <a:off x="5119560" y="801720"/>
            <a:ext cx="4699080" cy="75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 marL="533520" indent="-533520">
              <a:spcBef>
                <a:spcPts val="4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pic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ame ……………………..……… Surname…………......................  Date 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[ ] Student   Group ….   Id.no. ………………… [ ] Staff   Dept.…….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5T14:55:43Z</dcterms:created>
  <dc:creator>sKzXP</dc:creator>
  <dc:description/>
  <dc:language>en-US</dc:language>
  <cp:lastModifiedBy>user</cp:lastModifiedBy>
  <cp:lastPrinted>2013-12-19T04:36:04Z</cp:lastPrinted>
  <dcterms:modified xsi:type="dcterms:W3CDTF">2014-01-03T07:17:11Z</dcterms:modified>
  <cp:revision>59</cp:revision>
  <dc:subject/>
  <dc:title>Slide 1</dc:title>
</cp:coreProperties>
</file>