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75DF-FBBF-422E-8174-F1B59039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953A-0EE5-48FD-B795-79B5E3C4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1E75-6818-432C-9514-0936483E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140-15B1-4F8A-9484-7BDA86B4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EC5-D1CE-4DD3-8556-4BCFC5BE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876-B590-4EDC-8206-913EFE6B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3A3-1FC1-40A5-B413-FE80EFC9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2C1-63F9-4392-9489-A7A6FBEF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0B2-D44B-4FDD-89D6-D57C922F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777D-1F89-4002-8C47-045591C0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BD79-60AF-4C17-838B-F680E73D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FC1-ACDD-4317-B298-1AABE269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3F7F-8DD5-4A9E-92B0-455CF1FAA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160" y="1577520"/>
            <a:ext cx="4699080" cy="503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movie 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of mov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istorical     [  ]  love story    [  ] adventure  [  ] det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religion       [  ]  comedy       [  ] tragedy      [  ] musi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orror         [  ]   crime         [  ] action        [  ] sci-f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movie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movi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185760" y="20628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1280" y="4076640"/>
          <a:ext cx="4408560" cy="129240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50"/>
          <p:cNvSpPr/>
          <p:nvPr/>
        </p:nvSpPr>
        <p:spPr>
          <a:xfrm>
            <a:off x="182520" y="80496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119560" y="1574640"/>
            <a:ext cx="4699080" cy="503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movie 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of mov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istorical     [  ]  love story    [  ] adventure  [  ] det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religion       [  ]  comedy       [  ] tragedy      [  ] musi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orror         [  ]   crime         [  ] action        [  ] sci-f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movie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movi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122800" y="20304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78320" y="4073400"/>
          <a:ext cx="4408560" cy="129240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119560" y="660708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8311320" y="36180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50"/>
          <p:cNvSpPr/>
          <p:nvPr/>
        </p:nvSpPr>
        <p:spPr>
          <a:xfrm>
            <a:off x="5119560" y="80172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7:11Z</dcterms:modified>
  <cp:revision>59</cp:revision>
  <dc:subject/>
  <dc:title>Slide 1</dc:title>
</cp:coreProperties>
</file>