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9871075" cy="6742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A647-9EE2-4671-9F97-C4C34F6A5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16F2-17FC-43B9-A4FB-2B4249B1B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255F-C014-4142-9F61-975C06322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AF57-4810-4614-97CE-88C6DEC8D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6B68-5658-4B23-BCEE-AEAFB5EB7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64AF-C500-4F13-844E-015F4E6B2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C015-8035-40F5-8F48-B798F983C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A1F8-D621-4D62-9303-DA3D71511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187F-788D-4A16-B894-A6EC7568C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F121-2F48-4C3E-B4E2-9624682FD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1A7D-3BD2-4C9A-9F8D-22BBC2ABB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2C07-2DD0-41B3-8199-8ABAE234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9935E-6959-49E7-AB79-B508ED585A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82160" y="1577520"/>
            <a:ext cx="4699080" cy="5032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Title of the movie ………………………………………………………………………………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of movi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[  ] historical     [  ]  love story    [  ] adventure  [  ] dete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[  ] religion       [  ]  comedy       [  ] tragedy      [  ] musica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[  ] horror         [  ]   crime         [  ] action        [  ] sci-f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 ……………………………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3.  The main characters are ……………………………….………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……………………………………………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……………………....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4.  The movie is about .……………………………………………………………………………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5. New words I have lear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6.  Interesting sentences/ expressions I have learnt 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7.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I like / dislike about the movi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216"/>
          <p:cNvSpPr/>
          <p:nvPr/>
        </p:nvSpPr>
        <p:spPr>
          <a:xfrm>
            <a:off x="185760" y="206280"/>
            <a:ext cx="180648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selling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K    M   U    T    T        S    A    L   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1280" y="4076640"/>
          <a:ext cx="4408560" cy="1292400"/>
        </p:xfrm>
        <a:graphic>
          <a:graphicData uri="http://schemas.openxmlformats.org/drawingml/2006/table">
            <a:tbl>
              <a:tblPr/>
              <a:tblGrid>
                <a:gridCol w="1274760"/>
                <a:gridCol w="3133800"/>
              </a:tblGrid>
              <a:tr h="264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art of Speech (e.g. n., v.) &amp;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an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Text Box 840"/>
          <p:cNvSpPr/>
          <p:nvPr/>
        </p:nvSpPr>
        <p:spPr>
          <a:xfrm>
            <a:off x="182520" y="6610320"/>
            <a:ext cx="4121280" cy="2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Created 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uly, 2009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by SALC counselor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: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updated  Dec, 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3374280" y="365040"/>
            <a:ext cx="162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Workshee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50"/>
          <p:cNvSpPr/>
          <p:nvPr/>
        </p:nvSpPr>
        <p:spPr>
          <a:xfrm>
            <a:off x="182520" y="804960"/>
            <a:ext cx="4699080" cy="75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t">
            <a:spAutoFit/>
          </a:bodyPr>
          <a:p>
            <a:pPr marL="533520" indent="-533520">
              <a:spcBef>
                <a:spcPts val="451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pic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Name ……………………..……… Surname…………......................  Date 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[ ] Student   Group ….   Id.no. ………………… [ ] Staff   Dept.…….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5119560" y="1574640"/>
            <a:ext cx="4699080" cy="5032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Title of the movie ………………………………………………………………………………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of movi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[  ] historical     [  ]  love story    [  ] adventure  [  ] dete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[  ] religion       [  ]  comedy       [  ] tragedy      [  ] musica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[  ] horror         [  ]   crime         [  ] action        [  ] sci-f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 ……………………………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3.  The main characters are ……………………………….………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……………………………………………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……………………....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4.  The movie is about .……………………………………………………………………………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5. New words I have lear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6.  Interesting sentences/ expressions I have learnt 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7.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I like / dislike about the movi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216"/>
          <p:cNvSpPr/>
          <p:nvPr/>
        </p:nvSpPr>
        <p:spPr>
          <a:xfrm>
            <a:off x="5122800" y="203040"/>
            <a:ext cx="180648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selling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K    M   U    T    T        S    A    L   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5278320" y="4073400"/>
          <a:ext cx="4408560" cy="1292400"/>
        </p:xfrm>
        <a:graphic>
          <a:graphicData uri="http://schemas.openxmlformats.org/drawingml/2006/table">
            <a:tbl>
              <a:tblPr/>
              <a:tblGrid>
                <a:gridCol w="1274760"/>
                <a:gridCol w="3133800"/>
              </a:tblGrid>
              <a:tr h="314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art of Speech (e.g. n., v.) &amp;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an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Text Box 840"/>
          <p:cNvSpPr/>
          <p:nvPr/>
        </p:nvSpPr>
        <p:spPr>
          <a:xfrm>
            <a:off x="5119560" y="6607080"/>
            <a:ext cx="4121280" cy="2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Created 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uly, 2009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by SALC counselor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: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updated  Dec, 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8311320" y="361800"/>
            <a:ext cx="162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Workshee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50"/>
          <p:cNvSpPr/>
          <p:nvPr/>
        </p:nvSpPr>
        <p:spPr>
          <a:xfrm>
            <a:off x="5119560" y="801720"/>
            <a:ext cx="4699080" cy="75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t">
            <a:spAutoFit/>
          </a:bodyPr>
          <a:p>
            <a:pPr marL="533520" indent="-533520">
              <a:spcBef>
                <a:spcPts val="451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pic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Name ……………………..……… Surname…………......................  Date 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[ ] Student   Group ….   Id.no. ………………… [ ] Staff   Dept.…….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5T14:55:43Z</dcterms:created>
  <dc:creator>sKzXP</dc:creator>
  <dc:description/>
  <dc:language>en-US</dc:language>
  <cp:lastModifiedBy>user</cp:lastModifiedBy>
  <cp:lastPrinted>2013-12-19T04:36:04Z</cp:lastPrinted>
  <dcterms:modified xsi:type="dcterms:W3CDTF">2014-01-03T07:17:11Z</dcterms:modified>
  <cp:revision>59</cp:revision>
  <dc:subject/>
  <dc:title>Slide 1</dc:title>
</cp:coreProperties>
</file>