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E5E7-3F5C-41D6-843C-C7358DD80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3204-C4BF-4BBA-8F9A-BB64915C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732F-B2EF-4083-8FC4-EF7FEEC22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81D8-A913-46FD-A2E7-16B4478B1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4931-B44D-426C-8523-A4E1A07B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976F-ADE4-429D-B237-1D382572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AA75-38E5-4824-8E79-7B86076F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1A28-97C5-4B09-8FB9-E9F67048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F7A0-8264-4830-9C44-335AD20F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100A-59B5-495E-912C-E8BEF1C6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7983-4F2D-4832-9F60-E5A96CEB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D399-B68F-4018-AF1C-BD71A383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936D-B7DD-45D5-B936-E51E53307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82160" y="1577520"/>
            <a:ext cx="4699080" cy="5032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itle of the movie …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of mov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historical     [  ]  love story    [  ] adventure  [  ] det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religion       [  ]  comedy       [  ] tragedy      [  ] music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horror         [  ]   crime         [  ] action        [  ] sci-f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The main characters are ……………………………….………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The movie is about .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 like / dislike about the movi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16"/>
          <p:cNvSpPr/>
          <p:nvPr/>
        </p:nvSpPr>
        <p:spPr>
          <a:xfrm>
            <a:off x="185760" y="206280"/>
            <a:ext cx="18064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1280" y="4076640"/>
          <a:ext cx="4408560" cy="1292400"/>
        </p:xfrm>
        <a:graphic>
          <a:graphicData uri="http://schemas.openxmlformats.org/drawingml/2006/table">
            <a:tbl>
              <a:tblPr/>
              <a:tblGrid>
                <a:gridCol w="1274760"/>
                <a:gridCol w="3133800"/>
              </a:tblGrid>
              <a:tr h="26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840"/>
          <p:cNvSpPr/>
          <p:nvPr/>
        </p:nvSpPr>
        <p:spPr>
          <a:xfrm>
            <a:off x="182520" y="661032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374280" y="36504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50"/>
          <p:cNvSpPr/>
          <p:nvPr/>
        </p:nvSpPr>
        <p:spPr>
          <a:xfrm>
            <a:off x="182520" y="80496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5119560" y="1574640"/>
            <a:ext cx="4699080" cy="5032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itle of the movie …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of mov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historical     [  ]  love story    [  ] adventure  [  ] det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religion       [  ]  comedy       [  ] tragedy      [  ] music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horror         [  ]   crime         [  ] action        [  ] sci-f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The main characters are ……………………………….………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The movie is about .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 like / dislike about the movi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16"/>
          <p:cNvSpPr/>
          <p:nvPr/>
        </p:nvSpPr>
        <p:spPr>
          <a:xfrm>
            <a:off x="5122800" y="203040"/>
            <a:ext cx="18064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278320" y="4073400"/>
          <a:ext cx="4408560" cy="1292400"/>
        </p:xfrm>
        <a:graphic>
          <a:graphicData uri="http://schemas.openxmlformats.org/drawingml/2006/table">
            <a:tbl>
              <a:tblPr/>
              <a:tblGrid>
                <a:gridCol w="1274760"/>
                <a:gridCol w="3133800"/>
              </a:tblGrid>
              <a:tr h="314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 Box 840"/>
          <p:cNvSpPr/>
          <p:nvPr/>
        </p:nvSpPr>
        <p:spPr>
          <a:xfrm>
            <a:off x="5119560" y="660708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8311320" y="36180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50"/>
          <p:cNvSpPr/>
          <p:nvPr/>
        </p:nvSpPr>
        <p:spPr>
          <a:xfrm>
            <a:off x="5119560" y="80172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cp:lastPrinted>2013-12-19T04:36:04Z</cp:lastPrinted>
  <dcterms:modified xsi:type="dcterms:W3CDTF">2014-01-03T07:17:11Z</dcterms:modified>
  <cp:revision>59</cp:revision>
  <dc:subject/>
  <dc:title>Slide 1</dc:title>
</cp:coreProperties>
</file>