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027-4D3B-405A-9088-5FAE529F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332-15E4-4A6A-960A-C38018A1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97B-96FA-4674-85D4-1450D54B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002-6FC5-4E60-96F7-D694DF89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1C7B-DEB9-45D0-AFD9-CBB82208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776-7FBD-4236-AF7C-2DE5A8A8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63B-D21A-457F-8E51-0FE3B909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108-2481-4CDC-AA4B-F3D0F099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967-B09E-4A37-8623-DB50F52B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789-A58A-44E6-8F2C-1A03363D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139-A933-4F91-ABB0-7C0BC33E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591-384D-4067-A81E-315B9DE7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605F-330B-4A78-8E98-5DD108EB2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3160" y="16999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492720" y="2970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344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91120" y="1701720"/>
            <a:ext cx="46814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opic of the talk: ………………………………………………………………………………….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Guest speaker: ……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Summary of the talk: ……………………………….………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..……………………..... .…………………………………………… ………………………………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 Interesting points I have gained from the talk (e.g. new learning strategy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cultural or world knowledge)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What I like about the tal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…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next topic/ theme: ………………………………………………………………………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interesting speakers: 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 ] others: 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132520" y="22716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100480" y="66308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8410680" y="31752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81760" y="853920"/>
            <a:ext cx="469872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Invited 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5:41Z</dcterms:modified>
  <cp:revision>61</cp:revision>
  <dc:subject/>
  <dc:title>Slide 1</dc:title>
</cp:coreProperties>
</file>