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6C4-40CA-45C6-888E-2EFD1F13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767-A5B8-4D64-B147-1732F94F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E4E-2EB5-4B72-8DCF-237DB19E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E10-8A6C-43BB-B983-665EC5C2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57D-8A81-4918-AD39-B7B6EE9E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BF1-35BB-4D85-87A9-A1994EE9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11B-2C16-4E20-9841-5C937752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85D-97B2-456B-823C-46C3D024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E39-4595-49F8-B82D-EEA47B1B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082-F80D-4336-AE1F-5666527D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1C9-B48E-47B0-84FC-CB6290AA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8C9-72F7-4A44-8512-5984FD63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14C5-2489-4035-8221-84845566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160" y="16999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492720" y="2970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344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91120" y="17017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32520" y="22716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100480" y="66308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8410680" y="31752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81760" y="853920"/>
            <a:ext cx="469872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5:41Z</dcterms:modified>
  <cp:revision>61</cp:revision>
  <dc:subject/>
  <dc:title>Slide 1</dc:title>
</cp:coreProperties>
</file>