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2BB3-E253-40B5-A148-0A2DD52C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A85-E42A-45CD-8E96-8145E4A9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B4C-6369-4E15-8737-70889E8B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D47-97E7-4277-AAF2-A970A863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2804-5656-45AA-B6A8-51E7AC72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91B-873E-408C-BDDA-425F5B15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6809-D421-4F92-8606-33AD3EAC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D12-13BA-4469-9C9F-5C4D0BE3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E0ED-C97B-464E-8FA8-A1DBB667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954-C4AD-450F-9FD2-35BF6EA6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E93-5C4F-4308-BFFB-388DBF2D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004-EFC1-48C7-9914-44B6C832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2FA2-CF49-4A49-8955-3009EE552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3160" y="1699920"/>
            <a:ext cx="4681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pic of the talk: ………………………………………………………………………………….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Guest speaker: 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Summary of the talk: ……………………………….………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..……………………..... .…………………………………………… ………………………………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 Interesting points I have gained from the talk (e.g. new learning strateg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ultural or world knowledge)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What I like about the tal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next topic/ theme: ……………………………………………………………………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interesting speakers: 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others: 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492720" y="29700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6344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Invited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91120" y="1701720"/>
            <a:ext cx="4681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pic of the talk: ………………………………………………………………………………….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Guest speaker: 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Summary of the talk: ……………………………….………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..……………………..... .…………………………………………… ………………………………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 Interesting points I have gained from the talk (e.g. new learning strateg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ultural or world knowledge)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What I like about the tal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next topic/ theme: ……………………………………………………………………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interesting speakers: 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others: 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132520" y="22716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40"/>
          <p:cNvSpPr/>
          <p:nvPr/>
        </p:nvSpPr>
        <p:spPr>
          <a:xfrm>
            <a:off x="5100480" y="66308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8410680" y="31752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50"/>
          <p:cNvSpPr/>
          <p:nvPr/>
        </p:nvSpPr>
        <p:spPr>
          <a:xfrm>
            <a:off x="5081760" y="853920"/>
            <a:ext cx="469872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Invited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5:41Z</dcterms:modified>
  <cp:revision>61</cp:revision>
  <dc:subject/>
  <dc:title>Slide 1</dc:title>
</cp:coreProperties>
</file>