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9ED-AFC0-486C-BF7F-32ED4D15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4F8-99B1-42E0-AD63-295478B3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73B2-3B65-4BE9-AD58-5BDBC139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D8B1-50FE-4B00-AE40-8EF9F6AB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309-E00E-4F0E-AAB3-9FAD68BD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282D-47FD-43EC-B91C-5D46FE38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E41-F2D7-469F-A4FC-78D72BC3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8192-6C72-43F8-B7ED-58CEFE6B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1A3-03DD-430F-B9EF-077952C8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EC6-C305-48CE-BC6D-80049259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CCB-3198-429F-9AC8-5CFC2D12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99A-4974-4DA1-957B-7DE8A791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20C2-462F-4E4D-BED1-1A1D92D49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3160" y="1699920"/>
            <a:ext cx="4681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pic of the talk: ………………………………………………………………………………….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Guest speaker: 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Summary of the talk: ……………………………….………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..……………………..... .…………………………………………… ………………………………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 Interesting points I have gained from the talk (e.g. new learning strateg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ultural or world knowledge)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What I like about the tal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next topic/ theme: ………………………………………………………………………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interesting speakers: 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others: 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492720" y="29700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63440" y="85248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Invited 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091120" y="1701720"/>
            <a:ext cx="4681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pic of the talk: ………………………………………………………………………………….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Guest speaker: 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Summary of the talk: ……………………………….………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..……………………..... .…………………………………………… ………………………………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 Interesting points I have gained from the talk (e.g. new learning strateg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ultural or world knowledge)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What I like about the tal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next topic/ theme: ………………………………………………………………………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interesting speakers: 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others: 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6"/>
          <p:cNvSpPr/>
          <p:nvPr/>
        </p:nvSpPr>
        <p:spPr>
          <a:xfrm>
            <a:off x="5132520" y="22716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40"/>
          <p:cNvSpPr/>
          <p:nvPr/>
        </p:nvSpPr>
        <p:spPr>
          <a:xfrm>
            <a:off x="5100480" y="663084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8410680" y="31752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50"/>
          <p:cNvSpPr/>
          <p:nvPr/>
        </p:nvSpPr>
        <p:spPr>
          <a:xfrm>
            <a:off x="5081760" y="853920"/>
            <a:ext cx="469872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Invited 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5:41Z</dcterms:modified>
  <cp:revision>61</cp:revision>
  <dc:subject/>
  <dc:title>Slide 1</dc:title>
</cp:coreProperties>
</file>