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BFE-F81D-4115-805F-8F1FD4AA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C02-E8CD-448C-A1AF-1AE26ED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DBA6-76DA-4A72-B8E3-63E0834B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66C-F444-45C8-8759-79B46CC0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F20-2DAD-499B-80C2-11065A43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13A-43B8-40AA-BF5D-2C8A9DF9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B89F-A1C1-45A9-A3FE-22E7B3E3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FD7-77D2-4B2B-BF22-FB0CCA07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044-E66A-4E8F-9C4A-4CE6485C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D3C-6893-4126-8BFB-E09FC50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4AE-F3AB-41BF-B050-69081FCA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594-B403-4E19-B30D-022998EC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494D-723F-4EEE-B90D-2CFFFE62D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160" y="16999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492720" y="2970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344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91120" y="17017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32520" y="22716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100480" y="66308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410680" y="31752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81760" y="853920"/>
            <a:ext cx="469872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5:41Z</dcterms:modified>
  <cp:revision>61</cp:revision>
  <dc:subject/>
  <dc:title>Slide 1</dc:title>
</cp:coreProperties>
</file>