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F4E-BB5A-4563-A1F5-050588F5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994-E3D8-46AA-8296-7595EC24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512A-0AA1-4656-ACE0-F155A641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835-9A7F-4450-9348-EA36C9E9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F31-196C-41DA-8FDE-F96C674F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0B3-1532-4A43-BB11-5425C5FD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A66B-03AA-4270-B5BC-DC87E050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DE3-887E-4773-BA89-B7FB863D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067-2383-4DF7-8E0E-9E7B6862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89D-A984-4D48-B8EE-8303F879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A2F-320B-4875-A0C5-DDB589BA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293-F6BB-40CB-AF40-704853F6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D083-12CD-4AF8-8F50-ED98CBCA8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00160" y="2060280"/>
            <a:ext cx="4681440" cy="44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aterial title: 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ode: ……………………/ source 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ocus skill/ strategy/ topic: …………………………..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What I leaned from this material in terms of content and language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ow well did I do the task/ How well did I comprehend the boo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y main difficulty was  ..……………………………….………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6.    My solution was  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50"/>
          <p:cNvSpPr/>
          <p:nvPr/>
        </p:nvSpPr>
        <p:spPr>
          <a:xfrm>
            <a:off x="182520" y="85248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Topic: In-house materials/ publish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   materials/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138640" y="2055960"/>
            <a:ext cx="4681800" cy="44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aterial title: 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ode: ……………………/ source 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ocus skill/ strategy/ topic: …………………………..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What I leaned from this material in terms of content and language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ow well did I do the task/ How well did I comprehend the boo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My main difficulty was  ..……………………………….………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6.    My solution was  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 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………....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6"/>
          <p:cNvSpPr/>
          <p:nvPr/>
        </p:nvSpPr>
        <p:spPr>
          <a:xfrm>
            <a:off x="5153040" y="20160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50"/>
          <p:cNvSpPr/>
          <p:nvPr/>
        </p:nvSpPr>
        <p:spPr>
          <a:xfrm>
            <a:off x="5121360" y="84780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Topic: In-house materials/ publishe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oudy"/>
              </a:rPr>
              <a:t>   materials/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40"/>
          <p:cNvSpPr/>
          <p:nvPr/>
        </p:nvSpPr>
        <p:spPr>
          <a:xfrm>
            <a:off x="5121360" y="6605640"/>
            <a:ext cx="412092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8313120" y="36036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27T05:46:59Z</dcterms:modified>
  <cp:revision>64</cp:revision>
  <dc:subject/>
  <dc:title>Slide 1</dc:title>
</cp:coreProperties>
</file>