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65F-9E02-46AB-95FD-09905C6E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496-15A6-4932-8C2A-E645DD9B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36E-F061-4AEB-96FC-7C6C2DA7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7E8-D58E-47CB-A32E-69E67581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0DF-2197-4608-9CC2-AF63D5A9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58C-6A04-43EE-85DD-2FA45D7B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7B38-741B-4013-9187-251716CF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D8B-A038-4D08-A789-474DFC5B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B92-0035-4380-A966-97799AC3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F94-8155-40B1-BB57-94099A3D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9F6-E158-4A95-AC75-DD07EEA0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ABD-C176-4404-A20F-FEB94091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7BF7-73F7-42FF-89D1-F0E53DD61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0160" y="2060280"/>
            <a:ext cx="4681440" cy="44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aterial title: 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de: ……………………/ source 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ocus skill/ strategy/ topic: …………………………..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hat I leaned from this material in terms of content and language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ow well did I do the task/ How well did I comprehend the boo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y main difficulty was  ..……………………………….………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6.    My solution was  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50"/>
          <p:cNvSpPr/>
          <p:nvPr/>
        </p:nvSpPr>
        <p:spPr>
          <a:xfrm>
            <a:off x="182520" y="85248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Topic: In-house materials/ publish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   materials/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138640" y="2055960"/>
            <a:ext cx="4681800" cy="44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aterial title: 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de: ……………………/ source 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ocus skill/ strategy/ topic: …………………………..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hat I leaned from this material in terms of content and language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ow well did I do the task/ How well did I comprehend the boo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y main difficulty was  ..……………………………….………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6.    My solution was  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153040" y="20160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50"/>
          <p:cNvSpPr/>
          <p:nvPr/>
        </p:nvSpPr>
        <p:spPr>
          <a:xfrm>
            <a:off x="5121360" y="84780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Topic: In-house materials/ publish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   materials/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40"/>
          <p:cNvSpPr/>
          <p:nvPr/>
        </p:nvSpPr>
        <p:spPr>
          <a:xfrm>
            <a:off x="5121360" y="6605640"/>
            <a:ext cx="412092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8313120" y="3603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27T05:46:59Z</dcterms:modified>
  <cp:revision>64</cp:revision>
  <dc:subject/>
  <dc:title>Slide 1</dc:title>
</cp:coreProperties>
</file>