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2E90-BE2B-4121-A47A-BACB7311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2859-D7A9-4877-9EE6-DB5456C6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B6FD-2678-48DB-9A1F-E6D10F64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DECE-776A-4807-A126-E5E7A4252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B14C-D9D8-4063-9AC8-457FB396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55C6-77D2-4794-B8AE-B398D48D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8B9B-5390-42E8-B518-6258005C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6AED-2211-4216-B3C7-1CCA8008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0870-A2C7-4A87-B993-CE4262A6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8D87-5450-48B3-AE1E-10E1C710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652C-9C67-4225-8423-564B08C2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2BE5-9DFB-444D-A681-C430AF5B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688D-D949-4A79-B517-27DD3C629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00160" y="2060280"/>
            <a:ext cx="4681440" cy="44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Material title: 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ode: ……………………/ source 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Focus skill/ strategy/ topic: …………………………..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What I leaned from this material in terms of content and language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ow well did I do the task/ How well did I comprehend the boo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………………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My main difficulty was  ..……………………………….………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6.    My solution was  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214200" y="20628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50"/>
          <p:cNvSpPr/>
          <p:nvPr/>
        </p:nvSpPr>
        <p:spPr>
          <a:xfrm>
            <a:off x="182520" y="852480"/>
            <a:ext cx="4699080" cy="10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oudy"/>
              </a:rPr>
              <a:t>Topic: In-house materials/ publishe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oudy"/>
              </a:rPr>
              <a:t>   materials/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37428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138640" y="2055960"/>
            <a:ext cx="4681800" cy="44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Material title: 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ode: ……………………/ source 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Focus skill/ strategy/ topic: …………………………..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What I leaned from this material in terms of content and language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ow well did I do the task/ How well did I comprehend the boo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………………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My main difficulty was  ..……………………………….………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6.    My solution was  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6"/>
          <p:cNvSpPr/>
          <p:nvPr/>
        </p:nvSpPr>
        <p:spPr>
          <a:xfrm>
            <a:off x="5153040" y="20160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50"/>
          <p:cNvSpPr/>
          <p:nvPr/>
        </p:nvSpPr>
        <p:spPr>
          <a:xfrm>
            <a:off x="5121360" y="847800"/>
            <a:ext cx="4699080" cy="10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oudy"/>
              </a:rPr>
              <a:t>Topic: In-house materials/ publishe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oudy"/>
              </a:rPr>
              <a:t>   materials/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40"/>
          <p:cNvSpPr/>
          <p:nvPr/>
        </p:nvSpPr>
        <p:spPr>
          <a:xfrm>
            <a:off x="5121360" y="6605640"/>
            <a:ext cx="412092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8313120" y="36036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27T05:46:59Z</dcterms:modified>
  <cp:revision>64</cp:revision>
  <dc:subject/>
  <dc:title>Slide 1</dc:title>
</cp:coreProperties>
</file>