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A3C2-2A80-43F0-9A7B-E09A18E0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1A3-9B49-4E51-BEC7-BE131F7F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6565-088D-468A-8C10-A0B9DBAD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FBC5-1EBF-46AA-8D9B-053083E9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0302-D1FB-4893-BA62-CA4D293E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2802-797D-4AD0-895B-F2F4403B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D440-A9BA-443E-B2C3-4BCFE299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956-E1FB-4402-AE4D-604A6F71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19A-7E39-481D-BF7F-FF7C6FCB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931-B10E-4643-915E-7A15407D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39D4-6E22-4A00-8E33-EC216835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D6D5-CFDC-4E32-A39C-6242F50E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23A4-A6B0-4BED-9BC1-03336E5CD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00160" y="2060280"/>
            <a:ext cx="4681440" cy="44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aterial title: 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ode: ……………………/ source 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ocus skill/ strategy/ topic: …………………………..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What I leaned from this material in terms of content and language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ow well did I do the task/ How well did I comprehend the boo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………………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y main difficulty was  ..……………………………….………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6.    My solution was  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50"/>
          <p:cNvSpPr/>
          <p:nvPr/>
        </p:nvSpPr>
        <p:spPr>
          <a:xfrm>
            <a:off x="182520" y="852480"/>
            <a:ext cx="4699080" cy="10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"/>
              </a:rPr>
              <a:t>Topic: In-house materials/ publish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"/>
              </a:rPr>
              <a:t>   materials/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138640" y="2055960"/>
            <a:ext cx="4681800" cy="44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aterial title: 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ode: ……………………/ source 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ocus skill/ strategy/ topic: …………………………..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What I leaned from this material in terms of content and language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ow well did I do the task/ How well did I comprehend the boo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………………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y main difficulty was  ..……………………………….………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6.    My solution was  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6"/>
          <p:cNvSpPr/>
          <p:nvPr/>
        </p:nvSpPr>
        <p:spPr>
          <a:xfrm>
            <a:off x="5153040" y="20160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50"/>
          <p:cNvSpPr/>
          <p:nvPr/>
        </p:nvSpPr>
        <p:spPr>
          <a:xfrm>
            <a:off x="5121360" y="847800"/>
            <a:ext cx="4699080" cy="10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"/>
              </a:rPr>
              <a:t>Topic: In-house materials/ publish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"/>
              </a:rPr>
              <a:t>   materials/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40"/>
          <p:cNvSpPr/>
          <p:nvPr/>
        </p:nvSpPr>
        <p:spPr>
          <a:xfrm>
            <a:off x="5121360" y="6605640"/>
            <a:ext cx="412092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8313120" y="36036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27T05:46:59Z</dcterms:modified>
  <cp:revision>64</cp:revision>
  <dc:subject/>
  <dc:title>Slide 1</dc:title>
</cp:coreProperties>
</file>