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9871075" cy="6742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AF68-7EE8-4293-AE32-9AAB56FB5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ABF1-4812-4BFA-BF19-582F73900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9C9F-CFB3-46C2-9152-C161B99C4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E12C-BF42-4E40-AC68-A67D63858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3147-4B45-46A6-B2B9-199973778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E4C2-B575-4BC9-8D59-A2633AC7E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97C4-FFB8-4C60-826E-8B00B0090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1948-992C-4806-AC81-BEBDBA608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DBEA-4C26-4AA3-8290-D025BF662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9A07-0A18-4249-B91D-991D49B4C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4B96-EA40-48A8-9787-5BF91702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555D-35D1-4D03-A3D5-10B3DFC1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A974F-BB8E-4419-892D-9DCC968E61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00160" y="2060280"/>
            <a:ext cx="4681440" cy="44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Material title: ………………………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Code: ……………………/ source 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Focus skill/ strategy/ topic: …………………………..……………………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What I leaned from this material in terms of content and language 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……………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.……………………....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How well did I do the task/ How well did I comprehend the book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………………………………………………………………………………………………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…………………………………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My main difficulty was  ..……………………………….………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6.    My solution was  ……………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216"/>
          <p:cNvSpPr/>
          <p:nvPr/>
        </p:nvSpPr>
        <p:spPr>
          <a:xfrm>
            <a:off x="214200" y="206280"/>
            <a:ext cx="180684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selling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K    M   U    T    T        S    A    L   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50"/>
          <p:cNvSpPr/>
          <p:nvPr/>
        </p:nvSpPr>
        <p:spPr>
          <a:xfrm>
            <a:off x="182520" y="852480"/>
            <a:ext cx="4699080" cy="103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 marL="533520" indent="-533520">
              <a:spcBef>
                <a:spcPts val="45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oudy"/>
              </a:rPr>
              <a:t>Topic: In-house materials/ published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oudy"/>
              </a:rPr>
              <a:t>   materials/ boo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Name ……………………..……… Surname…………......................  Date 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[ ] Student   Group ….   Id.no. ………………… [ ] Staff   Dept.…….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40"/>
          <p:cNvSpPr/>
          <p:nvPr/>
        </p:nvSpPr>
        <p:spPr>
          <a:xfrm>
            <a:off x="182520" y="6610320"/>
            <a:ext cx="4121280" cy="2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Created 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uly, 2009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by SALC counselor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updated  Dec, 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3374280" y="365040"/>
            <a:ext cx="16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Generic Workshee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5138640" y="2055960"/>
            <a:ext cx="4681800" cy="44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Material title: ………………………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Code: ……………………/ source 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Focus skill/ strategy/ topic: …………………………..……………………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What I leaned from this material in terms of content and language 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……………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.……………………....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How well did I do the task/ How well did I comprehend the book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………………………………………………………………………………………………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…………………………………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My main difficulty was  ..……………………………….………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6.    My solution was  ……………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216"/>
          <p:cNvSpPr/>
          <p:nvPr/>
        </p:nvSpPr>
        <p:spPr>
          <a:xfrm>
            <a:off x="5153040" y="201600"/>
            <a:ext cx="180648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selling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K    M   U    T    T        S    A    L   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50"/>
          <p:cNvSpPr/>
          <p:nvPr/>
        </p:nvSpPr>
        <p:spPr>
          <a:xfrm>
            <a:off x="5121360" y="847800"/>
            <a:ext cx="4699080" cy="103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 marL="533520" indent="-533520">
              <a:spcBef>
                <a:spcPts val="45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oudy"/>
              </a:rPr>
              <a:t>Topic: In-house materials/ published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oudy"/>
              </a:rPr>
              <a:t>   materials/ boo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Name ……………………..……… Surname…………......................  Date 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[ ] Student   Group ….   Id.no. ………………… [ ] Staff   Dept.…….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40"/>
          <p:cNvSpPr/>
          <p:nvPr/>
        </p:nvSpPr>
        <p:spPr>
          <a:xfrm>
            <a:off x="5121360" y="6605640"/>
            <a:ext cx="4120920" cy="2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Created 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uly, 2009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by SALC counselor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updated  Dec, 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8313120" y="360360"/>
            <a:ext cx="16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Generic Workshee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5T14:55:43Z</dcterms:created>
  <dc:creator>sKzXP</dc:creator>
  <dc:description/>
  <dc:language>en-US</dc:language>
  <cp:lastModifiedBy>user</cp:lastModifiedBy>
  <cp:lastPrinted>2013-12-19T04:36:04Z</cp:lastPrinted>
  <dcterms:modified xsi:type="dcterms:W3CDTF">2014-01-27T05:46:59Z</dcterms:modified>
  <cp:revision>64</cp:revision>
  <dc:subject/>
  <dc:title>Slide 1</dc:title>
</cp:coreProperties>
</file>