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253-D9C9-4ADE-AF82-D7EDAF13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020-A23B-4384-89DB-854EE0FF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B81-FAC4-4FBC-B252-EEAC23AB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3AF-DDEC-4274-BFA8-3E1C76BE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388-BFA3-4AA0-B196-3AF93CBE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048-55EF-497B-AA78-79912FBD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F7D-41F3-45BA-AF2D-DEF0BCFA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CC8-0EF2-49BB-8A39-A451BE17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411-FA2F-4A08-8A33-798C9B48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FB9-74EB-4F21-9947-8E87A4D0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BA6-5F15-4AAA-8A1E-4937B5E6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FEC-719F-4C73-845C-FFBA9D3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F003-2789-48D5-A1DE-2013FF393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2800" y="1700280"/>
            <a:ext cx="47084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33360" y="3645000"/>
          <a:ext cx="44085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697040"/>
            <a:ext cx="4708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32520" y="1936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80120" y="3565440"/>
          <a:ext cx="44085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29280" y="653112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21040" y="2858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6040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08:30Z</dcterms:modified>
  <cp:revision>57</cp:revision>
  <dc:subject/>
  <dc:title>Slide 1</dc:title>
</cp:coreProperties>
</file>