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AB8-CB51-402E-8ED0-875C78F6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5DD-8779-4C08-AA94-340C4853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E9E-92B2-416B-91C5-F6F0A2C0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C3B-EB4B-4850-9A1A-D1C73174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82C-8EFD-43BA-9C37-C9459986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3C9-E0EE-49EE-89DB-CDDE6340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329-87FB-47CB-A781-6C1D3465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4B9-8A5F-4B13-B871-4D60F247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25C1-7BDC-4C9C-AAE8-2ABAA110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59A-1702-4AC0-8578-E060BC06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511-77A5-47F8-A96F-F19540E3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E57-728D-48F9-AB42-91343B7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E6B2-A4B1-4942-BC1A-E9B8E80A4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2800" y="1700280"/>
            <a:ext cx="47084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33360" y="3645000"/>
          <a:ext cx="44085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697040"/>
            <a:ext cx="4708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Title of the Graded reader/short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Level ………….. No. of Pages …………….   No. of Headwords 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book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sto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32520" y="1936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80120" y="3565440"/>
          <a:ext cx="44085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29280" y="653112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21040" y="2858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6040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Graded reader / short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08:30Z</dcterms:modified>
  <cp:revision>57</cp:revision>
  <dc:subject/>
  <dc:title>Slide 1</dc:title>
</cp:coreProperties>
</file>