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633-015D-4A93-9F4B-6D4627F3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C8D-FC0C-4B29-B2A9-B243B71D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B792-7A86-400F-B9BB-E25007DA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DF2-D623-411E-ACED-3C0CDA32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8310-1047-4D8D-8C8A-8FFD40DE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164A-7BD9-4372-A0A7-54B3A73D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815-4D1D-4E5F-924A-F79D371F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D596-C38E-4261-A8E2-505EC839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8A0-6014-42A6-851C-94AB8FE2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E10-A1D0-48E0-8606-DF0F5289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0D0D-E01B-4820-801B-F182FB05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377-02A8-4317-B43B-E72DB71E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E45F-E8BA-4C49-AE0E-2DFBD38B9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2800" y="1700280"/>
            <a:ext cx="47084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Title of the Graded reader/short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Level ………….. No. of Pages …………….   No. of Headwords 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book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33360" y="3645000"/>
          <a:ext cx="4408560" cy="153648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50"/>
          <p:cNvSpPr/>
          <p:nvPr/>
        </p:nvSpPr>
        <p:spPr>
          <a:xfrm>
            <a:off x="182520" y="85248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Graded reader / short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119560" y="1697040"/>
            <a:ext cx="4708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Title of the Graded reader/short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Level ………….. No. of Pages …………….   No. of Headwords 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book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132520" y="19368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80120" y="3565440"/>
          <a:ext cx="44085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316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129280" y="6531120"/>
            <a:ext cx="412092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321040" y="2858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50"/>
          <p:cNvSpPr/>
          <p:nvPr/>
        </p:nvSpPr>
        <p:spPr>
          <a:xfrm>
            <a:off x="5119560" y="86040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Graded reader / short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08:30Z</dcterms:modified>
  <cp:revision>57</cp:revision>
  <dc:subject/>
  <dc:title>Slide 1</dc:title>
</cp:coreProperties>
</file>