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2E7-A4D9-4587-8737-9FC32100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13E-878E-451F-BA62-5228842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300-54E2-4182-A7F5-9616C899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379-0551-4DF6-8E5A-B37EBBFC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7F0-C5FD-4385-A24E-C201BD6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15A-D082-4998-B745-2036039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CB8-E470-4FD6-8B3E-59BD1124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04C-90BF-4562-9960-89F6ACAE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ED8-5133-4787-89C8-6F9EE8C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1F1-BCCA-4475-AADD-E745352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D84-C38F-4DB3-BD58-F5115EC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EFC-602D-4C13-B7F5-B0839F4C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7BCE-D422-4455-8D65-7A53EF824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2800" y="1700280"/>
            <a:ext cx="4708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3360" y="3645000"/>
          <a:ext cx="44085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697040"/>
            <a:ext cx="4708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32520" y="1936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0120" y="3565440"/>
          <a:ext cx="44085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29280" y="653112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21040" y="2858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6040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08:30Z</dcterms:modified>
  <cp:revision>57</cp:revision>
  <dc:subject/>
  <dc:title>Slide 1</dc:title>
</cp:coreProperties>
</file>