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6FC-240C-45E8-A5B8-3BE412FE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F00-F0BB-4978-BA05-617615ED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540-AC4C-4959-BF1B-5B12F276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FA8A-9EB9-4AB8-8B9F-81547A87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085-D51F-4E56-BCB3-1FED7EB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2CA-A000-4E03-8AD7-6CCF7D40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A77-380D-44D7-9CFD-E140B0A9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C03-C025-4166-AB53-78BB8088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E3C-9E0B-4D15-B642-27451238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0727-7290-42CC-8689-47048237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77A-FF82-4169-A71F-9A134F11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22E-758B-41AA-AFB5-6E4B2879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684D-C377-4EDF-9836-28CD1AAA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2800" y="1700280"/>
            <a:ext cx="47084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33360" y="3645000"/>
          <a:ext cx="44085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697040"/>
            <a:ext cx="4708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32520" y="1936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80120" y="3565440"/>
          <a:ext cx="44085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29280" y="653112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21040" y="2858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6040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08:30Z</dcterms:modified>
  <cp:revision>57</cp:revision>
  <dc:subject/>
  <dc:title>Slide 1</dc:title>
</cp:coreProperties>
</file>