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FBC-68B8-41E3-929A-E0CBDFBD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C9B-58B2-4CD2-92BF-0C8F7C8A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3ED-B6FC-4372-B242-4C2D0B9F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234-6EAE-414A-B96A-5CC71C9A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0F7-7477-4D21-A663-FECD1245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BFA-647B-4910-9F38-17DC14D6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E3C-0714-42F1-814F-985BC945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ED6-7BF6-474F-863B-0606C703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498-C0BE-449E-94B2-7D0D51F5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964-C8F4-4B3A-BDE8-0CAB570D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85D-08EB-472C-A17F-656015B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E62-6332-4494-B472-02A76E61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5FD3-8217-40EA-920F-004730800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2800" y="1700280"/>
            <a:ext cx="47084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33360" y="3645000"/>
          <a:ext cx="44085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697040"/>
            <a:ext cx="4708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32520" y="1936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80120" y="3565440"/>
          <a:ext cx="44085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29280" y="653112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21040" y="2858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6040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08:30Z</dcterms:modified>
  <cp:revision>57</cp:revision>
  <dc:subject/>
  <dc:title>Slide 1</dc:title>
</cp:coreProperties>
</file>