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366-47DA-447D-A7AF-82DD517B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CD4-B490-4388-8BD1-550A0C4A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88AA-6E87-4C57-99D9-927A69E3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EC1-066E-4D3C-B4E9-9EC3FB32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1D7-755E-4CE0-90E1-E4DD7BD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F06-E272-407A-95FE-160CA450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58C-F6EA-4726-AFBC-9292D70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EFE-85E9-4214-B8CD-3931C8EE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549-1580-4D85-B2A5-3477D15E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C5C-29F5-48DD-8A0D-DC5449B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131-9ECA-442C-A859-8B993865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CA8-15D0-49A7-97C3-07134C86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EDAF-0D79-4DB0-8025-E11B936A6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6648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reeze   froze   frozen     </a:t>
            </a:r>
            <a:r>
              <a:rPr b="0" lang="th-TH" sz="29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33680" y="522360"/>
            <a:ext cx="4005000" cy="350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465960"/>
            <a:ext cx="340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7116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ive   gave   g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5113440" cy="343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81000" y="6545160"/>
            <a:ext cx="4311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row   grew   grown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2280" y="641520"/>
            <a:ext cx="5429160" cy="331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052640" y="6465960"/>
            <a:ext cx="45655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ang   hung   h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240" y="704880"/>
            <a:ext cx="5378760" cy="3363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341360" y="6676920"/>
            <a:ext cx="4081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ear   heard   hear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54200" y="471600"/>
            <a:ext cx="3913200" cy="347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00280" y="6719760"/>
            <a:ext cx="3336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t   hit   hi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4337280" cy="3533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13000" y="6440400"/>
            <a:ext cx="3833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562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de   hid   hidd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25360" y="631800"/>
            <a:ext cx="4818240" cy="346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341360" y="6465960"/>
            <a:ext cx="381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7592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urt   hurt   hur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00280" y="20016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599160"/>
            <a:ext cx="34401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neel   knelt   kn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00280" y="0"/>
            <a:ext cx="3809880" cy="4016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957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5:31Z</dcterms:modified>
  <cp:revision>55</cp:revision>
  <dc:subject/>
  <dc:title>ภาพนิ่ง 1</dc:title>
</cp:coreProperties>
</file>