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6858000" cy="9907588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4C4E-6534-4F50-ABDB-D15D6D03A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A466-78A7-46E2-A6D0-382F60AFC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21E0-F26B-414E-B698-5D942AAC9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5261-55E9-4411-9693-767A572F6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8C95-7D0D-41EC-858D-13F7001D8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6413-B0D7-44D5-B204-E4C4B38E1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3851-A355-407A-B89E-1C58ECA9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3BA2-9664-4C3E-80E8-3EA80E848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D35A-B5BE-4F53-88CB-429ED4FF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BF99-9ECF-4D7B-9130-D8CD2564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0DED-2715-48D9-8B4D-9795135E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4D06-0B27-4854-9CF7-0644590C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19800"/>
            <a:ext cx="217152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BA5E7-73E4-4FA0-B920-543F3B64E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f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เย็นจนแข็ง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404280" y="509724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66480" y="5673240"/>
            <a:ext cx="6119640" cy="64800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freeze   froze   frozen     </a:t>
            </a:r>
            <a:r>
              <a:rPr b="0" lang="th-TH" sz="29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เย็นจนแข็ง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4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633680" y="522360"/>
            <a:ext cx="4005000" cy="3502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1628640" y="6465960"/>
            <a:ext cx="340848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41360" y="4089240"/>
            <a:ext cx="4319640" cy="649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g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ให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404280" y="509724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371160" y="5673240"/>
            <a:ext cx="6119640" cy="64800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give   gave   given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ให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5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197000" y="488880"/>
            <a:ext cx="5113440" cy="3432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981000" y="6545160"/>
            <a:ext cx="431172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g………..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ปลูกต้นไม้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0800000">
            <a:off x="404280" y="509724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404640" y="5673240"/>
            <a:ext cx="6120000" cy="64800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</a:t>
            </a:r>
            <a:r>
              <a:rPr b="0" lang="en-US" sz="30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grow   grew   grown     </a:t>
            </a:r>
            <a:r>
              <a:rPr b="0" lang="th-TH" sz="30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ปลูกต้นไม้</a:t>
            </a: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6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692280" y="641520"/>
            <a:ext cx="5429160" cy="33145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1052640" y="6465960"/>
            <a:ext cx="4565520" cy="27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h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แขวน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475920" y="509724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404640" y="5673240"/>
            <a:ext cx="6120000" cy="64800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hang   hung   hung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แขว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7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687240" y="704880"/>
            <a:ext cx="5378760" cy="33638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1341360" y="6676920"/>
            <a:ext cx="40816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h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ได้ยิ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04280" y="509724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0800000">
            <a:off x="475920" y="5673240"/>
            <a:ext cx="6119640" cy="64800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hear   heard   heard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ได้ยิ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8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654200" y="471600"/>
            <a:ext cx="3913200" cy="34750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1700280" y="6719760"/>
            <a:ext cx="333684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341360" y="4089240"/>
            <a:ext cx="4319640" cy="649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h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ต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0800000">
            <a:off x="404280" y="509724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0800000">
            <a:off x="475920" y="5673240"/>
            <a:ext cx="6119640" cy="64800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hit   hit   hit 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ต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9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628640" y="560520"/>
            <a:ext cx="4337280" cy="35337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1413000" y="6440400"/>
            <a:ext cx="383364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h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ซ่อ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0800000">
            <a:off x="404280" y="5156280"/>
            <a:ext cx="2808360" cy="21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0800000">
            <a:off x="333360" y="5673240"/>
            <a:ext cx="6120000" cy="64800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hide   hid   hidden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ซ่อน</a:t>
            </a: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10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125360" y="631800"/>
            <a:ext cx="4818240" cy="3460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341360" y="6465960"/>
            <a:ext cx="38102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41360" y="4089240"/>
            <a:ext cx="4319640" cy="649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h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</a:t>
            </a:r>
            <a:r>
              <a:rPr b="0" lang="th-TH" sz="30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ทำให้บาดเจ็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475920" y="5168880"/>
            <a:ext cx="2808360" cy="21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0800000">
            <a:off x="404640" y="5673240"/>
            <a:ext cx="6120000" cy="64800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hurt   hurt   hurt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ทำให้บาดเจ็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11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700280" y="200160"/>
            <a:ext cx="3816360" cy="3627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1773360" y="6599160"/>
            <a:ext cx="344016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41360" y="4089240"/>
            <a:ext cx="4319640" cy="649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k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คุกเข่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0800000">
            <a:off x="404280" y="5168880"/>
            <a:ext cx="2808360" cy="21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0800000">
            <a:off x="404640" y="5673240"/>
            <a:ext cx="6120000" cy="64800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kneel   knelt   knelt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คุกเข่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12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700280" y="0"/>
            <a:ext cx="3809880" cy="40165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1844640" y="6537240"/>
            <a:ext cx="3195720" cy="33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08:51:53Z</dcterms:created>
  <dc:creator>iLLuSioN</dc:creator>
  <dc:description/>
  <dc:language>en-US</dc:language>
  <cp:lastModifiedBy>Aj_Shannoy</cp:lastModifiedBy>
  <dcterms:modified xsi:type="dcterms:W3CDTF">2010-03-08T07:05:31Z</dcterms:modified>
  <cp:revision>55</cp:revision>
  <dc:subject/>
  <dc:title>ภาพนิ่ง 1</dc:title>
</cp:coreProperties>
</file>