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CDD-EA9A-45CC-AB03-4725C48A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713-194B-43C5-9737-36C56BDF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2AF-21A8-4BC0-AAD0-4130BE01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09B-0AAC-4257-8046-24A27D93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51C5-DA65-49EB-B2D2-A68F57CC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833-470F-4F9F-BD35-58FCD588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F97-A98C-427A-934D-94077D32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82BC-86FB-4E8C-910D-CE04BB59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C3D-C8B0-4C14-A267-A00AE0DD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08D9-F517-47B9-A69F-3DEB8C92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797-FA34-495F-9789-46A39038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225-AC80-498D-99FD-B5477042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F9B3-4445-45CB-8776-1C906CBAA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6648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reeze   froze   frozen     </a:t>
            </a:r>
            <a:r>
              <a:rPr b="0" lang="th-TH" sz="29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นจนแข็ง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33680" y="522360"/>
            <a:ext cx="4005000" cy="3502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465960"/>
            <a:ext cx="340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7116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ive   gave   g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5113440" cy="343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981000" y="6545160"/>
            <a:ext cx="43117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………..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grow   grew   grown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ปลูกต้นไม้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2280" y="641520"/>
            <a:ext cx="5429160" cy="3314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052640" y="6465960"/>
            <a:ext cx="45655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ang   hung   h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ขว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87240" y="704880"/>
            <a:ext cx="5378760" cy="3363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341360" y="6676920"/>
            <a:ext cx="40816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ear   heard   hear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ได้ย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54200" y="471600"/>
            <a:ext cx="3913200" cy="347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00280" y="6719760"/>
            <a:ext cx="33368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75920" y="5673240"/>
            <a:ext cx="611964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t   hit   hi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4337280" cy="3533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13000" y="6440400"/>
            <a:ext cx="3833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562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ide   hid   hidd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ซ่อน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25360" y="631800"/>
            <a:ext cx="4818240" cy="346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341360" y="6465960"/>
            <a:ext cx="38102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7592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hurt   hurt   hur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ทำให้บาดเจ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700280" y="20016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599160"/>
            <a:ext cx="344016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kneel   knelt   kn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คุกเข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700280" y="0"/>
            <a:ext cx="3809880" cy="40165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957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5:31Z</dcterms:modified>
  <cp:revision>55</cp:revision>
  <dc:subject/>
  <dc:title>ภาพนิ่ง 1</dc:title>
</cp:coreProperties>
</file>