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8D2-B3F6-47B3-9982-6C55C923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86D-59B1-40F9-A52D-12F0D791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6D1-CC88-4BAE-ACBF-7490A33E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D3C-6D8A-4C69-8F57-8A6C698F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1F7-E168-4EBC-A6DA-E37D939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E9F-3C91-43CC-817C-12B0867B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392-289B-42D6-8312-6EBEA7A0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E71-C870-43C1-A496-302E9D8B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188-907B-47DC-8CB4-1364B720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3F3-99AF-4F3D-BAA4-DD3AFA01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4D5-38AE-4A99-9699-1C7D9E1C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F5B-0C9D-4219-9768-289A8EB1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8E37-7314-40BC-86EE-BC632962A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นจนแข็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6648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reeze   froze   frozen     </a:t>
            </a:r>
            <a:r>
              <a:rPr b="0" lang="th-TH" sz="29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นจนแข็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33680" y="522360"/>
            <a:ext cx="4005000" cy="3502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628640" y="6465960"/>
            <a:ext cx="34084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7116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ive   gave   giv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5113440" cy="343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981000" y="6545160"/>
            <a:ext cx="4311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………..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ปลูกต้นไม้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row   grew   grown    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ปลูกต้นไม้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92280" y="641520"/>
            <a:ext cx="5429160" cy="331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052640" y="6465960"/>
            <a:ext cx="45655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ขว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ang   hung   h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ขว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7240" y="704880"/>
            <a:ext cx="5378760" cy="3363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341360" y="6676920"/>
            <a:ext cx="4081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ได้ย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7592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ear   heard   hear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ได้ย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54200" y="471600"/>
            <a:ext cx="3913200" cy="347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00280" y="6719760"/>
            <a:ext cx="3336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7592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it   hit   hit 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28640" y="560520"/>
            <a:ext cx="4337280" cy="3533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13000" y="6440400"/>
            <a:ext cx="3833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ซ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1562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ide   hid   hidd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ซ่อน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25360" y="631800"/>
            <a:ext cx="4818240" cy="346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341360" y="6465960"/>
            <a:ext cx="3810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ทำให้บาดเจ็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7592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urt   hurt   hur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ทำให้บาดเจ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00280" y="20016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73360" y="6599160"/>
            <a:ext cx="34401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k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คุกเข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kneel   knelt   kne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คุกเข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00280" y="0"/>
            <a:ext cx="3809880" cy="4016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844640" y="6537240"/>
            <a:ext cx="31957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05:31Z</dcterms:modified>
  <cp:revision>55</cp:revision>
  <dc:subject/>
  <dc:title>ภาพนิ่ง 1</dc:title>
</cp:coreProperties>
</file>