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B6BD-3EC5-48AF-953B-13E10E45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CBD-86DC-44E8-BB5F-57B025D6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012-4311-4A6B-BC75-8F608D33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B69-E2C6-487F-8868-D9F0286A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3735-1D39-4955-8407-AA57C841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2313-8A98-4651-9881-FD421285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8E6-8122-46E9-89A8-29E81161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A07C-E772-4E82-B217-5BA66675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DCA-0C5C-4233-BEDE-ED4667C7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6A6-CF28-4312-95F2-E572A209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8EF-FDE0-445F-A358-89D4CE6F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1F7-BFAF-4C42-A079-5D065585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46E6-E308-4ADE-B21E-F9464D011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ัด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640" y="5097240"/>
            <a:ext cx="27561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84120" y="55666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ite   bit   bit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326200" y="941400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2560" y="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8488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272880"/>
            <a:ext cx="4030920" cy="3729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57360" y="6381720"/>
            <a:ext cx="3672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291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ร้า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4952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uild   built   bui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ร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25360" y="576360"/>
            <a:ext cx="4570560" cy="347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255680" y="6392880"/>
            <a:ext cx="4032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17600" y="411804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ผ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71160" y="5600160"/>
            <a:ext cx="611964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urn   burnt   burn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ผ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41360" y="631800"/>
            <a:ext cx="4319640" cy="334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243080" y="6392880"/>
            <a:ext cx="4032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28640" y="415800"/>
            <a:ext cx="4097520" cy="3667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ับ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404640" y="5600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atch   caught   caugh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ss_img" descr="Slideshow image"/>
          <p:cNvPicPr/>
          <p:nvPr/>
        </p:nvPicPr>
        <p:blipFill>
          <a:blip r:embed="rId3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557360" y="6473880"/>
            <a:ext cx="35989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6:26:47Z</dcterms:modified>
  <cp:revision>56</cp:revision>
  <dc:subject/>
  <dc:title>ภาพนิ่ง 1</dc:title>
</cp:coreProperties>
</file>