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4AF-666E-41D6-8A7F-ECA57987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1E0-C6D4-46B5-8C65-BCDCE29B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EEC-54C1-4E55-8311-3F2F9070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7BC-2647-4CFF-AB9A-068477BA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3CF-68ED-4F78-A0D2-2EDF25CC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07C-F525-42B6-9231-2A42BB51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846-E401-4B3B-8739-5BDC95AE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99A-4B8B-439D-A72F-22D73238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44A-A4EA-44F6-8A85-34AB47E2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835-DC5C-4AC2-B38F-BA5EE821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E1A-3B82-4AD6-A9ED-8E1023CF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97E-7867-4D2D-9BEA-8DEAFAF0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1E8B-7080-4602-9502-F42B57FE4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ัด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640" y="5097240"/>
            <a:ext cx="27561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84120" y="55666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ite   bit   bit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326200" y="941400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2560" y="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8488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272880"/>
            <a:ext cx="4030920" cy="3729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57360" y="6381720"/>
            <a:ext cx="3672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291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ร้า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4952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uild   built   bui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ร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25360" y="576360"/>
            <a:ext cx="4570560" cy="347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255680" y="6392880"/>
            <a:ext cx="4032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17600" y="411804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ผ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71160" y="5600160"/>
            <a:ext cx="611964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urn   burnt   burn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ผ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41360" y="631800"/>
            <a:ext cx="4319640" cy="334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243080" y="6392880"/>
            <a:ext cx="4032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28640" y="415800"/>
            <a:ext cx="4097520" cy="3667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ับ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404640" y="5600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atch   caught   caugh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ss_img" descr="Slideshow image"/>
          <p:cNvPicPr/>
          <p:nvPr/>
        </p:nvPicPr>
        <p:blipFill>
          <a:blip r:embed="rId3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557360" y="6473880"/>
            <a:ext cx="35989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6:26:47Z</dcterms:modified>
  <cp:revision>56</cp:revision>
  <dc:subject/>
  <dc:title>ภาพนิ่ง 1</dc:title>
</cp:coreProperties>
</file>